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219.xml.rels" ContentType="application/vnd.openxmlformats-package.relationships+xml"/>
  <Override PartName="/ppt/slides/_rels/slide32.xml.rels" ContentType="application/vnd.openxmlformats-package.relationships+xml"/>
  <Override PartName="/ppt/slides/_rels/slide53.xml.rels" ContentType="application/vnd.openxmlformats-package.relationships+xml"/>
  <Override PartName="/ppt/slides/_rels/slide48.xml.rels" ContentType="application/vnd.openxmlformats-package.relationships+xml"/>
  <Override PartName="/ppt/slides/_rels/slide218.xml.rels" ContentType="application/vnd.openxmlformats-package.relationships+xml"/>
  <Override PartName="/ppt/slides/_rels/slide31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47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243.xml.rels" ContentType="application/vnd.openxmlformats-package.relationships+xml"/>
  <Override PartName="/ppt/slides/_rels/slide238.xml.rels" ContentType="application/vnd.openxmlformats-package.relationships+xml"/>
  <Override PartName="/ppt/slides/_rels/slide178.xml.rels" ContentType="application/vnd.openxmlformats-package.relationships+xml"/>
  <Override PartName="/ppt/slides/_rels/slide50.xml.rels" ContentType="application/vnd.openxmlformats-package.relationships+xml"/>
  <Override PartName="/ppt/slides/_rels/slide237.xml.rels" ContentType="application/vnd.openxmlformats-package.relationships+xml"/>
  <Override PartName="/ppt/slides/_rels/slide177.xml.rels" ContentType="application/vnd.openxmlformats-package.relationships+xml"/>
  <Override PartName="/ppt/slides/_rels/slide172.xml.rels" ContentType="application/vnd.openxmlformats-package.relationships+xml"/>
  <Override PartName="/ppt/slides/_rels/slide223.xml.rels" ContentType="application/vnd.openxmlformats-package.relationships+xml"/>
  <Override PartName="/ppt/slides/_rels/slide197.xml.rels" ContentType="application/vnd.openxmlformats-package.relationships+xml"/>
  <Override PartName="/ppt/slides/_rels/slide43.xml.rels" ContentType="application/vnd.openxmlformats-package.relationships+xml"/>
  <Override PartName="/ppt/slides/_rels/slide38.xml.rels" ContentType="application/vnd.openxmlformats-package.relationships+xml"/>
  <Override PartName="/ppt/slides/_rels/slide222.xml.rels" ContentType="application/vnd.openxmlformats-package.relationships+xml"/>
  <Override PartName="/ppt/slides/_rels/slide217.xml.rels" ContentType="application/vnd.openxmlformats-package.relationships+xml"/>
  <Override PartName="/ppt/slides/_rels/slide196.xml.rels" ContentType="application/vnd.openxmlformats-package.relationships+xml"/>
  <Override PartName="/ppt/slides/_rels/slide42.xml.rels" ContentType="application/vnd.openxmlformats-package.relationships+xml"/>
  <Override PartName="/ppt/slides/_rels/slide37.xml.rels" ContentType="application/vnd.openxmlformats-package.relationships+xml"/>
  <Override PartName="/ppt/slides/_rels/slide221.xml.rels" ContentType="application/vnd.openxmlformats-package.relationships+xml"/>
  <Override PartName="/ppt/slides/_rels/slide216.xml.rels" ContentType="application/vnd.openxmlformats-package.relationships+xml"/>
  <Override PartName="/ppt/slides/_rels/slide195.xml.rels" ContentType="application/vnd.openxmlformats-package.relationships+xml"/>
  <Override PartName="/ppt/slides/_rels/slide169.xml.rels" ContentType="application/vnd.openxmlformats-package.relationships+xml"/>
  <Override PartName="/ppt/slides/_rels/slide174.xml.rels" ContentType="application/vnd.openxmlformats-package.relationships+xml"/>
  <Override PartName="/ppt/slides/_rels/slide41.xml.rels" ContentType="application/vnd.openxmlformats-package.relationships+xml"/>
  <Override PartName="/ppt/slides/_rels/slide36.xml.rels" ContentType="application/vnd.openxmlformats-package.relationships+xml"/>
  <Override PartName="/ppt/slides/_rels/slide206.xml.rels" ContentType="application/vnd.openxmlformats-package.relationships+xml"/>
  <Override PartName="/ppt/slides/_rels/slide220.xml.rels" ContentType="application/vnd.openxmlformats-package.relationships+xml"/>
  <Override PartName="/ppt/slides/_rels/slide215.xml.rels" ContentType="application/vnd.openxmlformats-package.relationships+xml"/>
  <Override PartName="/ppt/slides/_rels/slide194.xml.rels" ContentType="application/vnd.openxmlformats-package.relationships+xml"/>
  <Override PartName="/ppt/slides/_rels/slide40.xml.rels" ContentType="application/vnd.openxmlformats-package.relationships+xml"/>
  <Override PartName="/ppt/slides/_rels/slide35.xml.rels" ContentType="application/vnd.openxmlformats-package.relationships+xml"/>
  <Override PartName="/ppt/slides/_rels/slide168.xml.rels" ContentType="application/vnd.openxmlformats-package.relationships+xml"/>
  <Override PartName="/ppt/slides/_rels/slide173.xml.rels" ContentType="application/vnd.openxmlformats-package.relationships+xml"/>
  <Override PartName="/ppt/slides/_rels/slide167.xml.rels" ContentType="application/vnd.openxmlformats-package.relationships+xml"/>
  <Override PartName="/ppt/slides/_rels/slide211.xml.rels" ContentType="application/vnd.openxmlformats-package.relationships+xml"/>
  <Override PartName="/ppt/slides/_rels/slide185.xml.rels" ContentType="application/vnd.openxmlformats-package.relationships+xml"/>
  <Override PartName="/ppt/slides/_rels/slide190.xml.rels" ContentType="application/vnd.openxmlformats-package.relationships+xml"/>
  <Override PartName="/ppt/slides/_rels/slide254.xml.rels" ContentType="application/vnd.openxmlformats-package.relationships+xml"/>
  <Override PartName="/ppt/slides/_rels/slide74.xml.rels" ContentType="application/vnd.openxmlformats-package.relationships+xml"/>
  <Override PartName="/ppt/slides/_rels/slide299.xml.rels" ContentType="application/vnd.openxmlformats-package.relationships+xml"/>
  <Override PartName="/ppt/slides/_rels/slide103.xml.rels" ContentType="application/vnd.openxmlformats-package.relationships+xml"/>
  <Override PartName="/ppt/slides/_rels/slide198.xml.rels" ContentType="application/vnd.openxmlformats-package.relationships+xml"/>
  <Override PartName="/ppt/slides/_rels/slide250.xml.rels" ContentType="application/vnd.openxmlformats-package.relationships+xml"/>
  <Override PartName="/ppt/slides/_rels/slide296.xml.rels" ContentType="application/vnd.openxmlformats-package.relationships+xml"/>
  <Override PartName="/ppt/slides/_rels/slide286.xml.rels" ContentType="application/vnd.openxmlformats-package.relationships+xml"/>
  <Override PartName="/ppt/slides/_rels/slide13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95.xml.rels" ContentType="application/vnd.openxmlformats-package.relationships+xml"/>
  <Override PartName="/ppt/slides/_rels/slide271.xml.rels" ContentType="application/vnd.openxmlformats-package.relationships+xml"/>
  <Override PartName="/ppt/slides/_rels/slide266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133.xml.rels" ContentType="application/vnd.openxmlformats-package.relationships+xml"/>
  <Override PartName="/ppt/slides/_rels/slide280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284.xml.rels" ContentType="application/vnd.openxmlformats-package.relationships+xml"/>
  <Override PartName="/ppt/slides/_rels/slide279.xml.rels" ContentType="application/vnd.openxmlformats-package.relationships+xml"/>
  <Override PartName="/ppt/slides/_rels/slide261.xml.rels" ContentType="application/vnd.openxmlformats-package.relationships+xml"/>
  <Override PartName="/ppt/slides/_rels/slide114.xml.rels" ContentType="application/vnd.openxmlformats-package.relationships+xml"/>
  <Override PartName="/ppt/slides/_rels/slide109.xml.rels" ContentType="application/vnd.openxmlformats-package.relationships+xml"/>
  <Override PartName="/ppt/slides/_rels/slide81.xml.rels" ContentType="application/vnd.openxmlformats-package.relationships+xml"/>
  <Override PartName="/ppt/slides/_rels/slide76.xml.rels" ContentType="application/vnd.openxmlformats-package.relationships+xml"/>
  <Override PartName="/ppt/slides/_rels/slide269.xml.rels" ContentType="application/vnd.openxmlformats-package.relationships+xml"/>
  <Override PartName="/ppt/slides/_rels/slide82.xml.rels" ContentType="application/vnd.openxmlformats-package.relationships+xml"/>
  <Override PartName="/ppt/slides/_rels/slide115.xml.rels" ContentType="application/vnd.openxmlformats-package.relationships+xml"/>
  <Override PartName="/ppt/slides/_rels/slide262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285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278.xml.rels" ContentType="application/vnd.openxmlformats-package.relationships+xml"/>
  <Override PartName="/ppt/slides/_rels/slide283.xml.rels" ContentType="application/vnd.openxmlformats-package.relationships+xml"/>
  <Override PartName="/ppt/slides/_rels/slide59.xml.rels" ContentType="application/vnd.openxmlformats-package.relationships+xml"/>
  <Override PartName="/ppt/slides/_rels/slide143.xml.rels" ContentType="application/vnd.openxmlformats-package.relationships+xml"/>
  <Override PartName="/ppt/slides/_rels/slide260.xml.rels" ContentType="application/vnd.openxmlformats-package.relationships+xml"/>
  <Override PartName="/ppt/slides/_rels/slide255.xml.rels" ContentType="application/vnd.openxmlformats-package.relationships+xml"/>
  <Override PartName="/ppt/slides/_rels/slide113.xml.rels" ContentType="application/vnd.openxmlformats-package.relationships+xml"/>
  <Override PartName="/ppt/slides/_rels/slide108.xml.rels" ContentType="application/vnd.openxmlformats-package.relationships+xml"/>
  <Override PartName="/ppt/slides/_rels/slide80.xml.rels" ContentType="application/vnd.openxmlformats-package.relationships+xml"/>
  <Override PartName="/ppt/slides/_rels/slide75.xml.rels" ContentType="application/vnd.openxmlformats-package.relationships+xml"/>
  <Override PartName="/ppt/slides/_rels/slide267.xml.rels" ContentType="application/vnd.openxmlformats-package.relationships+xml"/>
  <Override PartName="/ppt/slides/_rels/slide272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14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263.xml.rels" ContentType="application/vnd.openxmlformats-package.relationships+xml"/>
  <Override PartName="/ppt/slides/_rels/slide120.xml.rels" ContentType="application/vnd.openxmlformats-package.relationships+xml"/>
  <Override PartName="/ppt/slides/_rels/slide151.xml.rels" ContentType="application/vnd.openxmlformats-package.relationships+xml"/>
  <Override PartName="/ppt/slides/_rels/slide146.xml.rels" ContentType="application/vnd.openxmlformats-package.relationships+xml"/>
  <Override PartName="/ppt/slides/_rels/slide293.xml.rels" ContentType="application/vnd.openxmlformats-package.relationships+xml"/>
  <Override PartName="/ppt/slides/_rels/slide189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258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149.xml.rels" ContentType="application/vnd.openxmlformats-package.relationships+xml"/>
  <Override PartName="/ppt/slides/_rels/slide253.xml.rels" ContentType="application/vnd.openxmlformats-package.relationships+xml"/>
  <Override PartName="/ppt/slides/_rels/slide73.xml.rels" ContentType="application/vnd.openxmlformats-package.relationships+xml"/>
  <Override PartName="/ppt/slides/_rels/slide249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236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245.xml.rels" ContentType="application/vnd.openxmlformats-package.relationships+xml"/>
  <Override PartName="/ppt/slides/_rels/slide65.xml.rels" ContentType="application/vnd.openxmlformats-package.relationships+xml"/>
  <Override PartName="/ppt/slides/_rels/slide235.xml.rels" ContentType="application/vnd.openxmlformats-package.relationships+xml"/>
  <Override PartName="/ppt/slides/_rels/slide55.xml.rels" ContentType="application/vnd.openxmlformats-package.relationships+xml"/>
  <Override PartName="/ppt/slides/_rels/slide121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25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47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70.xml.rels" ContentType="application/vnd.openxmlformats-package.relationships+xml"/>
  <Override PartName="/ppt/slides/_rels/slide257.xml.rels" ContentType="application/vnd.openxmlformats-package.relationships+xml"/>
  <Override PartName="/ppt/slides/_rels/slide79.xml.rels" ContentType="application/vnd.openxmlformats-package.relationships+xml"/>
  <Override PartName="/ppt/slides/_rels/slide259.xml.rels" ContentType="application/vnd.openxmlformats-package.relationships+xml"/>
  <Override PartName="/ppt/slides/_rels/slide228.xml.rels" ContentType="application/vnd.openxmlformats-package.relationships+xml"/>
  <Override PartName="/ppt/slides/_rels/slide233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248.xml.rels" ContentType="application/vnd.openxmlformats-package.relationships+xml"/>
  <Override PartName="/ppt/slides/_rels/slide68.xml.rels" ContentType="application/vnd.openxmlformats-package.relationships+xml"/>
  <Override PartName="/ppt/slides/_rels/slide300.xml.rels" ContentType="application/vnd.openxmlformats-package.relationships+xml"/>
  <Override PartName="/ppt/slides/_rels/slide62.xml.rels" ContentType="application/vnd.openxmlformats-package.relationships+xml"/>
  <Override PartName="/ppt/slides/_rels/slide138.xml.rels" ContentType="application/vnd.openxmlformats-package.relationships+xml"/>
  <Override PartName="/ppt/slides/_rels/slide242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290.xml.rels" ContentType="application/vnd.openxmlformats-package.relationships+xml"/>
  <Override PartName="/ppt/slides/_rels/slide186.xml.rels" ContentType="application/vnd.openxmlformats-package.relationships+xml"/>
  <Override PartName="/ppt/slides/_rels/slide207.xml.rels" ContentType="application/vnd.openxmlformats-package.relationships+xml"/>
  <Override PartName="/ppt/slides/_rels/slide15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264.xml.rels" ContentType="application/vnd.openxmlformats-package.relationships+xml"/>
  <Override PartName="/ppt/slides/_rels/slide66.xml.rels" ContentType="application/vnd.openxmlformats-package.relationships+xml"/>
  <Override PartName="/ppt/slides/_rels/slide246.xml.rels" ContentType="application/vnd.openxmlformats-package.relationships+xml"/>
  <Override PartName="/ppt/slides/_rels/slide122.xml.rels" ContentType="application/vnd.openxmlformats-package.relationships+xml"/>
  <Override PartName="/ppt/slides/_rels/slide234.xml.rels" ContentType="application/vnd.openxmlformats-package.relationships+xml"/>
  <Override PartName="/ppt/slides/_rels/slide229.xml.rels" ContentType="application/vnd.openxmlformats-package.relationships+xml"/>
  <Override PartName="/ppt/slides/_rels/slide54.xml.rels" ContentType="application/vnd.openxmlformats-package.relationships+xml"/>
  <Override PartName="/ppt/slides/_rels/slide49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166.xml.rels" ContentType="application/vnd.openxmlformats-package.relationships+xml"/>
  <Override PartName="/ppt/slides/_rels/slide64.xml.rels" ContentType="application/vnd.openxmlformats-package.relationships+xml"/>
  <Override PartName="/ppt/slides/_rels/slide256.xml.rels" ContentType="application/vnd.openxmlformats-package.relationships+xml"/>
  <Override PartName="/ppt/slides/_rels/slide170.xml.rels" ContentType="application/vnd.openxmlformats-package.relationships+xml"/>
  <Override PartName="/ppt/slides/_rels/slide171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303.xml.rels" ContentType="application/vnd.openxmlformats-package.relationships+xml"/>
  <Override PartName="/ppt/slides/_rels/slide282.xml.rels" ContentType="application/vnd.openxmlformats-package.relationships+xml"/>
  <Override PartName="/ppt/slides/_rels/slide277.xml.rels" ContentType="application/vnd.openxmlformats-package.relationships+xml"/>
  <Override PartName="/ppt/slides/_rels/slide97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_rels/slide102.xml.rels" ContentType="application/vnd.openxmlformats-package.relationships+xml"/>
  <Override PartName="/ppt/slides/_rels/slide298.xml.rels" ContentType="application/vnd.openxmlformats-package.relationships+xml"/>
  <Override PartName="/ppt/slides/_rels/slide106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21.xml.rels" ContentType="application/vnd.openxmlformats-package.relationships+xml"/>
  <Override PartName="/ppt/slides/_rels/slide281.xml.rels" ContentType="application/vnd.openxmlformats-package.relationships+xml"/>
  <Override PartName="/ppt/slides/_rels/slide302.xml.rels" ContentType="application/vnd.openxmlformats-package.relationships+xml"/>
  <Override PartName="/ppt/slides/_rels/slide276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97.xml.rels" ContentType="application/vnd.openxmlformats-package.relationships+xml"/>
  <Override PartName="/ppt/slides/_rels/slide105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13.xml.rels" ContentType="application/vnd.openxmlformats-package.relationships+xml"/>
  <Override PartName="/ppt/slides/_rels/slide192.xml.rels" ContentType="application/vnd.openxmlformats-package.relationships+xml"/>
  <Override PartName="/ppt/slides/_rels/slide20.xml.rels" ContentType="application/vnd.openxmlformats-package.relationships+xml"/>
  <Override PartName="/ppt/slides/_rels/slide153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301.xml.rels" ContentType="application/vnd.openxmlformats-package.relationships+xml"/>
  <Override PartName="/ppt/slides/_rels/slide275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87.xml.rels" ContentType="application/vnd.openxmlformats-package.relationships+xml"/>
  <Override PartName="/ppt/slides/_rels/slide144.xml.rels" ContentType="application/vnd.openxmlformats-package.relationships+xml"/>
  <Override PartName="/ppt/slides/_rels/slide274.xml.rels" ContentType="application/vnd.openxmlformats-package.relationships+xml"/>
  <Override PartName="/ppt/slides/_rels/slide127.xml.rels" ContentType="application/vnd.openxmlformats-package.relationships+xml"/>
  <Override PartName="/ppt/slides/_rels/slide89.xml.rels" ContentType="application/vnd.openxmlformats-package.relationships+xml"/>
  <Override PartName="/ppt/slides/_rels/slide94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93.xml.rels" ContentType="application/vnd.openxmlformats-package.relationships+xml"/>
  <Override PartName="/ppt/slides/_rels/slide88.xml.rels" ContentType="application/vnd.openxmlformats-package.relationships+xml"/>
  <Override PartName="/ppt/slides/_rels/slide29.xml.rels" ContentType="application/vnd.openxmlformats-package.relationships+xml"/>
  <Override PartName="/ppt/slides/_rels/slide188.xml.rels" ContentType="application/vnd.openxmlformats-package.relationships+xml"/>
  <Override PartName="/ppt/slides/_rels/slide292.xml.rels" ContentType="application/vnd.openxmlformats-package.relationships+xml"/>
  <Override PartName="/ppt/slides/_rels/slide209.xml.rels" ContentType="application/vnd.openxmlformats-package.relationships+xml"/>
  <Override PartName="/ppt/slides/_rels/slide28.xml.rels" ContentType="application/vnd.openxmlformats-package.relationships+xml"/>
  <Override PartName="/ppt/slides/_rels/slide187.xml.rels" ContentType="application/vnd.openxmlformats-package.relationships+xml"/>
  <Override PartName="/ppt/slides/_rels/slide291.xml.rels" ContentType="application/vnd.openxmlformats-package.relationships+xml"/>
  <Override PartName="/ppt/slides/_rels/slide208.xml.rels" ContentType="application/vnd.openxmlformats-package.relationships+xml"/>
  <Override PartName="/ppt/slides/_rels/slide18.xml.rels" ContentType="application/vnd.openxmlformats-package.relationships+xml"/>
  <Override PartName="/ppt/slides/_rels/slide288.xml.rels" ContentType="application/vnd.openxmlformats-package.relationships+xml"/>
  <Override PartName="/ppt/slides/_rels/slide289.xml.rels" ContentType="application/vnd.openxmlformats-package.relationships+xml"/>
  <Override PartName="/ppt/slides/_rels/slide294.xml.rels" ContentType="application/vnd.openxmlformats-package.relationships+xml"/>
  <Override PartName="/ppt/slides/_rels/slide19.xml.rels" ContentType="application/vnd.openxmlformats-package.relationships+xml"/>
  <Override PartName="/ppt/slides/_rels/slide191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2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0.xml.rels" ContentType="application/vnd.openxmlformats-package.relationships+xml"/>
  <Override PartName="/ppt/slides/_rels/slide203.xml.rels" ContentType="application/vnd.openxmlformats-package.relationships+xml"/>
  <Override PartName="/ppt/slides/_rels/slide182.xml.rels" ContentType="application/vnd.openxmlformats-package.relationships+xml"/>
  <Override PartName="/ppt/slides/_rels/slide239.xml.rels" ContentType="application/vnd.openxmlformats-package.relationships+xml"/>
  <Override PartName="/ppt/slides/_rels/slide244.xml.rels" ContentType="application/vnd.openxmlformats-package.relationships+xml"/>
  <Override PartName="/ppt/slides/_rels/slide15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36.xml.rels" ContentType="application/vnd.openxmlformats-package.relationships+xml"/>
  <Override PartName="/ppt/slides/_rels/slide240.xml.rels" ContentType="application/vnd.openxmlformats-package.relationships+xml"/>
  <Override PartName="/ppt/slides/_rels/slide60.xml.rels" ContentType="application/vnd.openxmlformats-package.relationships+xml"/>
  <Override PartName="/ppt/slides/_rels/slide13.xml.rels" ContentType="application/vnd.openxmlformats-package.relationships+xml"/>
  <Override PartName="/ppt/slides/_rels/slide16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04.xml.rels" ContentType="application/vnd.openxmlformats-package.relationships+xml"/>
  <Override PartName="/ppt/slides/_rels/slide183.xml.rels" ContentType="application/vnd.openxmlformats-package.relationships+xml"/>
  <Override PartName="/ppt/slides/_rels/slide39.xml.rels" ContentType="application/vnd.openxmlformats-package.relationships+xml"/>
  <Override PartName="/ppt/slides/_rels/slide44.xml.rels" ContentType="application/vnd.openxmlformats-package.relationships+xml"/>
  <Override PartName="/ppt/slides/_rels/slide224.xml.rels" ContentType="application/vnd.openxmlformats-package.relationships+xml"/>
  <Override PartName="/ppt/slides/_rels/slide140.xml.rels" ContentType="application/vnd.openxmlformats-package.relationships+xml"/>
  <Override PartName="/ppt/slides/_rels/slide135.xml.rels" ContentType="application/vnd.openxmlformats-package.relationships+xml"/>
  <Override PartName="/ppt/slides/_rels/slide137.xml.rels" ContentType="application/vnd.openxmlformats-package.relationships+xml"/>
  <Override PartName="/ppt/slides/_rels/slide241.xml.rels" ContentType="application/vnd.openxmlformats-package.relationships+xml"/>
  <Override PartName="/ppt/slides/_rels/slide61.xml.rels" ContentType="application/vnd.openxmlformats-package.relationships+xml"/>
  <Override PartName="/ppt/slides/_rels/slide212.xml.rels" ContentType="application/vnd.openxmlformats-package.relationships+xml"/>
  <Override PartName="/ppt/slides/_rels/slide130.xml.rels" ContentType="application/vnd.openxmlformats-package.relationships+xml"/>
  <Override PartName="/ppt/slides/_rels/slide131.xml.rels" ContentType="application/vnd.openxmlformats-package.relationships+xml"/>
  <Override PartName="/ppt/slides/_rels/slide132.xml.rels" ContentType="application/vnd.openxmlformats-package.relationships+xml"/>
  <Override PartName="/ppt/slides/_rels/slide45.xml.rels" ContentType="application/vnd.openxmlformats-package.relationships+xml"/>
  <Override PartName="/ppt/slides/_rels/slide225.xml.rels" ContentType="application/vnd.openxmlformats-package.relationships+xml"/>
  <Override PartName="/ppt/slides/_rels/slide142.xml.rels" ContentType="application/vnd.openxmlformats-package.relationships+xml"/>
  <Override PartName="/ppt/slides/_rels/slide201.xml.rels" ContentType="application/vnd.openxmlformats-package.relationships+xml"/>
  <Override PartName="/ppt/slides/_rels/slide180.xml.rels" ContentType="application/vnd.openxmlformats-package.relationships+xml"/>
  <Override PartName="/ppt/slides/_rels/slide161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2.xml.rels" ContentType="application/vnd.openxmlformats-package.relationships+xml"/>
  <Override PartName="/ppt/slides/_rels/slide6.xml.rels" ContentType="application/vnd.openxmlformats-package.relationships+xml"/>
  <Override PartName="/ppt/slides/_rels/slide157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163.xml.rels" ContentType="application/vnd.openxmlformats-package.relationships+xml"/>
  <Override PartName="/ppt/slides/_rels/slide7.xml.rels" ContentType="application/vnd.openxmlformats-package.relationships+xml"/>
  <Override PartName="/ppt/slides/_rels/slide158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210.xml.rels" ContentType="application/vnd.openxmlformats-package.relationships+xml"/>
  <Override PartName="/ppt/slides/_rels/slide164.xml.rels" ContentType="application/vnd.openxmlformats-package.relationships+xml"/>
  <Override PartName="/ppt/slides/_rels/slide8.xml.rels" ContentType="application/vnd.openxmlformats-package.relationships+xml"/>
  <Override PartName="/ppt/slides/_rels/slide159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250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6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233.xml" ContentType="application/vnd.openxmlformats-officedocument.presentationml.slide+xml"/>
  <Override PartName="/ppt/slides/slide195.xml" ContentType="application/vnd.openxmlformats-officedocument.presentationml.slide+xml"/>
  <Override PartName="/ppt/slides/slide232.xml" ContentType="application/vnd.openxmlformats-officedocument.presentationml.slide+xml"/>
  <Override PartName="/ppt/slides/slide194.xml" ContentType="application/vnd.openxmlformats-officedocument.presentationml.slide+xml"/>
  <Override PartName="/ppt/slides/slide231.xml" ContentType="application/vnd.openxmlformats-officedocument.presentationml.slide+xml"/>
  <Override PartName="/ppt/slides/slide193.xml" ContentType="application/vnd.openxmlformats-officedocument.presentationml.slide+xml"/>
  <Override PartName="/ppt/slides/slide230.xml" ContentType="application/vnd.openxmlformats-officedocument.presentationml.slide+xml"/>
  <Override PartName="/ppt/slides/slide192.xml" ContentType="application/vnd.openxmlformats-officedocument.presentationml.slide+xml"/>
  <Override PartName="/ppt/slides/slide229.xml" ContentType="application/vnd.openxmlformats-officedocument.presentationml.slide+xml"/>
  <Override PartName="/ppt/slides/slide63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303.xml" ContentType="application/vnd.openxmlformats-officedocument.presentationml.slide+xml"/>
  <Override PartName="/ppt/slides/slide14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258.xml" ContentType="application/vnd.openxmlformats-officedocument.presentationml.slide+xml"/>
  <Override PartName="/ppt/slides/slide92.xml" ContentType="application/vnd.openxmlformats-officedocument.presentationml.slide+xml"/>
  <Override PartName="/ppt/slides/slide66.xml" ContentType="application/vnd.openxmlformats-officedocument.presentationml.slide+xml"/>
  <Override PartName="/ppt/slides/slide68.xml" ContentType="application/vnd.openxmlformats-officedocument.presentationml.slide+xml"/>
  <Override PartName="/ppt/slides/slide121.xml" ContentType="application/vnd.openxmlformats-officedocument.presentationml.slide+xml"/>
  <Override PartName="/ppt/slides/slide25.xml" ContentType="application/vnd.openxmlformats-officedocument.presentationml.slide+xml"/>
  <Override PartName="/ppt/slides/slide259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122.xml" ContentType="application/vnd.openxmlformats-officedocument.presentationml.slide+xml"/>
  <Override PartName="/ppt/slides/slide26.xml" ContentType="application/vnd.openxmlformats-officedocument.presentationml.slide+xml"/>
  <Override PartName="/ppt/slides/slide94.xml" ContentType="application/vnd.openxmlformats-officedocument.presentationml.slide+xml"/>
  <Override PartName="/ppt/slides/slide190.xml" ContentType="application/vnd.openxmlformats-officedocument.presentationml.slide+xml"/>
  <Override PartName="/ppt/slides/slide100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170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1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13.xml" ContentType="application/vnd.openxmlformats-officedocument.presentationml.slide+xml"/>
  <Override PartName="/ppt/slides/slide181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4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19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275.xml" ContentType="application/vnd.openxmlformats-officedocument.presentationml.slide+xml"/>
  <Override PartName="/ppt/slides/slide276.xml" ContentType="application/vnd.openxmlformats-officedocument.presentationml.slide+xml"/>
  <Override PartName="/ppt/slides/slide277.xml" ContentType="application/vnd.openxmlformats-officedocument.presentationml.slide+xml"/>
  <Override PartName="/ppt/slides/slide278.xml" ContentType="application/vnd.openxmlformats-officedocument.presentationml.slide+xml"/>
  <Override PartName="/ppt/slides/slide22.xml" ContentType="application/vnd.openxmlformats-officedocument.presentationml.slide+xml"/>
  <Override PartName="/ppt/slides/slide280.xml" ContentType="application/vnd.openxmlformats-officedocument.presentationml.slide+xml"/>
  <Override PartName="/ppt/slides/slide174.xml" ContentType="application/vnd.openxmlformats-officedocument.presentationml.slide+xml"/>
  <Override PartName="/ppt/slides/slide212.xml" ContentType="application/vnd.openxmlformats-officedocument.presentationml.slide+xml"/>
  <Override PartName="/ppt/slides/slide279.xml" ContentType="application/vnd.openxmlformats-officedocument.presentationml.slide+xml"/>
  <Override PartName="/ppt/slides/slide23.xml" ContentType="application/vnd.openxmlformats-officedocument.presentationml.slide+xml"/>
  <Override PartName="/ppt/slides/slide281.xml" ContentType="application/vnd.openxmlformats-officedocument.presentationml.slide+xml"/>
  <Override PartName="/ppt/slides/slide175.xml" ContentType="application/vnd.openxmlformats-officedocument.presentationml.slide+xml"/>
  <Override PartName="/ppt/slides/slide213.xml" ContentType="application/vnd.openxmlformats-officedocument.presentationml.slide+xml"/>
  <Override PartName="/ppt/slides/slide282.xml" ContentType="application/vnd.openxmlformats-officedocument.presentationml.slide+xml"/>
  <Override PartName="/ppt/slides/slide118.xml" ContentType="application/vnd.openxmlformats-officedocument.presentationml.slide+xml"/>
  <Override PartName="/ppt/slides/slide283.xml" ContentType="application/vnd.openxmlformats-officedocument.presentationml.slide+xml"/>
  <Override PartName="/ppt/slides/slide284.xml" ContentType="application/vnd.openxmlformats-officedocument.presentationml.slide+xml"/>
  <Override PartName="/ppt/slides/slide101.xml" ContentType="application/vnd.openxmlformats-officedocument.presentationml.slide+xml"/>
  <Override PartName="/ppt/slides/slide300.xml" ContentType="application/vnd.openxmlformats-officedocument.presentationml.slide+xml"/>
  <Override PartName="/ppt/slides/slide301.xml" ContentType="application/vnd.openxmlformats-officedocument.presentationml.slide+xml"/>
  <Override PartName="/ppt/slides/slide12.xml" ContentType="application/vnd.openxmlformats-officedocument.presentationml.slide+xml"/>
  <Override PartName="/ppt/slides/slide302.xml" ContentType="application/vnd.openxmlformats-officedocument.presentationml.slide+xml"/>
  <Override PartName="/ppt/slides/slide13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8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290.xml" ContentType="application/vnd.openxmlformats-officedocument.presentationml.slide+xml"/>
  <Override PartName="/ppt/slides/slide184.xml" ContentType="application/vnd.openxmlformats-officedocument.presentationml.slide+xml"/>
  <Override PartName="/ppt/slides/slide222.xml" ContentType="application/vnd.openxmlformats-officedocument.presentationml.slide+xml"/>
  <Override PartName="/ppt/slides/slide299.xml" ContentType="application/vnd.openxmlformats-officedocument.presentationml.slide+xml"/>
  <Override PartName="/ppt/slides/slide262.xml" ContentType="application/vnd.openxmlformats-officedocument.presentationml.slide+xml"/>
  <Override PartName="/ppt/slides/slide298.xml" ContentType="application/vnd.openxmlformats-officedocument.presentationml.slide+xml"/>
  <Override PartName="/ppt/slides/slide261.xml" ContentType="application/vnd.openxmlformats-officedocument.presentationml.slide+xml"/>
  <Override PartName="/ppt/slides/slide297.xml" ContentType="application/vnd.openxmlformats-officedocument.presentationml.slide+xml"/>
  <Override PartName="/ppt/slides/slide260.xml" ContentType="application/vnd.openxmlformats-officedocument.presentationml.slide+xml"/>
  <Override PartName="/ppt/slides/slide296.xml" ContentType="application/vnd.openxmlformats-officedocument.presentationml.slide+xml"/>
  <Override PartName="/ppt/slides/slide295.xml" ContentType="application/vnd.openxmlformats-officedocument.presentationml.slide+xml"/>
  <Override PartName="/ppt/slides/slide294.xml" ContentType="application/vnd.openxmlformats-officedocument.presentationml.slide+xml"/>
  <Override PartName="/ppt/slides/slide293.xml" ContentType="application/vnd.openxmlformats-officedocument.presentationml.slide+xml"/>
  <Override PartName="/ppt/slides/slide187.xml" ContentType="application/vnd.openxmlformats-officedocument.presentationml.slide+xml"/>
  <Override PartName="/ppt/slides/slide225.xml" ContentType="application/vnd.openxmlformats-officedocument.presentationml.slide+xml"/>
  <Override PartName="/ppt/slides/slide292.xml" ContentType="application/vnd.openxmlformats-officedocument.presentationml.slide+xml"/>
  <Override PartName="/ppt/slides/slide186.xml" ContentType="application/vnd.openxmlformats-officedocument.presentationml.slide+xml"/>
  <Override PartName="/ppt/slides/slide224.xml" ContentType="application/vnd.openxmlformats-officedocument.presentationml.slide+xml"/>
  <Override PartName="/ppt/slides/slide291.xml" ContentType="application/vnd.openxmlformats-officedocument.presentationml.slide+xml"/>
  <Override PartName="/ppt/slides/slide185.xml" ContentType="application/vnd.openxmlformats-officedocument.presentationml.slide+xml"/>
  <Override PartName="/ppt/slides/slide223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274.xml" ContentType="application/vnd.openxmlformats-officedocument.presentationml.slide+xml"/>
  <Override PartName="/ppt/slides/slide273.xml" ContentType="application/vnd.openxmlformats-officedocument.presentationml.slide+xml"/>
  <Override PartName="/ppt/slides/slide167.xml" ContentType="application/vnd.openxmlformats-officedocument.presentationml.slide+xml"/>
  <Override PartName="/ppt/slides/slide205.xml" ContentType="application/vnd.openxmlformats-officedocument.presentationml.slide+xml"/>
  <Override PartName="/ppt/slides/slide272.xml" ContentType="application/vnd.openxmlformats-officedocument.presentationml.slide+xml"/>
  <Override PartName="/ppt/slides/slide271.xml" ContentType="application/vnd.openxmlformats-officedocument.presentationml.slide+xml"/>
  <Override PartName="/ppt/slides/slide165.xml" ContentType="application/vnd.openxmlformats-officedocument.presentationml.slide+xml"/>
  <Override PartName="/ppt/slides/slide203.xml" ContentType="application/vnd.openxmlformats-officedocument.presentationml.slide+xml"/>
  <Override PartName="/ppt/slides/slide270.xml" ContentType="application/vnd.openxmlformats-officedocument.presentationml.slide+xml"/>
  <Override PartName="/ppt/slides/slide164.xml" ContentType="application/vnd.openxmlformats-officedocument.presentationml.slide+xml"/>
  <Override PartName="/ppt/slides/slide202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269.xml" ContentType="application/vnd.openxmlformats-officedocument.presentationml.slide+xml"/>
  <Override PartName="/ppt/slides/slide268.xml" ContentType="application/vnd.openxmlformats-officedocument.presentationml.slide+xml"/>
  <Override PartName="/ppt/slides/slide267.xml" ContentType="application/vnd.openxmlformats-officedocument.presentationml.slide+xml"/>
  <Override PartName="/ppt/slides/slide266.xml" ContentType="application/vnd.openxmlformats-officedocument.presentationml.slide+xml"/>
  <Override PartName="/ppt/slides/slide265.xml" ContentType="application/vnd.openxmlformats-officedocument.presentationml.slide+xml"/>
  <Override PartName="/ppt/slides/slide264.xml" ContentType="application/vnd.openxmlformats-officedocument.presentationml.slide+xml"/>
  <Override PartName="/ppt/slides/slide26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289.xml" ContentType="application/vnd.openxmlformats-officedocument.presentationml.slide+xml"/>
  <Override PartName="/ppt/slides/slide286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288.xml" ContentType="application/vnd.openxmlformats-officedocument.presentationml.slide+xml"/>
  <Override PartName="/ppt/slides/slide285.xml" ContentType="application/vnd.openxmlformats-officedocument.presentationml.slide+xml"/>
  <Override PartName="/ppt/slides/slide108.xml" ContentType="application/vnd.openxmlformats-officedocument.presentationml.slide+xml"/>
  <Override PartName="/ppt/slides/slide214.xml" ContentType="application/vnd.openxmlformats-officedocument.presentationml.slide+xml"/>
  <Override PartName="/ppt/slides/slide176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109.xml" ContentType="application/vnd.openxmlformats-officedocument.presentationml.slide+xml"/>
  <Override PartName="/ppt/slides/slide215.xml" ContentType="application/vnd.openxmlformats-officedocument.presentationml.slide+xml"/>
  <Override PartName="/ppt/slides/slide177.xml" ContentType="application/vnd.openxmlformats-officedocument.presentationml.slide+xml"/>
  <Override PartName="/ppt/slides/slide3.xml" ContentType="application/vnd.openxmlformats-officedocument.presentationml.slide+xml"/>
  <Override PartName="/ppt/slides/slide47.xml" ContentType="application/vnd.openxmlformats-officedocument.presentationml.slide+xml"/>
  <Override PartName="/ppt/slides/slide143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.xml" ContentType="application/vnd.openxmlformats-officedocument.presentationml.slide+xml"/>
  <Override PartName="/ppt/slides/slide240.xml" ContentType="application/vnd.openxmlformats-officedocument.presentationml.slide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.xml" ContentType="application/vnd.openxmlformats-officedocument.presentationml.slide+xml"/>
  <Override PartName="/ppt/slides/slide241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55.xml" ContentType="application/vnd.openxmlformats-officedocument.presentationml.slide+xml"/>
  <Override PartName="/ppt/slides/slide151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  <Override PartName="/ppt/slides/slide162.xml" ContentType="application/vnd.openxmlformats-officedocument.presentationml.slide+xml"/>
  <Override PartName="/ppt/slides/slide200.xml" ContentType="application/vnd.openxmlformats-officedocument.presentationml.slide+xml"/>
  <Override PartName="/ppt/slides/slide163.xml" ContentType="application/vnd.openxmlformats-officedocument.presentationml.slide+xml"/>
  <Override PartName="/ppt/slides/slide201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206.xml" ContentType="application/vnd.openxmlformats-officedocument.presentationml.slide+xml"/>
  <Override PartName="/ppt/slides/slide168.xml" ContentType="application/vnd.openxmlformats-officedocument.presentationml.slide+xml"/>
  <Override PartName="/ppt/slides/slide40.xml" ContentType="application/vnd.openxmlformats-officedocument.presentationml.slide+xml"/>
  <Override PartName="/ppt/slides/slide207.xml" ContentType="application/vnd.openxmlformats-officedocument.presentationml.slide+xml"/>
  <Override PartName="/ppt/slides/slide169.xml" ContentType="application/vnd.openxmlformats-officedocument.presentationml.slide+xml"/>
  <Override PartName="/ppt/slides/slide41.xml" ContentType="application/vnd.openxmlformats-officedocument.presentationml.slide+xml"/>
  <Override PartName="/ppt/slides/slide208.xml" ContentType="application/vnd.openxmlformats-officedocument.presentationml.slide+xml"/>
  <Override PartName="/ppt/slides/slide42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172.xml" ContentType="application/vnd.openxmlformats-officedocument.presentationml.slide+xml"/>
  <Override PartName="/ppt/slides/slide210.xml" ContentType="application/vnd.openxmlformats-officedocument.presentationml.slide+xml"/>
  <Override PartName="/ppt/slides/slide173.xml" ContentType="application/vnd.openxmlformats-officedocument.presentationml.slide+xml"/>
  <Override PartName="/ppt/slides/slide211.xml" ContentType="application/vnd.openxmlformats-officedocument.presentationml.slide+xml"/>
  <Override PartName="/ppt/slides/slide216.xml" ContentType="application/vnd.openxmlformats-officedocument.presentationml.slide+xml"/>
  <Override PartName="/ppt/slides/slide50.xml" ContentType="application/vnd.openxmlformats-officedocument.presentationml.slide+xml"/>
  <Override PartName="/ppt/slides/slide178.xml" ContentType="application/vnd.openxmlformats-officedocument.presentationml.slide+xml"/>
  <Override PartName="/ppt/slides/slide217.xml" ContentType="application/vnd.openxmlformats-officedocument.presentationml.slide+xml"/>
  <Override PartName="/ppt/slides/slide51.xml" ContentType="application/vnd.openxmlformats-officedocument.presentationml.slide+xml"/>
  <Override PartName="/ppt/slides/slide179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219.xml" ContentType="application/vnd.openxmlformats-officedocument.presentationml.slide+xml"/>
  <Override PartName="/ppt/slides/slide53.xml" ContentType="application/vnd.openxmlformats-officedocument.presentationml.slide+xml"/>
  <Override PartName="/ppt/slides/slide182.xml" ContentType="application/vnd.openxmlformats-officedocument.presentationml.slide+xml"/>
  <Override PartName="/ppt/slides/slide220.xml" ContentType="application/vnd.openxmlformats-officedocument.presentationml.slide+xml"/>
  <Override PartName="/ppt/slides/slide183.xml" ContentType="application/vnd.openxmlformats-officedocument.presentationml.slide+xml"/>
  <Override PartName="/ppt/slides/slide221.xml" ContentType="application/vnd.openxmlformats-officedocument.presentationml.slide+xml"/>
  <Override PartName="/ppt/slides/slide226.xml" ContentType="application/vnd.openxmlformats-officedocument.presentationml.slide+xml"/>
  <Override PartName="/ppt/slides/slide60.xml" ContentType="application/vnd.openxmlformats-officedocument.presentationml.slide+xml"/>
  <Override PartName="/ppt/slides/slide188.xml" ContentType="application/vnd.openxmlformats-officedocument.presentationml.slide+xml"/>
  <Override PartName="/ppt/slides/slide227.xml" ContentType="application/vnd.openxmlformats-officedocument.presentationml.slide+xml"/>
  <Override PartName="/ppt/slides/slide189.xml" ContentType="application/vnd.openxmlformats-officedocument.presentationml.slide+xml"/>
  <Override PartName="/ppt/slides/slide6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  <p:sldId id="477" r:id="rId225"/>
    <p:sldId id="478" r:id="rId226"/>
    <p:sldId id="479" r:id="rId227"/>
    <p:sldId id="480" r:id="rId228"/>
    <p:sldId id="481" r:id="rId229"/>
    <p:sldId id="482" r:id="rId230"/>
    <p:sldId id="483" r:id="rId231"/>
    <p:sldId id="484" r:id="rId232"/>
    <p:sldId id="485" r:id="rId233"/>
    <p:sldId id="486" r:id="rId234"/>
    <p:sldId id="487" r:id="rId235"/>
    <p:sldId id="488" r:id="rId236"/>
    <p:sldId id="489" r:id="rId237"/>
    <p:sldId id="490" r:id="rId238"/>
    <p:sldId id="491" r:id="rId239"/>
    <p:sldId id="492" r:id="rId240"/>
    <p:sldId id="493" r:id="rId241"/>
    <p:sldId id="494" r:id="rId242"/>
    <p:sldId id="495" r:id="rId243"/>
    <p:sldId id="496" r:id="rId244"/>
    <p:sldId id="497" r:id="rId245"/>
    <p:sldId id="498" r:id="rId246"/>
    <p:sldId id="499" r:id="rId247"/>
    <p:sldId id="500" r:id="rId248"/>
    <p:sldId id="501" r:id="rId249"/>
    <p:sldId id="502" r:id="rId250"/>
    <p:sldId id="503" r:id="rId251"/>
    <p:sldId id="504" r:id="rId252"/>
    <p:sldId id="505" r:id="rId253"/>
    <p:sldId id="506" r:id="rId254"/>
    <p:sldId id="507" r:id="rId255"/>
    <p:sldId id="508" r:id="rId256"/>
    <p:sldId id="509" r:id="rId257"/>
    <p:sldId id="510" r:id="rId258"/>
    <p:sldId id="511" r:id="rId259"/>
    <p:sldId id="512" r:id="rId260"/>
    <p:sldId id="513" r:id="rId261"/>
    <p:sldId id="514" r:id="rId262"/>
    <p:sldId id="515" r:id="rId263"/>
    <p:sldId id="516" r:id="rId264"/>
    <p:sldId id="517" r:id="rId265"/>
    <p:sldId id="518" r:id="rId266"/>
    <p:sldId id="519" r:id="rId267"/>
    <p:sldId id="520" r:id="rId268"/>
    <p:sldId id="521" r:id="rId269"/>
    <p:sldId id="522" r:id="rId270"/>
    <p:sldId id="523" r:id="rId271"/>
    <p:sldId id="524" r:id="rId272"/>
    <p:sldId id="525" r:id="rId273"/>
    <p:sldId id="526" r:id="rId274"/>
    <p:sldId id="527" r:id="rId275"/>
    <p:sldId id="528" r:id="rId276"/>
    <p:sldId id="529" r:id="rId277"/>
    <p:sldId id="530" r:id="rId278"/>
    <p:sldId id="531" r:id="rId279"/>
    <p:sldId id="532" r:id="rId280"/>
    <p:sldId id="533" r:id="rId281"/>
    <p:sldId id="534" r:id="rId282"/>
    <p:sldId id="535" r:id="rId283"/>
    <p:sldId id="536" r:id="rId284"/>
    <p:sldId id="537" r:id="rId285"/>
    <p:sldId id="538" r:id="rId286"/>
    <p:sldId id="539" r:id="rId287"/>
    <p:sldId id="540" r:id="rId288"/>
    <p:sldId id="541" r:id="rId289"/>
    <p:sldId id="542" r:id="rId290"/>
    <p:sldId id="543" r:id="rId291"/>
    <p:sldId id="544" r:id="rId292"/>
    <p:sldId id="545" r:id="rId293"/>
    <p:sldId id="546" r:id="rId294"/>
    <p:sldId id="547" r:id="rId295"/>
    <p:sldId id="548" r:id="rId296"/>
    <p:sldId id="549" r:id="rId297"/>
    <p:sldId id="550" r:id="rId298"/>
    <p:sldId id="551" r:id="rId299"/>
    <p:sldId id="552" r:id="rId300"/>
    <p:sldId id="553" r:id="rId301"/>
    <p:sldId id="554" r:id="rId302"/>
    <p:sldId id="555" r:id="rId303"/>
    <p:sldId id="556" r:id="rId304"/>
    <p:sldId id="557" r:id="rId305"/>
    <p:sldId id="558" r:id="rId3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slide" Target="slides/slide222.xml"/><Relationship Id="rId226" Type="http://schemas.openxmlformats.org/officeDocument/2006/relationships/slide" Target="slides/slide223.xml"/><Relationship Id="rId227" Type="http://schemas.openxmlformats.org/officeDocument/2006/relationships/slide" Target="slides/slide224.xml"/><Relationship Id="rId228" Type="http://schemas.openxmlformats.org/officeDocument/2006/relationships/slide" Target="slides/slide225.xml"/><Relationship Id="rId229" Type="http://schemas.openxmlformats.org/officeDocument/2006/relationships/slide" Target="slides/slide226.xml"/><Relationship Id="rId230" Type="http://schemas.openxmlformats.org/officeDocument/2006/relationships/slide" Target="slides/slide227.xml"/><Relationship Id="rId231" Type="http://schemas.openxmlformats.org/officeDocument/2006/relationships/slide" Target="slides/slide228.xml"/><Relationship Id="rId232" Type="http://schemas.openxmlformats.org/officeDocument/2006/relationships/slide" Target="slides/slide229.xml"/><Relationship Id="rId233" Type="http://schemas.openxmlformats.org/officeDocument/2006/relationships/slide" Target="slides/slide230.xml"/><Relationship Id="rId234" Type="http://schemas.openxmlformats.org/officeDocument/2006/relationships/slide" Target="slides/slide231.xml"/><Relationship Id="rId235" Type="http://schemas.openxmlformats.org/officeDocument/2006/relationships/slide" Target="slides/slide232.xml"/><Relationship Id="rId236" Type="http://schemas.openxmlformats.org/officeDocument/2006/relationships/slide" Target="slides/slide233.xml"/><Relationship Id="rId237" Type="http://schemas.openxmlformats.org/officeDocument/2006/relationships/slide" Target="slides/slide234.xml"/><Relationship Id="rId238" Type="http://schemas.openxmlformats.org/officeDocument/2006/relationships/slide" Target="slides/slide235.xml"/><Relationship Id="rId239" Type="http://schemas.openxmlformats.org/officeDocument/2006/relationships/slide" Target="slides/slide236.xml"/><Relationship Id="rId240" Type="http://schemas.openxmlformats.org/officeDocument/2006/relationships/slide" Target="slides/slide237.xml"/><Relationship Id="rId241" Type="http://schemas.openxmlformats.org/officeDocument/2006/relationships/slide" Target="slides/slide238.xml"/><Relationship Id="rId242" Type="http://schemas.openxmlformats.org/officeDocument/2006/relationships/slide" Target="slides/slide239.xml"/><Relationship Id="rId243" Type="http://schemas.openxmlformats.org/officeDocument/2006/relationships/slide" Target="slides/slide240.xml"/><Relationship Id="rId244" Type="http://schemas.openxmlformats.org/officeDocument/2006/relationships/slide" Target="slides/slide241.xml"/><Relationship Id="rId245" Type="http://schemas.openxmlformats.org/officeDocument/2006/relationships/slide" Target="slides/slide242.xml"/><Relationship Id="rId246" Type="http://schemas.openxmlformats.org/officeDocument/2006/relationships/slide" Target="slides/slide243.xml"/><Relationship Id="rId247" Type="http://schemas.openxmlformats.org/officeDocument/2006/relationships/slide" Target="slides/slide244.xml"/><Relationship Id="rId248" Type="http://schemas.openxmlformats.org/officeDocument/2006/relationships/slide" Target="slides/slide245.xml"/><Relationship Id="rId249" Type="http://schemas.openxmlformats.org/officeDocument/2006/relationships/slide" Target="slides/slide246.xml"/><Relationship Id="rId250" Type="http://schemas.openxmlformats.org/officeDocument/2006/relationships/slide" Target="slides/slide247.xml"/><Relationship Id="rId251" Type="http://schemas.openxmlformats.org/officeDocument/2006/relationships/slide" Target="slides/slide248.xml"/><Relationship Id="rId252" Type="http://schemas.openxmlformats.org/officeDocument/2006/relationships/slide" Target="slides/slide249.xml"/><Relationship Id="rId253" Type="http://schemas.openxmlformats.org/officeDocument/2006/relationships/slide" Target="slides/slide250.xml"/><Relationship Id="rId254" Type="http://schemas.openxmlformats.org/officeDocument/2006/relationships/slide" Target="slides/slide251.xml"/><Relationship Id="rId255" Type="http://schemas.openxmlformats.org/officeDocument/2006/relationships/slide" Target="slides/slide252.xml"/><Relationship Id="rId256" Type="http://schemas.openxmlformats.org/officeDocument/2006/relationships/slide" Target="slides/slide253.xml"/><Relationship Id="rId257" Type="http://schemas.openxmlformats.org/officeDocument/2006/relationships/slide" Target="slides/slide254.xml"/><Relationship Id="rId258" Type="http://schemas.openxmlformats.org/officeDocument/2006/relationships/slide" Target="slides/slide255.xml"/><Relationship Id="rId259" Type="http://schemas.openxmlformats.org/officeDocument/2006/relationships/slide" Target="slides/slide256.xml"/><Relationship Id="rId260" Type="http://schemas.openxmlformats.org/officeDocument/2006/relationships/slide" Target="slides/slide257.xml"/><Relationship Id="rId261" Type="http://schemas.openxmlformats.org/officeDocument/2006/relationships/slide" Target="slides/slide258.xml"/><Relationship Id="rId262" Type="http://schemas.openxmlformats.org/officeDocument/2006/relationships/slide" Target="slides/slide259.xml"/><Relationship Id="rId263" Type="http://schemas.openxmlformats.org/officeDocument/2006/relationships/slide" Target="slides/slide260.xml"/><Relationship Id="rId264" Type="http://schemas.openxmlformats.org/officeDocument/2006/relationships/slide" Target="slides/slide261.xml"/><Relationship Id="rId265" Type="http://schemas.openxmlformats.org/officeDocument/2006/relationships/slide" Target="slides/slide262.xml"/><Relationship Id="rId266" Type="http://schemas.openxmlformats.org/officeDocument/2006/relationships/slide" Target="slides/slide263.xml"/><Relationship Id="rId267" Type="http://schemas.openxmlformats.org/officeDocument/2006/relationships/slide" Target="slides/slide264.xml"/><Relationship Id="rId268" Type="http://schemas.openxmlformats.org/officeDocument/2006/relationships/slide" Target="slides/slide265.xml"/><Relationship Id="rId269" Type="http://schemas.openxmlformats.org/officeDocument/2006/relationships/slide" Target="slides/slide266.xml"/><Relationship Id="rId270" Type="http://schemas.openxmlformats.org/officeDocument/2006/relationships/slide" Target="slides/slide267.xml"/><Relationship Id="rId271" Type="http://schemas.openxmlformats.org/officeDocument/2006/relationships/slide" Target="slides/slide268.xml"/><Relationship Id="rId272" Type="http://schemas.openxmlformats.org/officeDocument/2006/relationships/slide" Target="slides/slide269.xml"/><Relationship Id="rId273" Type="http://schemas.openxmlformats.org/officeDocument/2006/relationships/slide" Target="slides/slide270.xml"/><Relationship Id="rId274" Type="http://schemas.openxmlformats.org/officeDocument/2006/relationships/slide" Target="slides/slide271.xml"/><Relationship Id="rId275" Type="http://schemas.openxmlformats.org/officeDocument/2006/relationships/slide" Target="slides/slide272.xml"/><Relationship Id="rId276" Type="http://schemas.openxmlformats.org/officeDocument/2006/relationships/slide" Target="slides/slide273.xml"/><Relationship Id="rId277" Type="http://schemas.openxmlformats.org/officeDocument/2006/relationships/slide" Target="slides/slide274.xml"/><Relationship Id="rId278" Type="http://schemas.openxmlformats.org/officeDocument/2006/relationships/slide" Target="slides/slide275.xml"/><Relationship Id="rId279" Type="http://schemas.openxmlformats.org/officeDocument/2006/relationships/slide" Target="slides/slide276.xml"/><Relationship Id="rId280" Type="http://schemas.openxmlformats.org/officeDocument/2006/relationships/slide" Target="slides/slide277.xml"/><Relationship Id="rId281" Type="http://schemas.openxmlformats.org/officeDocument/2006/relationships/slide" Target="slides/slide278.xml"/><Relationship Id="rId282" Type="http://schemas.openxmlformats.org/officeDocument/2006/relationships/slide" Target="slides/slide279.xml"/><Relationship Id="rId283" Type="http://schemas.openxmlformats.org/officeDocument/2006/relationships/slide" Target="slides/slide280.xml"/><Relationship Id="rId284" Type="http://schemas.openxmlformats.org/officeDocument/2006/relationships/slide" Target="slides/slide281.xml"/><Relationship Id="rId285" Type="http://schemas.openxmlformats.org/officeDocument/2006/relationships/slide" Target="slides/slide282.xml"/><Relationship Id="rId286" Type="http://schemas.openxmlformats.org/officeDocument/2006/relationships/slide" Target="slides/slide283.xml"/><Relationship Id="rId287" Type="http://schemas.openxmlformats.org/officeDocument/2006/relationships/slide" Target="slides/slide284.xml"/><Relationship Id="rId288" Type="http://schemas.openxmlformats.org/officeDocument/2006/relationships/slide" Target="slides/slide285.xml"/><Relationship Id="rId289" Type="http://schemas.openxmlformats.org/officeDocument/2006/relationships/slide" Target="slides/slide286.xml"/><Relationship Id="rId290" Type="http://schemas.openxmlformats.org/officeDocument/2006/relationships/slide" Target="slides/slide287.xml"/><Relationship Id="rId291" Type="http://schemas.openxmlformats.org/officeDocument/2006/relationships/slide" Target="slides/slide288.xml"/><Relationship Id="rId292" Type="http://schemas.openxmlformats.org/officeDocument/2006/relationships/slide" Target="slides/slide289.xml"/><Relationship Id="rId293" Type="http://schemas.openxmlformats.org/officeDocument/2006/relationships/slide" Target="slides/slide290.xml"/><Relationship Id="rId294" Type="http://schemas.openxmlformats.org/officeDocument/2006/relationships/slide" Target="slides/slide291.xml"/><Relationship Id="rId295" Type="http://schemas.openxmlformats.org/officeDocument/2006/relationships/slide" Target="slides/slide292.xml"/><Relationship Id="rId296" Type="http://schemas.openxmlformats.org/officeDocument/2006/relationships/slide" Target="slides/slide293.xml"/><Relationship Id="rId297" Type="http://schemas.openxmlformats.org/officeDocument/2006/relationships/slide" Target="slides/slide294.xml"/><Relationship Id="rId298" Type="http://schemas.openxmlformats.org/officeDocument/2006/relationships/slide" Target="slides/slide295.xml"/><Relationship Id="rId299" Type="http://schemas.openxmlformats.org/officeDocument/2006/relationships/slide" Target="slides/slide296.xml"/><Relationship Id="rId300" Type="http://schemas.openxmlformats.org/officeDocument/2006/relationships/slide" Target="slides/slide297.xml"/><Relationship Id="rId301" Type="http://schemas.openxmlformats.org/officeDocument/2006/relationships/slide" Target="slides/slide298.xml"/><Relationship Id="rId302" Type="http://schemas.openxmlformats.org/officeDocument/2006/relationships/slide" Target="slides/slide299.xml"/><Relationship Id="rId303" Type="http://schemas.openxmlformats.org/officeDocument/2006/relationships/slide" Target="slides/slide300.xml"/><Relationship Id="rId304" Type="http://schemas.openxmlformats.org/officeDocument/2006/relationships/slide" Target="slides/slide301.xml"/><Relationship Id="rId305" Type="http://schemas.openxmlformats.org/officeDocument/2006/relationships/slide" Target="slides/slide302.xml"/><Relationship Id="rId306" Type="http://schemas.openxmlformats.org/officeDocument/2006/relationships/slide" Target="slides/slide303.xml"/><Relationship Id="rId30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1CA85-50A4-4717-8FCD-CE068783B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BA371-1E73-4985-B3FF-032726E2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87102-EE44-41A1-A37B-F029035A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07E9D-BE89-4336-B25B-BD24B7747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C4DB-AAC7-4538-B17B-4E3C48873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45E8-BD0D-43FE-8A34-6E7656CD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5491-D432-4B06-BB36-97C71B05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FAB0-7D73-4D01-A6AF-5589FC15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6F9F-F7DB-455A-8276-7BA30C5D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85CD-E579-4FBC-ACF4-57761CFF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BDCD-F430-4A90-A7BC-BCD4960C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08E0C-FE88-4298-8570-002E38AE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C074-34F6-4FCF-B548-419604AD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5CDA-3A1F-40D8-9423-A5447B60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C8A9-F6BA-43B4-933F-CB21D9EE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3A39-76BC-44BE-A4CD-91C98BCF2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D790-DDBC-421B-8F68-A94B38238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174EF-3B97-46A6-AB09-0291B0C8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8255F-C545-46DD-84A2-4E49A0AA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03FD7-392F-48FD-96CF-434B118A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2A8C9-645A-4F3A-80E6-BFF37DB8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E4CB6-0D09-4965-89FB-882E63B8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E6DD0-AD54-4FE2-8B6C-C25395BA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C4280-22CB-40F9-A6BF-E52B545B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B9FC-9FA8-4644-8D52-5D629563AB2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fcc6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ba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cc66e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fcc6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ba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B6E5-F92F-44A8-8760-823093F9821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6.xml"/><Relationship Id="rId3" Type="http://schemas.openxmlformats.org/officeDocument/2006/relationships/slide" Target="slide18.xml"/><Relationship Id="rId4" Type="http://schemas.openxmlformats.org/officeDocument/2006/relationships/slide" Target="slide20.xml"/><Relationship Id="rId5" Type="http://schemas.openxmlformats.org/officeDocument/2006/relationships/slide" Target="slide17.xml"/><Relationship Id="rId6" Type="http://schemas.openxmlformats.org/officeDocument/2006/relationships/slide" Target="slide19.xml"/><Relationship Id="rId7" Type="http://schemas.openxmlformats.org/officeDocument/2006/relationships/slide" Target="slide21.xml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23.xml"/><Relationship Id="rId4" Type="http://schemas.openxmlformats.org/officeDocument/2006/relationships/slide" Target="slide72.xml"/><Relationship Id="rId5" Type="http://schemas.openxmlformats.org/officeDocument/2006/relationships/slide" Target="slide78.xml"/><Relationship Id="rId6" Type="http://schemas.openxmlformats.org/officeDocument/2006/relationships/slide" Target="slide90.xml"/><Relationship Id="rId7" Type="http://schemas.openxmlformats.org/officeDocument/2006/relationships/slide" Target="slide94.xml"/><Relationship Id="rId8" Type="http://schemas.openxmlformats.org/officeDocument/2006/relationships/slide" Target="slide100.xml"/><Relationship Id="rId9" Type="http://schemas.openxmlformats.org/officeDocument/2006/relationships/slide" Target="slide106.xml"/><Relationship Id="rId10" Type="http://schemas.openxmlformats.org/officeDocument/2006/relationships/slide" Target="slide301.xml"/><Relationship Id="rId11" Type="http://schemas.openxmlformats.org/officeDocument/2006/relationships/slide" Target="slide303.xml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38.xml"/><Relationship Id="rId6" Type="http://schemas.openxmlformats.org/officeDocument/2006/relationships/slide" Target="slide28.xml"/><Relationship Id="rId7" Type="http://schemas.openxmlformats.org/officeDocument/2006/relationships/slide" Target="slide34.xml"/><Relationship Id="rId8" Type="http://schemas.openxmlformats.org/officeDocument/2006/relationships/slide" Target="slide39.xml"/><Relationship Id="rId9" Type="http://schemas.openxmlformats.org/officeDocument/2006/relationships/slide" Target="slide40.xml"/><Relationship Id="rId10" Type="http://schemas.openxmlformats.org/officeDocument/2006/relationships/slide" Target="slide40.xml"/><Relationship Id="rId11" Type="http://schemas.openxmlformats.org/officeDocument/2006/relationships/slide" Target="slide40.xml"/><Relationship Id="rId12" Type="http://schemas.openxmlformats.org/officeDocument/2006/relationships/slide" Target="slide41.xml"/><Relationship Id="rId13" Type="http://schemas.openxmlformats.org/officeDocument/2006/relationships/slide" Target="slide43.xml"/><Relationship Id="rId14" Type="http://schemas.openxmlformats.org/officeDocument/2006/relationships/slide" Target="slide44.xml"/><Relationship Id="rId15" Type="http://schemas.openxmlformats.org/officeDocument/2006/relationships/slide" Target="slide47.xml"/><Relationship Id="rId16" Type="http://schemas.openxmlformats.org/officeDocument/2006/relationships/slide" Target="slide48.xml"/><Relationship Id="rId17" Type="http://schemas.openxmlformats.org/officeDocument/2006/relationships/slide" Target="slide49.xml"/><Relationship Id="rId18" Type="http://schemas.openxmlformats.org/officeDocument/2006/relationships/slide" Target="slide50.xml"/><Relationship Id="rId19" Type="http://schemas.openxmlformats.org/officeDocument/2006/relationships/slide" Target="slide53.xml"/><Relationship Id="rId20" Type="http://schemas.openxmlformats.org/officeDocument/2006/relationships/slide" Target="slide57.xml"/><Relationship Id="rId21" Type="http://schemas.openxmlformats.org/officeDocument/2006/relationships/slide" Target="slide62.xml"/><Relationship Id="rId22" Type="http://schemas.openxmlformats.org/officeDocument/2006/relationships/slide" Target="slide67.xml"/><Relationship Id="rId23" Type="http://schemas.openxmlformats.org/officeDocument/2006/relationships/slide" Target="slide141.xml"/><Relationship Id="rId24" Type="http://schemas.openxmlformats.org/officeDocument/2006/relationships/slide" Target="slide2.xml"/><Relationship Id="rId25" Type="http://schemas.openxmlformats.org/officeDocument/2006/relationships/slideLayout" Target="../slideLayouts/slideLayout1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6.xml"/><Relationship Id="rId3" Type="http://schemas.openxmlformats.org/officeDocument/2006/relationships/slide" Target="slide37.xml"/><Relationship Id="rId4" Type="http://schemas.openxmlformats.org/officeDocument/2006/relationships/slide" Target="slide23.xml"/><Relationship Id="rId5" Type="http://schemas.openxmlformats.org/officeDocument/2006/relationships/slideLayout" Target="../slideLayouts/slideLayout1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7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22.xml"/><Relationship Id="rId7" Type="http://schemas.openxmlformats.org/officeDocument/2006/relationships/slide" Target="slide107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3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6.xml"/><Relationship Id="rId3" Type="http://schemas.openxmlformats.org/officeDocument/2006/relationships/slide" Target="slide37.xml"/><Relationship Id="rId4" Type="http://schemas.openxmlformats.org/officeDocument/2006/relationships/slide" Target="slide38.xml"/><Relationship Id="rId5" Type="http://schemas.openxmlformats.org/officeDocument/2006/relationships/slide" Target="slide23.xml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4.xml"/><Relationship Id="rId3" Type="http://schemas.openxmlformats.org/officeDocument/2006/relationships/slide" Target="slide23.xml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grammade.ru/grammar/verb3grf.shtml" TargetMode="External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9.xml"/><Relationship Id="rId3" Type="http://schemas.openxmlformats.org/officeDocument/2006/relationships/slide" Target="slide48.xml"/><Relationship Id="rId4" Type="http://schemas.openxmlformats.org/officeDocument/2006/relationships/slide" Target="slide23.xml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9.xml"/><Relationship Id="rId3" Type="http://schemas.openxmlformats.org/officeDocument/2006/relationships/slide" Target="slide39.xml"/><Relationship Id="rId4" Type="http://schemas.openxmlformats.org/officeDocument/2006/relationships/slide" Target="slide39.xml"/><Relationship Id="rId5" Type="http://schemas.openxmlformats.org/officeDocument/2006/relationships/slide" Target="slide40.xml"/><Relationship Id="rId6" Type="http://schemas.openxmlformats.org/officeDocument/2006/relationships/slide" Target="slide41.xml"/><Relationship Id="rId7" Type="http://schemas.openxmlformats.org/officeDocument/2006/relationships/slide" Target="slide43.xml"/><Relationship Id="rId8" Type="http://schemas.openxmlformats.org/officeDocument/2006/relationships/slide" Target="slide44.xml"/><Relationship Id="rId9" Type="http://schemas.openxmlformats.org/officeDocument/2006/relationships/slide" Target="slide23.xml"/><Relationship Id="rId10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53.xml"/><Relationship Id="rId3" Type="http://schemas.openxmlformats.org/officeDocument/2006/relationships/slide" Target="slide53.xml"/><Relationship Id="rId4" Type="http://schemas.openxmlformats.org/officeDocument/2006/relationships/slide" Target="slide23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4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0.xml"/><Relationship Id="rId2" Type="http://schemas.openxmlformats.org/officeDocument/2006/relationships/slide" Target="slide88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4.xml"/><Relationship Id="rId3" Type="http://schemas.openxmlformats.org/officeDocument/2006/relationships/slide" Target="slide75.xml"/><Relationship Id="rId4" Type="http://schemas.openxmlformats.org/officeDocument/2006/relationships/slide" Target="slide76.xml"/><Relationship Id="rId5" Type="http://schemas.openxmlformats.org/officeDocument/2006/relationships/slide" Target="slide175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79.xml"/><Relationship Id="rId2" Type="http://schemas.openxmlformats.org/officeDocument/2006/relationships/slide" Target="slide80.xml"/><Relationship Id="rId3" Type="http://schemas.openxmlformats.org/officeDocument/2006/relationships/slide" Target="slide82.xml"/><Relationship Id="rId4" Type="http://schemas.openxmlformats.org/officeDocument/2006/relationships/slide" Target="slide84.xml"/><Relationship Id="rId5" Type="http://schemas.openxmlformats.org/officeDocument/2006/relationships/slide" Target="slide85.xml"/><Relationship Id="rId6" Type="http://schemas.openxmlformats.org/officeDocument/2006/relationships/slide" Target="slide85.xml"/><Relationship Id="rId7" Type="http://schemas.openxmlformats.org/officeDocument/2006/relationships/slide" Target="slide85.xml"/><Relationship Id="rId8" Type="http://schemas.openxmlformats.org/officeDocument/2006/relationships/slide" Target="slide86.xml"/><Relationship Id="rId9" Type="http://schemas.openxmlformats.org/officeDocument/2006/relationships/slide" Target="slide88.xml"/><Relationship Id="rId10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Грамматика немецкого языка</a:t>
            </a: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(в таблицах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Электронный учебник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для обучающихся средних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общеобразовательных шко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Женское склонение сущ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785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. 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ж.р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9280" y="270792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знак женского склонения - отсутствие оконч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4500720" y="1125360"/>
            <a:ext cx="144360" cy="719280"/>
          </a:xfrm>
          <a:prstGeom prst="downArrow">
            <a:avLst>
              <a:gd name="adj1" fmla="val 50000"/>
              <a:gd name="adj2" fmla="val 12456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24000" y="3573360"/>
          <a:ext cx="8362800" cy="3100320"/>
        </p:xfrm>
        <a:graphic>
          <a:graphicData uri="http://schemas.openxmlformats.org/drawingml/2006/table">
            <a:tbl>
              <a:tblPr/>
              <a:tblGrid>
                <a:gridCol w="4181400"/>
                <a:gridCol w="41814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деж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.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Mut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Mut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Mut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k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Mut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AutoShape 45">
            <a:hlinkClick r:id="rId1" action="ppaction://hlinksldjump"/>
          </p:cNvPr>
          <p:cNvSpPr/>
          <p:nvPr/>
        </p:nvSpPr>
        <p:spPr>
          <a:xfrm>
            <a:off x="8604360" y="0"/>
            <a:ext cx="539640" cy="504720"/>
          </a:xfrm>
          <a:custGeom>
            <a:avLst/>
            <a:gdLst>
              <a:gd name="textAreaLeft" fmla="*/ 32400 w 539640"/>
              <a:gd name="textAreaRight" fmla="*/ 507240 w 53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093" h="21600">
                <a:moveTo>
                  <a:pt x="0" y="0"/>
                </a:moveTo>
                <a:lnTo>
                  <a:pt x="23093" y="0"/>
                </a:lnTo>
                <a:lnTo>
                  <a:pt x="23093" y="21600"/>
                </a:lnTo>
                <a:lnTo>
                  <a:pt x="0" y="21600"/>
                </a:lnTo>
                <a:close/>
              </a:path>
              <a:path fill="lightenLess" w="23093" h="21600">
                <a:moveTo>
                  <a:pt x="0" y="0"/>
                </a:moveTo>
                <a:lnTo>
                  <a:pt x="23093" y="0"/>
                </a:lnTo>
                <a:lnTo>
                  <a:pt x="21693" y="1400"/>
                </a:lnTo>
                <a:lnTo>
                  <a:pt x="1400" y="1400"/>
                </a:lnTo>
                <a:close/>
              </a:path>
              <a:path fill="darken" w="23093" h="21600">
                <a:moveTo>
                  <a:pt x="23093" y="0"/>
                </a:moveTo>
                <a:lnTo>
                  <a:pt x="23093" y="21600"/>
                </a:lnTo>
                <a:lnTo>
                  <a:pt x="21693" y="20200"/>
                </a:lnTo>
                <a:lnTo>
                  <a:pt x="21693" y="1400"/>
                </a:lnTo>
                <a:close/>
              </a:path>
              <a:path fill="darkenLess" w="23093" h="21600">
                <a:moveTo>
                  <a:pt x="23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3" y="20200"/>
                </a:lnTo>
                <a:close/>
              </a:path>
              <a:path fill="lighten" w="23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3" h="21600">
                <a:moveTo>
                  <a:pt x="11547" y="3837"/>
                </a:moveTo>
                <a:lnTo>
                  <a:pt x="14123" y="6448"/>
                </a:lnTo>
                <a:lnTo>
                  <a:pt x="14123" y="4707"/>
                </a:lnTo>
                <a:lnTo>
                  <a:pt x="15899" y="4707"/>
                </a:lnTo>
                <a:lnTo>
                  <a:pt x="15899" y="8224"/>
                </a:lnTo>
                <a:lnTo>
                  <a:pt x="18510" y="10800"/>
                </a:lnTo>
                <a:lnTo>
                  <a:pt x="16856" y="10800"/>
                </a:lnTo>
                <a:lnTo>
                  <a:pt x="16856" y="17989"/>
                </a:lnTo>
                <a:lnTo>
                  <a:pt x="6237" y="17989"/>
                </a:lnTo>
                <a:lnTo>
                  <a:pt x="6237" y="10800"/>
                </a:lnTo>
                <a:lnTo>
                  <a:pt x="4584" y="10800"/>
                </a:lnTo>
                <a:close/>
              </a:path>
              <a:path fill="darkenLess" w="23093" h="21600">
                <a:moveTo>
                  <a:pt x="14123" y="6448"/>
                </a:moveTo>
                <a:lnTo>
                  <a:pt x="14123" y="4707"/>
                </a:lnTo>
                <a:lnTo>
                  <a:pt x="15899" y="4707"/>
                </a:lnTo>
                <a:lnTo>
                  <a:pt x="15899" y="8224"/>
                </a:lnTo>
                <a:close/>
              </a:path>
              <a:path fill="darkenLess" w="23093" h="21600">
                <a:moveTo>
                  <a:pt x="10624" y="14299"/>
                </a:moveTo>
                <a:lnTo>
                  <a:pt x="12469" y="14299"/>
                </a:lnTo>
                <a:lnTo>
                  <a:pt x="12469" y="17989"/>
                </a:lnTo>
                <a:lnTo>
                  <a:pt x="16856" y="17989"/>
                </a:lnTo>
                <a:lnTo>
                  <a:pt x="16856" y="10800"/>
                </a:lnTo>
                <a:lnTo>
                  <a:pt x="6237" y="10800"/>
                </a:lnTo>
                <a:lnTo>
                  <a:pt x="6237" y="17989"/>
                </a:lnTo>
                <a:lnTo>
                  <a:pt x="10624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Сою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Сочинительные союз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Подчинительные сою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Парные союз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Союзные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Тесты по теме «Союз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4"/>
          <p:cNvSpPr/>
          <p:nvPr/>
        </p:nvSpPr>
        <p:spPr>
          <a:xfrm>
            <a:off x="795672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Сочинительные союзы</a:t>
            </a: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und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- и,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aber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– 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oder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– 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denn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- так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nicht ... sondern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- не...,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Сочинительные союзы могут соединять как однородные члены предложения, так и самостоятельные предложения в составе сложносочиненного. Они служат только соединительным элементом и не являются членом предложения, т.е. не влияют на порядок сл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Ich komme aus Moskau, 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und </a:t>
            </a: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in Berlin studiere ich Deutsch.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Я из Москвы, 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а</a:t>
            </a: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 в Берлине я изучаю немец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4"/>
          <p:cNvSpPr/>
          <p:nvPr/>
        </p:nvSpPr>
        <p:spPr>
          <a:xfrm>
            <a:off x="8604360" y="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Парные союзы</a:t>
            </a: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Парные союзы могут связывать как самостоятельные предложения, так и однородные члены предло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weder … noch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- ни …, ни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sowohl … als auch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- как …, так и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sowohl … wie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- как …, так и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nicht nur … sondern auch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- не только …, но и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entweder … oder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- или …, или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bald … bald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- то …, то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teils … teils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- частично …, частично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Entweder </a:t>
            </a:r>
            <a:r>
              <a:rPr b="0" i="1" lang="ru-RU" sz="2000" spc="-1" strike="noStrike">
                <a:solidFill>
                  <a:srgbClr val="003300"/>
                </a:solidFill>
                <a:latin typeface="Arial"/>
              </a:rPr>
              <a:t>wir gehen ins Kino, </a:t>
            </a: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oder </a:t>
            </a:r>
            <a:r>
              <a:rPr b="0" i="1" lang="ru-RU" sz="2000" spc="-1" strike="noStrike">
                <a:solidFill>
                  <a:srgbClr val="003300"/>
                </a:solidFill>
                <a:latin typeface="Arial"/>
              </a:rPr>
              <a:t>wir besuchen unsere Freunde.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Arial"/>
              </a:rPr>
              <a:t>Или мы пойдем в кино, или мы навестим друз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00"/>
                </a:solidFill>
                <a:uFillTx/>
                <a:latin typeface="Arial"/>
              </a:rPr>
              <a:t>NB!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союз 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weder … noch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отрицательный, то есть в предложении кроме него другого отрицания не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Arial"/>
              </a:rPr>
              <a:t>Ich kann </a:t>
            </a: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weder</a:t>
            </a:r>
            <a:r>
              <a:rPr b="0" i="1" lang="ru-RU" sz="2000" spc="-1" strike="noStrike">
                <a:solidFill>
                  <a:srgbClr val="003300"/>
                </a:solidFill>
                <a:latin typeface="Arial"/>
              </a:rPr>
              <a:t> heute </a:t>
            </a: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noch</a:t>
            </a:r>
            <a:r>
              <a:rPr b="0" i="1" lang="ru-RU" sz="2000" spc="-1" strike="noStrike">
                <a:solidFill>
                  <a:srgbClr val="003300"/>
                </a:solidFill>
                <a:latin typeface="Arial"/>
              </a:rPr>
              <a:t> morgen kommen. - Я </a:t>
            </a: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не</a:t>
            </a:r>
            <a:r>
              <a:rPr b="0" i="1" lang="ru-RU" sz="2000" spc="-1" strike="noStrike">
                <a:solidFill>
                  <a:srgbClr val="003300"/>
                </a:solidFill>
                <a:latin typeface="Arial"/>
              </a:rPr>
              <a:t> могу прийти </a:t>
            </a: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ни</a:t>
            </a:r>
            <a:r>
              <a:rPr b="0" i="1" lang="ru-RU" sz="2000" spc="-1" strike="noStrike">
                <a:solidFill>
                  <a:srgbClr val="003300"/>
                </a:solidFill>
                <a:latin typeface="Arial"/>
              </a:rPr>
              <a:t> сегодня, </a:t>
            </a: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ни</a:t>
            </a:r>
            <a:r>
              <a:rPr b="0" i="1" lang="ru-RU" sz="2000" spc="-1" strike="noStrike">
                <a:solidFill>
                  <a:srgbClr val="003300"/>
                </a:solidFill>
                <a:latin typeface="Arial"/>
              </a:rPr>
              <a:t> завт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4"/>
          <p:cNvSpPr/>
          <p:nvPr/>
        </p:nvSpPr>
        <p:spPr>
          <a:xfrm>
            <a:off x="8604360" y="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Союзные сл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 качестве союзов для связи предложений могут также использоваться наречия и местоименные наречия. Наиболее употребительные союзные сло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dann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- тогда, по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deshalb, darum, deswegen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- поэтому, пот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außerdem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- кроме 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trotzdem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- несмотря на это, все 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doch, jedoch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- однако, все-та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also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- итак, следовательно, таким обра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 отличие от союзов, союзные слова являются членом предложения, т.е. за союзным словом стоит сказуемо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Er studiert an der Uni, 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außerdem </a:t>
            </a: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arbeitet er abends.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Он учится в университете, 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кроме того</a:t>
            </a:r>
            <a:r>
              <a:rPr b="0" i="1" lang="ru-RU" sz="2400" spc="-1" strike="noStrike">
                <a:solidFill>
                  <a:srgbClr val="003300"/>
                </a:solidFill>
                <a:latin typeface="Arial"/>
              </a:rPr>
              <a:t>, он работает по вечер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4"/>
          <p:cNvSpPr/>
          <p:nvPr/>
        </p:nvSpPr>
        <p:spPr>
          <a:xfrm>
            <a:off x="8604360" y="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Подчинительные союзы</a:t>
            </a: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ls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– чем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как будто, словно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когда (однократное действие в прошлом)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als dass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что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als ob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als wenn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как будто, слов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evor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(=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ehe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прежде чем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пока не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так как, потому что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amit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для того, чтобы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ass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что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dadurch,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 dass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благодаря тому,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(=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bevor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прежде ч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alls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(=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wenn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ndem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тем что, благодаря тому что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nsofern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поскольку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insofern ..., als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-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постольку ..., посколь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je ...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esto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je ... um so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чем ... 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4"/>
          <p:cNvSpPr/>
          <p:nvPr/>
        </p:nvSpPr>
        <p:spPr>
          <a:xfrm>
            <a:off x="8604360" y="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Подчинительные союзы</a:t>
            </a: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achdem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- после того к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o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bwohl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хотя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ohne dass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без того чтобы, так что ... не, однако ... 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seit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dem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с тех пор как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obald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как только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olange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пока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ooft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каждый раз, когда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oviel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насколько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oweit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насколь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ährend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в то время как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eil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так как, потому что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enn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–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 если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(=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falls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когда (многократно в прошлом или в настоящем и будуще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wenn ...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uch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хотя, даже если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ie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как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obei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прич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4"/>
          <p:cNvSpPr/>
          <p:nvPr/>
        </p:nvSpPr>
        <p:spPr>
          <a:xfrm>
            <a:off x="8604360" y="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26560" y="457200"/>
            <a:ext cx="785988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ес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908000" y="1980720"/>
            <a:ext cx="6778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я существи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аго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я прилага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им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исли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л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юз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4"/>
          <p:cNvSpPr/>
          <p:nvPr/>
        </p:nvSpPr>
        <p:spPr>
          <a:xfrm>
            <a:off x="795672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сты по теме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Имя существительно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32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тик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жественное число существите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отребление и отсутствие артик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4"/>
          <p:cNvSpPr/>
          <p:nvPr/>
        </p:nvSpPr>
        <p:spPr>
          <a:xfrm>
            <a:off x="795672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7"/>
          <p:cNvSpPr/>
          <p:nvPr/>
        </p:nvSpPr>
        <p:spPr>
          <a:xfrm>
            <a:off x="545040" y="1484280"/>
            <a:ext cx="718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r mir liegt ______ Zeitu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ртик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256680" y="1197000"/>
            <a:ext cx="888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stern hat sie _____ Kleid gekauf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мешанное склонение сущ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79280" y="1413000"/>
            <a:ext cx="43164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щ.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м.р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der Buchstabe, der Funke, der Gedanke, der Glaube, der Wille, der Name, der Same, der Frieden, der Scha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43280" y="1413000"/>
            <a:ext cx="4316400" cy="16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щ.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ср.р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das Her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3068640"/>
            <a:ext cx="87854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знак смешанного склонения - окончание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(e)n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генитиве и окончания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-(e)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дативе и аккузатив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 rot="19683000">
            <a:off x="2842920" y="1125360"/>
            <a:ext cx="976320" cy="162000"/>
          </a:xfrm>
          <a:prstGeom prst="leftArrow">
            <a:avLst>
              <a:gd name="adj1" fmla="val 50000"/>
              <a:gd name="adj2" fmla="val 150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 rot="1926000">
            <a:off x="5364000" y="1125360"/>
            <a:ext cx="976320" cy="162000"/>
          </a:xfrm>
          <a:prstGeom prst="rightArrow">
            <a:avLst>
              <a:gd name="adj1" fmla="val 50000"/>
              <a:gd name="adj2" fmla="val 150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79280" y="3933720"/>
          <a:ext cx="8785440" cy="273528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де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.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Her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 Name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 Herz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 Name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 Herz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k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 Name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Her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AutoShape 43">
            <a:hlinkClick r:id="rId1" action="ppaction://hlinksldjump"/>
          </p:cNvPr>
          <p:cNvSpPr/>
          <p:nvPr/>
        </p:nvSpPr>
        <p:spPr>
          <a:xfrm>
            <a:off x="8604360" y="0"/>
            <a:ext cx="539640" cy="504720"/>
          </a:xfrm>
          <a:custGeom>
            <a:avLst/>
            <a:gdLst>
              <a:gd name="textAreaLeft" fmla="*/ 32400 w 539640"/>
              <a:gd name="textAreaRight" fmla="*/ 507240 w 53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093" h="21600">
                <a:moveTo>
                  <a:pt x="0" y="0"/>
                </a:moveTo>
                <a:lnTo>
                  <a:pt x="23093" y="0"/>
                </a:lnTo>
                <a:lnTo>
                  <a:pt x="23093" y="21600"/>
                </a:lnTo>
                <a:lnTo>
                  <a:pt x="0" y="21600"/>
                </a:lnTo>
                <a:close/>
              </a:path>
              <a:path fill="lightenLess" w="23093" h="21600">
                <a:moveTo>
                  <a:pt x="0" y="0"/>
                </a:moveTo>
                <a:lnTo>
                  <a:pt x="23093" y="0"/>
                </a:lnTo>
                <a:lnTo>
                  <a:pt x="21693" y="1400"/>
                </a:lnTo>
                <a:lnTo>
                  <a:pt x="1400" y="1400"/>
                </a:lnTo>
                <a:close/>
              </a:path>
              <a:path fill="darken" w="23093" h="21600">
                <a:moveTo>
                  <a:pt x="23093" y="0"/>
                </a:moveTo>
                <a:lnTo>
                  <a:pt x="23093" y="21600"/>
                </a:lnTo>
                <a:lnTo>
                  <a:pt x="21693" y="20200"/>
                </a:lnTo>
                <a:lnTo>
                  <a:pt x="21693" y="1400"/>
                </a:lnTo>
                <a:close/>
              </a:path>
              <a:path fill="darkenLess" w="23093" h="21600">
                <a:moveTo>
                  <a:pt x="23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3" y="20200"/>
                </a:lnTo>
                <a:close/>
              </a:path>
              <a:path fill="lighten" w="23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3" h="21600">
                <a:moveTo>
                  <a:pt x="11547" y="3837"/>
                </a:moveTo>
                <a:lnTo>
                  <a:pt x="14123" y="6448"/>
                </a:lnTo>
                <a:lnTo>
                  <a:pt x="14123" y="4707"/>
                </a:lnTo>
                <a:lnTo>
                  <a:pt x="15899" y="4707"/>
                </a:lnTo>
                <a:lnTo>
                  <a:pt x="15899" y="8224"/>
                </a:lnTo>
                <a:lnTo>
                  <a:pt x="18510" y="10800"/>
                </a:lnTo>
                <a:lnTo>
                  <a:pt x="16856" y="10800"/>
                </a:lnTo>
                <a:lnTo>
                  <a:pt x="16856" y="17989"/>
                </a:lnTo>
                <a:lnTo>
                  <a:pt x="6237" y="17989"/>
                </a:lnTo>
                <a:lnTo>
                  <a:pt x="6237" y="10800"/>
                </a:lnTo>
                <a:lnTo>
                  <a:pt x="4584" y="10800"/>
                </a:lnTo>
                <a:close/>
              </a:path>
              <a:path fill="darkenLess" w="23093" h="21600">
                <a:moveTo>
                  <a:pt x="14123" y="6448"/>
                </a:moveTo>
                <a:lnTo>
                  <a:pt x="14123" y="4707"/>
                </a:lnTo>
                <a:lnTo>
                  <a:pt x="15899" y="4707"/>
                </a:lnTo>
                <a:lnTo>
                  <a:pt x="15899" y="8224"/>
                </a:lnTo>
                <a:close/>
              </a:path>
              <a:path fill="darkenLess" w="23093" h="21600">
                <a:moveTo>
                  <a:pt x="10624" y="14299"/>
                </a:moveTo>
                <a:lnTo>
                  <a:pt x="12469" y="14299"/>
                </a:lnTo>
                <a:lnTo>
                  <a:pt x="12469" y="17989"/>
                </a:lnTo>
                <a:lnTo>
                  <a:pt x="16856" y="17989"/>
                </a:lnTo>
                <a:lnTo>
                  <a:pt x="16856" y="10800"/>
                </a:lnTo>
                <a:lnTo>
                  <a:pt x="6237" y="10800"/>
                </a:lnTo>
                <a:lnTo>
                  <a:pt x="6237" y="17989"/>
                </a:lnTo>
                <a:lnTo>
                  <a:pt x="10624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255600" y="1052640"/>
            <a:ext cx="760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Gibt es in eurer Schule _____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ssen Lesesa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399240" y="1268280"/>
            <a:ext cx="726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Die Arbeit _____ Fliegers is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cht leic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6"/>
          <p:cNvSpPr/>
          <p:nvPr/>
        </p:nvSpPr>
        <p:spPr>
          <a:xfrm>
            <a:off x="689400" y="1268280"/>
            <a:ext cx="740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Was willst du _____Freund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um Geburtstag schenk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6"/>
          <p:cNvSpPr/>
          <p:nvPr/>
        </p:nvSpPr>
        <p:spPr>
          <a:xfrm>
            <a:off x="474120" y="1268280"/>
            <a:ext cx="822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Ich 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öchte _____ auch einlade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6"/>
          <p:cNvSpPr/>
          <p:nvPr/>
        </p:nvSpPr>
        <p:spPr>
          <a:xfrm>
            <a:off x="689040" y="1268280"/>
            <a:ext cx="653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Ich habe zu Hause 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essantes Buc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6"/>
          <p:cNvSpPr/>
          <p:nvPr/>
        </p:nvSpPr>
        <p:spPr>
          <a:xfrm>
            <a:off x="688680" y="1268280"/>
            <a:ext cx="743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_____ Buch “50 Geschicht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m Alltag” ist nicht ne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6"/>
          <p:cNvSpPr/>
          <p:nvPr/>
        </p:nvSpPr>
        <p:spPr>
          <a:xfrm>
            <a:off x="687600" y="1268280"/>
            <a:ext cx="582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. Sein Bruder ist 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ckeyspieler von Beru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6"/>
          <p:cNvSpPr/>
          <p:nvPr/>
        </p:nvSpPr>
        <p:spPr>
          <a:xfrm>
            <a:off x="689040" y="1268280"/>
            <a:ext cx="715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. Ich habe _____ vergess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2"/>
          <p:cNvSpPr/>
          <p:nvPr/>
        </p:nvSpPr>
        <p:spPr>
          <a:xfrm>
            <a:off x="2771640" y="476280"/>
            <a:ext cx="3529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838080" y="20574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го заданий выполнено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838080" y="29718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полнено верно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7"/>
          <p:cNvSpPr/>
          <p:nvPr/>
        </p:nvSpPr>
        <p:spPr>
          <a:xfrm>
            <a:off x="838080" y="38862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цент выполнения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8"/>
          <p:cNvSpPr/>
          <p:nvPr/>
        </p:nvSpPr>
        <p:spPr>
          <a:xfrm>
            <a:off x="838080" y="48006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ценка…………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13"/>
          <p:cNvSpPr/>
          <p:nvPr/>
        </p:nvSpPr>
        <p:spPr>
          <a:xfrm>
            <a:off x="7956720" y="189000"/>
            <a:ext cx="1042920" cy="1008000"/>
          </a:xfrm>
          <a:custGeom>
            <a:avLst/>
            <a:gdLst>
              <a:gd name="textAreaLeft" fmla="*/ 65160 w 1042920"/>
              <a:gd name="textAreaRight" fmla="*/ 977760 w 104292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2348" h="21600">
                <a:moveTo>
                  <a:pt x="0" y="0"/>
                </a:moveTo>
                <a:lnTo>
                  <a:pt x="22348" y="0"/>
                </a:lnTo>
                <a:lnTo>
                  <a:pt x="22348" y="21600"/>
                </a:lnTo>
                <a:lnTo>
                  <a:pt x="0" y="21600"/>
                </a:lnTo>
                <a:close/>
              </a:path>
              <a:path fill="lightenLess" w="22348" h="21600">
                <a:moveTo>
                  <a:pt x="0" y="0"/>
                </a:moveTo>
                <a:lnTo>
                  <a:pt x="22348" y="0"/>
                </a:lnTo>
                <a:lnTo>
                  <a:pt x="20948" y="1400"/>
                </a:lnTo>
                <a:lnTo>
                  <a:pt x="1400" y="1400"/>
                </a:lnTo>
                <a:close/>
              </a:path>
              <a:path fill="darken" w="22348" h="21600">
                <a:moveTo>
                  <a:pt x="22348" y="0"/>
                </a:moveTo>
                <a:lnTo>
                  <a:pt x="22348" y="21600"/>
                </a:lnTo>
                <a:lnTo>
                  <a:pt x="20948" y="20200"/>
                </a:lnTo>
                <a:lnTo>
                  <a:pt x="20948" y="1400"/>
                </a:lnTo>
                <a:close/>
              </a:path>
              <a:path fill="darkenLess" w="22348" h="21600">
                <a:moveTo>
                  <a:pt x="22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48" y="20200"/>
                </a:lnTo>
                <a:close/>
              </a:path>
              <a:path fill="lighten" w="22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48" h="21600">
                <a:moveTo>
                  <a:pt x="11174" y="3837"/>
                </a:moveTo>
                <a:lnTo>
                  <a:pt x="13750" y="6448"/>
                </a:lnTo>
                <a:lnTo>
                  <a:pt x="13750" y="4707"/>
                </a:lnTo>
                <a:lnTo>
                  <a:pt x="15526" y="4707"/>
                </a:lnTo>
                <a:lnTo>
                  <a:pt x="15526" y="8224"/>
                </a:lnTo>
                <a:lnTo>
                  <a:pt x="18137" y="10800"/>
                </a:lnTo>
                <a:lnTo>
                  <a:pt x="16483" y="10800"/>
                </a:lnTo>
                <a:lnTo>
                  <a:pt x="16483" y="17989"/>
                </a:lnTo>
                <a:lnTo>
                  <a:pt x="5865" y="17989"/>
                </a:lnTo>
                <a:lnTo>
                  <a:pt x="5865" y="10800"/>
                </a:lnTo>
                <a:lnTo>
                  <a:pt x="4211" y="10800"/>
                </a:lnTo>
                <a:close/>
              </a:path>
              <a:path fill="darkenLess" w="22348" h="21600">
                <a:moveTo>
                  <a:pt x="13750" y="6448"/>
                </a:moveTo>
                <a:lnTo>
                  <a:pt x="13750" y="4707"/>
                </a:lnTo>
                <a:lnTo>
                  <a:pt x="15526" y="4707"/>
                </a:lnTo>
                <a:lnTo>
                  <a:pt x="15526" y="8224"/>
                </a:lnTo>
                <a:close/>
              </a:path>
              <a:path fill="darkenLess" w="22348" h="21600">
                <a:moveTo>
                  <a:pt x="10251" y="14299"/>
                </a:moveTo>
                <a:lnTo>
                  <a:pt x="12097" y="14299"/>
                </a:lnTo>
                <a:lnTo>
                  <a:pt x="12097" y="17989"/>
                </a:lnTo>
                <a:lnTo>
                  <a:pt x="16483" y="17989"/>
                </a:lnTo>
                <a:lnTo>
                  <a:pt x="16483" y="10800"/>
                </a:lnTo>
                <a:lnTo>
                  <a:pt x="5865" y="10800"/>
                </a:lnTo>
                <a:lnTo>
                  <a:pt x="5865" y="17989"/>
                </a:lnTo>
                <a:lnTo>
                  <a:pt x="10251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7"/>
          <p:cNvSpPr/>
          <p:nvPr/>
        </p:nvSpPr>
        <p:spPr>
          <a:xfrm>
            <a:off x="186480" y="1773360"/>
            <a:ext cx="8022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dieser Kinder arbei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lle am Betrieb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ножественное число существитель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разование мн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79280" y="1413000"/>
          <a:ext cx="8856720" cy="5368680"/>
        </p:xfrm>
        <a:graphic>
          <a:graphicData uri="http://schemas.openxmlformats.org/drawingml/2006/table">
            <a:tbl>
              <a:tblPr/>
              <a:tblGrid>
                <a:gridCol w="1871640"/>
                <a:gridCol w="1800360"/>
                <a:gridCol w="1728720"/>
                <a:gridCol w="1584360"/>
                <a:gridCol w="187164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ффиксы 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, -(e)n, 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er, -s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ез умляу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ффиксы 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, -er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ляут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ляут корневой гласн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 артик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способы  (у слов ин. происхож-дени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Tag - 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ie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ag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Frau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ie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rau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Kind - 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i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ind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Kino - 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ie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ino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Sohn - 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ie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ö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n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Buch - 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ie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ü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r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Vater - 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ie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ä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Fenster - 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ie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enst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zip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ie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zip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 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óktor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ie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t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ó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der Modus - 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ie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od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AutoShape 77">
            <a:hlinkClick r:id="rId1" action="ppaction://hlinksldjump"/>
          </p:cNvPr>
          <p:cNvSpPr/>
          <p:nvPr/>
        </p:nvSpPr>
        <p:spPr>
          <a:xfrm>
            <a:off x="8604360" y="0"/>
            <a:ext cx="539640" cy="504720"/>
          </a:xfrm>
          <a:custGeom>
            <a:avLst/>
            <a:gdLst>
              <a:gd name="textAreaLeft" fmla="*/ 32400 w 539640"/>
              <a:gd name="textAreaRight" fmla="*/ 507240 w 53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093" h="21600">
                <a:moveTo>
                  <a:pt x="0" y="0"/>
                </a:moveTo>
                <a:lnTo>
                  <a:pt x="23093" y="0"/>
                </a:lnTo>
                <a:lnTo>
                  <a:pt x="23093" y="21600"/>
                </a:lnTo>
                <a:lnTo>
                  <a:pt x="0" y="21600"/>
                </a:lnTo>
                <a:close/>
              </a:path>
              <a:path fill="lightenLess" w="23093" h="21600">
                <a:moveTo>
                  <a:pt x="0" y="0"/>
                </a:moveTo>
                <a:lnTo>
                  <a:pt x="23093" y="0"/>
                </a:lnTo>
                <a:lnTo>
                  <a:pt x="21693" y="1400"/>
                </a:lnTo>
                <a:lnTo>
                  <a:pt x="1400" y="1400"/>
                </a:lnTo>
                <a:close/>
              </a:path>
              <a:path fill="darken" w="23093" h="21600">
                <a:moveTo>
                  <a:pt x="23093" y="0"/>
                </a:moveTo>
                <a:lnTo>
                  <a:pt x="23093" y="21600"/>
                </a:lnTo>
                <a:lnTo>
                  <a:pt x="21693" y="20200"/>
                </a:lnTo>
                <a:lnTo>
                  <a:pt x="21693" y="1400"/>
                </a:lnTo>
                <a:close/>
              </a:path>
              <a:path fill="darkenLess" w="23093" h="21600">
                <a:moveTo>
                  <a:pt x="23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3" y="20200"/>
                </a:lnTo>
                <a:close/>
              </a:path>
              <a:path fill="lighten" w="23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3" h="21600">
                <a:moveTo>
                  <a:pt x="11547" y="3837"/>
                </a:moveTo>
                <a:lnTo>
                  <a:pt x="14123" y="6448"/>
                </a:lnTo>
                <a:lnTo>
                  <a:pt x="14123" y="4707"/>
                </a:lnTo>
                <a:lnTo>
                  <a:pt x="15899" y="4707"/>
                </a:lnTo>
                <a:lnTo>
                  <a:pt x="15899" y="8224"/>
                </a:lnTo>
                <a:lnTo>
                  <a:pt x="18510" y="10800"/>
                </a:lnTo>
                <a:lnTo>
                  <a:pt x="16856" y="10800"/>
                </a:lnTo>
                <a:lnTo>
                  <a:pt x="16856" y="17989"/>
                </a:lnTo>
                <a:lnTo>
                  <a:pt x="6237" y="17989"/>
                </a:lnTo>
                <a:lnTo>
                  <a:pt x="6237" y="10800"/>
                </a:lnTo>
                <a:lnTo>
                  <a:pt x="4584" y="10800"/>
                </a:lnTo>
                <a:close/>
              </a:path>
              <a:path fill="darkenLess" w="23093" h="21600">
                <a:moveTo>
                  <a:pt x="14123" y="6448"/>
                </a:moveTo>
                <a:lnTo>
                  <a:pt x="14123" y="4707"/>
                </a:lnTo>
                <a:lnTo>
                  <a:pt x="15899" y="4707"/>
                </a:lnTo>
                <a:lnTo>
                  <a:pt x="15899" y="8224"/>
                </a:lnTo>
                <a:close/>
              </a:path>
              <a:path fill="darkenLess" w="23093" h="21600">
                <a:moveTo>
                  <a:pt x="10624" y="14299"/>
                </a:moveTo>
                <a:lnTo>
                  <a:pt x="12469" y="14299"/>
                </a:lnTo>
                <a:lnTo>
                  <a:pt x="12469" y="17989"/>
                </a:lnTo>
                <a:lnTo>
                  <a:pt x="16856" y="17989"/>
                </a:lnTo>
                <a:lnTo>
                  <a:pt x="16856" y="10800"/>
                </a:lnTo>
                <a:lnTo>
                  <a:pt x="6237" y="10800"/>
                </a:lnTo>
                <a:lnTo>
                  <a:pt x="6237" y="17989"/>
                </a:lnTo>
                <a:lnTo>
                  <a:pt x="10624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258840" y="1197000"/>
            <a:ext cx="833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Unsere Wohnung hat vier _____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2"/>
          <p:cNvSpPr/>
          <p:nvPr/>
        </p:nvSpPr>
        <p:spPr>
          <a:xfrm>
            <a:off x="546120" y="620640"/>
            <a:ext cx="7119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Die meisten _____ 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Europäischen Union haben d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gemeinsame Währu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2"/>
          <p:cNvSpPr/>
          <p:nvPr/>
        </p:nvSpPr>
        <p:spPr>
          <a:xfrm>
            <a:off x="257760" y="1197000"/>
            <a:ext cx="8674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Ich mag es, wenn meine Mutter 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Wochenende _____ bäck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6"/>
          <p:cNvSpPr/>
          <p:nvPr/>
        </p:nvSpPr>
        <p:spPr>
          <a:xfrm>
            <a:off x="687960" y="1268280"/>
            <a:ext cx="698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_____ essen Nesseln nic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6"/>
          <p:cNvSpPr/>
          <p:nvPr/>
        </p:nvSpPr>
        <p:spPr>
          <a:xfrm>
            <a:off x="473760" y="1268280"/>
            <a:ext cx="681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Die _____ singen im Wal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6"/>
          <p:cNvSpPr/>
          <p:nvPr/>
        </p:nvSpPr>
        <p:spPr>
          <a:xfrm>
            <a:off x="687600" y="1268280"/>
            <a:ext cx="758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Mein Vater liesst viele _____ 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6"/>
          <p:cNvSpPr/>
          <p:nvPr/>
        </p:nvSpPr>
        <p:spPr>
          <a:xfrm>
            <a:off x="330840" y="1197000"/>
            <a:ext cx="848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Kleine und groβ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liegen 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Ufer des Fluss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6"/>
          <p:cNvSpPr/>
          <p:nvPr/>
        </p:nvSpPr>
        <p:spPr>
          <a:xfrm>
            <a:off x="400320" y="1197000"/>
            <a:ext cx="830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Alle mein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sind schmutzi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6"/>
          <p:cNvSpPr/>
          <p:nvPr/>
        </p:nvSpPr>
        <p:spPr>
          <a:xfrm>
            <a:off x="687960" y="1268280"/>
            <a:ext cx="785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Es ist Herbst. Di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fal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auf die Erd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2771640" y="476280"/>
            <a:ext cx="3529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838080" y="20574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го заданий выполнено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838080" y="29718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полнено верно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7"/>
          <p:cNvSpPr/>
          <p:nvPr/>
        </p:nvSpPr>
        <p:spPr>
          <a:xfrm>
            <a:off x="838080" y="38862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цент выполнения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8"/>
          <p:cNvSpPr/>
          <p:nvPr/>
        </p:nvSpPr>
        <p:spPr>
          <a:xfrm>
            <a:off x="838080" y="48006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ценка…………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13"/>
          <p:cNvSpPr/>
          <p:nvPr/>
        </p:nvSpPr>
        <p:spPr>
          <a:xfrm>
            <a:off x="8028000" y="115920"/>
            <a:ext cx="971640" cy="936720"/>
          </a:xfrm>
          <a:custGeom>
            <a:avLst/>
            <a:gdLst>
              <a:gd name="textAreaLeft" fmla="*/ 60480 w 971640"/>
              <a:gd name="textAreaRight" fmla="*/ 911160 w 971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22405" h="21600">
                <a:moveTo>
                  <a:pt x="0" y="0"/>
                </a:moveTo>
                <a:lnTo>
                  <a:pt x="22405" y="0"/>
                </a:lnTo>
                <a:lnTo>
                  <a:pt x="22405" y="21600"/>
                </a:lnTo>
                <a:lnTo>
                  <a:pt x="0" y="21600"/>
                </a:lnTo>
                <a:close/>
              </a:path>
              <a:path fill="lightenLess" w="22405" h="21600">
                <a:moveTo>
                  <a:pt x="0" y="0"/>
                </a:moveTo>
                <a:lnTo>
                  <a:pt x="22405" y="0"/>
                </a:lnTo>
                <a:lnTo>
                  <a:pt x="21005" y="1400"/>
                </a:lnTo>
                <a:lnTo>
                  <a:pt x="1400" y="1400"/>
                </a:lnTo>
                <a:close/>
              </a:path>
              <a:path fill="darken" w="22405" h="21600">
                <a:moveTo>
                  <a:pt x="22405" y="0"/>
                </a:moveTo>
                <a:lnTo>
                  <a:pt x="22405" y="21600"/>
                </a:lnTo>
                <a:lnTo>
                  <a:pt x="21005" y="20200"/>
                </a:lnTo>
                <a:lnTo>
                  <a:pt x="21005" y="1400"/>
                </a:lnTo>
                <a:close/>
              </a:path>
              <a:path fill="darkenLess" w="22405" h="21600">
                <a:moveTo>
                  <a:pt x="2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05" y="20200"/>
                </a:lnTo>
                <a:close/>
              </a:path>
              <a:path fill="lighten" w="2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05" h="21600">
                <a:moveTo>
                  <a:pt x="11202" y="3837"/>
                </a:moveTo>
                <a:lnTo>
                  <a:pt x="13779" y="6448"/>
                </a:lnTo>
                <a:lnTo>
                  <a:pt x="13779" y="4707"/>
                </a:lnTo>
                <a:lnTo>
                  <a:pt x="15554" y="4707"/>
                </a:lnTo>
                <a:lnTo>
                  <a:pt x="15554" y="8224"/>
                </a:lnTo>
                <a:lnTo>
                  <a:pt x="18165" y="10800"/>
                </a:lnTo>
                <a:lnTo>
                  <a:pt x="16512" y="10800"/>
                </a:lnTo>
                <a:lnTo>
                  <a:pt x="16512" y="17989"/>
                </a:lnTo>
                <a:lnTo>
                  <a:pt x="5893" y="17989"/>
                </a:lnTo>
                <a:lnTo>
                  <a:pt x="5893" y="10800"/>
                </a:lnTo>
                <a:lnTo>
                  <a:pt x="4239" y="10800"/>
                </a:lnTo>
                <a:close/>
              </a:path>
              <a:path fill="darkenLess" w="22405" h="21600">
                <a:moveTo>
                  <a:pt x="13779" y="6448"/>
                </a:moveTo>
                <a:lnTo>
                  <a:pt x="13779" y="4707"/>
                </a:lnTo>
                <a:lnTo>
                  <a:pt x="15554" y="4707"/>
                </a:lnTo>
                <a:lnTo>
                  <a:pt x="15554" y="8224"/>
                </a:lnTo>
                <a:close/>
              </a:path>
              <a:path fill="darkenLess" w="22405" h="21600">
                <a:moveTo>
                  <a:pt x="10280" y="14299"/>
                </a:moveTo>
                <a:lnTo>
                  <a:pt x="12125" y="14299"/>
                </a:lnTo>
                <a:lnTo>
                  <a:pt x="12125" y="17989"/>
                </a:lnTo>
                <a:lnTo>
                  <a:pt x="16512" y="17989"/>
                </a:lnTo>
                <a:lnTo>
                  <a:pt x="16512" y="10800"/>
                </a:lnTo>
                <a:lnTo>
                  <a:pt x="5893" y="10800"/>
                </a:lnTo>
                <a:lnTo>
                  <a:pt x="5893" y="17989"/>
                </a:lnTo>
                <a:lnTo>
                  <a:pt x="10280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ожественное числ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8000" y="1197000"/>
            <a:ext cx="8928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</a:t>
            </a: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  <a:hlinkClick r:id="rId1" action="ppaction://hlinksldjump"/>
              </a:rPr>
              <a:t>множественном числ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существительные склоняются одинаково: в дательном падеже они получают окончание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-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за исключением существительных, образующих множественное число при помощи суффиксо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79280" y="3573360"/>
          <a:ext cx="8785440" cy="3095640"/>
        </p:xfrm>
        <a:graphic>
          <a:graphicData uri="http://schemas.openxmlformats.org/drawingml/2006/table">
            <a:tbl>
              <a:tblPr/>
              <a:tblGrid>
                <a:gridCol w="1355760"/>
                <a:gridCol w="1668600"/>
                <a:gridCol w="2046240"/>
                <a:gridCol w="1857240"/>
                <a:gridCol w="1857600"/>
              </a:tblGrid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де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.ч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Tag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Büch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Fraue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Aut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ag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üch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raue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Aut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age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ücher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raue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Aut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k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Tag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Büch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Fraue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Aut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AutoShape 64">
            <a:hlinkClick r:id="rId2" action="ppaction://hlinksldjump"/>
          </p:cNvPr>
          <p:cNvSpPr/>
          <p:nvPr/>
        </p:nvSpPr>
        <p:spPr>
          <a:xfrm>
            <a:off x="8604360" y="0"/>
            <a:ext cx="539640" cy="504720"/>
          </a:xfrm>
          <a:custGeom>
            <a:avLst/>
            <a:gdLst>
              <a:gd name="textAreaLeft" fmla="*/ 32400 w 539640"/>
              <a:gd name="textAreaRight" fmla="*/ 507240 w 53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093" h="21600">
                <a:moveTo>
                  <a:pt x="0" y="0"/>
                </a:moveTo>
                <a:lnTo>
                  <a:pt x="23093" y="0"/>
                </a:lnTo>
                <a:lnTo>
                  <a:pt x="23093" y="21600"/>
                </a:lnTo>
                <a:lnTo>
                  <a:pt x="0" y="21600"/>
                </a:lnTo>
                <a:close/>
              </a:path>
              <a:path fill="lightenLess" w="23093" h="21600">
                <a:moveTo>
                  <a:pt x="0" y="0"/>
                </a:moveTo>
                <a:lnTo>
                  <a:pt x="23093" y="0"/>
                </a:lnTo>
                <a:lnTo>
                  <a:pt x="21693" y="1400"/>
                </a:lnTo>
                <a:lnTo>
                  <a:pt x="1400" y="1400"/>
                </a:lnTo>
                <a:close/>
              </a:path>
              <a:path fill="darken" w="23093" h="21600">
                <a:moveTo>
                  <a:pt x="23093" y="0"/>
                </a:moveTo>
                <a:lnTo>
                  <a:pt x="23093" y="21600"/>
                </a:lnTo>
                <a:lnTo>
                  <a:pt x="21693" y="20200"/>
                </a:lnTo>
                <a:lnTo>
                  <a:pt x="21693" y="1400"/>
                </a:lnTo>
                <a:close/>
              </a:path>
              <a:path fill="darkenLess" w="23093" h="21600">
                <a:moveTo>
                  <a:pt x="23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3" y="20200"/>
                </a:lnTo>
                <a:close/>
              </a:path>
              <a:path fill="lighten" w="23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3" h="21600">
                <a:moveTo>
                  <a:pt x="11547" y="3837"/>
                </a:moveTo>
                <a:lnTo>
                  <a:pt x="14123" y="6448"/>
                </a:lnTo>
                <a:lnTo>
                  <a:pt x="14123" y="4707"/>
                </a:lnTo>
                <a:lnTo>
                  <a:pt x="15899" y="4707"/>
                </a:lnTo>
                <a:lnTo>
                  <a:pt x="15899" y="8224"/>
                </a:lnTo>
                <a:lnTo>
                  <a:pt x="18510" y="10800"/>
                </a:lnTo>
                <a:lnTo>
                  <a:pt x="16856" y="10800"/>
                </a:lnTo>
                <a:lnTo>
                  <a:pt x="16856" y="17989"/>
                </a:lnTo>
                <a:lnTo>
                  <a:pt x="6237" y="17989"/>
                </a:lnTo>
                <a:lnTo>
                  <a:pt x="6237" y="10800"/>
                </a:lnTo>
                <a:lnTo>
                  <a:pt x="4584" y="10800"/>
                </a:lnTo>
                <a:close/>
              </a:path>
              <a:path fill="darkenLess" w="23093" h="21600">
                <a:moveTo>
                  <a:pt x="14123" y="6448"/>
                </a:moveTo>
                <a:lnTo>
                  <a:pt x="14123" y="4707"/>
                </a:lnTo>
                <a:lnTo>
                  <a:pt x="15899" y="4707"/>
                </a:lnTo>
                <a:lnTo>
                  <a:pt x="15899" y="8224"/>
                </a:lnTo>
                <a:close/>
              </a:path>
              <a:path fill="darkenLess" w="23093" h="21600">
                <a:moveTo>
                  <a:pt x="10624" y="14299"/>
                </a:moveTo>
                <a:lnTo>
                  <a:pt x="12469" y="14299"/>
                </a:lnTo>
                <a:lnTo>
                  <a:pt x="12469" y="17989"/>
                </a:lnTo>
                <a:lnTo>
                  <a:pt x="16856" y="17989"/>
                </a:lnTo>
                <a:lnTo>
                  <a:pt x="16856" y="10800"/>
                </a:lnTo>
                <a:lnTo>
                  <a:pt x="6237" y="10800"/>
                </a:lnTo>
                <a:lnTo>
                  <a:pt x="6237" y="17989"/>
                </a:lnTo>
                <a:lnTo>
                  <a:pt x="10624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7"/>
          <p:cNvSpPr/>
          <p:nvPr/>
        </p:nvSpPr>
        <p:spPr>
          <a:xfrm>
            <a:off x="187200" y="1413000"/>
            <a:ext cx="8791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Frankreich,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_____ 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ä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nemark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e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Niederlande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liegen an 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Grenze mit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Deutschla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78544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потребление и отсутствие артик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184680" y="836640"/>
            <a:ext cx="8796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 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vereinte Deutschland beste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us 16 Bundes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ä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nder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544680" y="907920"/>
            <a:ext cx="757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_____ 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Tee in meiner Tasse 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schon kal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2"/>
          <p:cNvSpPr/>
          <p:nvPr/>
        </p:nvSpPr>
        <p:spPr>
          <a:xfrm>
            <a:off x="330120" y="907920"/>
            <a:ext cx="856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_____ Wien, die Hauptstadt 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sterreichs, liegt an der sc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n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blauen Dona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6"/>
          <p:cNvSpPr/>
          <p:nvPr/>
        </p:nvSpPr>
        <p:spPr>
          <a:xfrm>
            <a:off x="689040" y="1268280"/>
            <a:ext cx="771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_____ kleine Hans ist ein gu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Sc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l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6"/>
          <p:cNvSpPr/>
          <p:nvPr/>
        </p:nvSpPr>
        <p:spPr>
          <a:xfrm>
            <a:off x="474840" y="1268280"/>
            <a:ext cx="689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Die Mutter bringt mir 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pfelkuchen und das Kaka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6"/>
          <p:cNvSpPr/>
          <p:nvPr/>
        </p:nvSpPr>
        <p:spPr>
          <a:xfrm>
            <a:off x="185760" y="907920"/>
            <a:ext cx="8788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_____ Dresden, eine der sc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ns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deutschen Städte, entstand im Jah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120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6"/>
          <p:cNvSpPr/>
          <p:nvPr/>
        </p:nvSpPr>
        <p:spPr>
          <a:xfrm>
            <a:off x="690480" y="1268280"/>
            <a:ext cx="813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Im Zoo gibt es _____ Löwen 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_____ Tig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6"/>
          <p:cNvSpPr/>
          <p:nvPr/>
        </p:nvSpPr>
        <p:spPr>
          <a:xfrm>
            <a:off x="186840" y="1197000"/>
            <a:ext cx="8812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Welche Halbinsel liegt an 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Nordküste _____ Schwarzen Mee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6"/>
          <p:cNvSpPr/>
          <p:nvPr/>
        </p:nvSpPr>
        <p:spPr>
          <a:xfrm>
            <a:off x="255960" y="1197000"/>
            <a:ext cx="853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Der Ural gilt als Grenze zwisch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____ Europa und _____ Asien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зделительный генити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трукция «разделительный генитив» соответствует русской конструкции с предлогом «из» в значении разделения (один из студентов, некоторые из книг и т.д.). Конструкция "разделительный генитив" состоит из местоимения (неопределенного или отрицательного: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eine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м.р.)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ein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ж.р.)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eine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р.р.) - "один",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einig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некоторые,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all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все,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viel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многие,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keine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м.р.)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keine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р.р.)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kein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ж.р. и мн.ч.) – никто, ни оди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существительного мн.ч. в родительном падеже. Местоимение может стоять в любом падеже. Местоиме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einer (-es, -e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keiner (-es, -e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клоняются как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Arial"/>
                <a:hlinkClick r:id="rId1" action="ppaction://hlinksldjump"/>
              </a:rPr>
              <a:t>определенный артик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еред существительным может стоять прилагательное в превосходной степ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08000" y="3938760"/>
          <a:ext cx="8928000" cy="2803320"/>
        </p:xfrm>
        <a:graphic>
          <a:graphicData uri="http://schemas.openxmlformats.org/drawingml/2006/table">
            <a:tbl>
              <a:tblPr/>
              <a:tblGrid>
                <a:gridCol w="4464000"/>
                <a:gridCol w="446400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iner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besten) Studente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дин из (лучших) студент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ines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größten) Werk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дин из (крупнейших) завод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ine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schönsten) Straße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дна из (красивейших) ули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 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iele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ein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reund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 многими из моих друзе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inige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lten Büch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 некоторых из старых кни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AutoShape 32">
            <a:hlinkClick r:id="rId2" action="ppaction://hlinksldjump"/>
          </p:cNvPr>
          <p:cNvSpPr/>
          <p:nvPr/>
        </p:nvSpPr>
        <p:spPr>
          <a:xfrm>
            <a:off x="8604360" y="0"/>
            <a:ext cx="539640" cy="504720"/>
          </a:xfrm>
          <a:custGeom>
            <a:avLst/>
            <a:gdLst>
              <a:gd name="textAreaLeft" fmla="*/ 32400 w 539640"/>
              <a:gd name="textAreaRight" fmla="*/ 507240 w 53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093" h="21600">
                <a:moveTo>
                  <a:pt x="0" y="0"/>
                </a:moveTo>
                <a:lnTo>
                  <a:pt x="23093" y="0"/>
                </a:lnTo>
                <a:lnTo>
                  <a:pt x="23093" y="21600"/>
                </a:lnTo>
                <a:lnTo>
                  <a:pt x="0" y="21600"/>
                </a:lnTo>
                <a:close/>
              </a:path>
              <a:path fill="lightenLess" w="23093" h="21600">
                <a:moveTo>
                  <a:pt x="0" y="0"/>
                </a:moveTo>
                <a:lnTo>
                  <a:pt x="23093" y="0"/>
                </a:lnTo>
                <a:lnTo>
                  <a:pt x="21693" y="1400"/>
                </a:lnTo>
                <a:lnTo>
                  <a:pt x="1400" y="1400"/>
                </a:lnTo>
                <a:close/>
              </a:path>
              <a:path fill="darken" w="23093" h="21600">
                <a:moveTo>
                  <a:pt x="23093" y="0"/>
                </a:moveTo>
                <a:lnTo>
                  <a:pt x="23093" y="21600"/>
                </a:lnTo>
                <a:lnTo>
                  <a:pt x="21693" y="20200"/>
                </a:lnTo>
                <a:lnTo>
                  <a:pt x="21693" y="1400"/>
                </a:lnTo>
                <a:close/>
              </a:path>
              <a:path fill="darkenLess" w="23093" h="21600">
                <a:moveTo>
                  <a:pt x="23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3" y="20200"/>
                </a:lnTo>
                <a:close/>
              </a:path>
              <a:path fill="lighten" w="23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3" h="21600">
                <a:moveTo>
                  <a:pt x="11547" y="3837"/>
                </a:moveTo>
                <a:lnTo>
                  <a:pt x="14123" y="6448"/>
                </a:lnTo>
                <a:lnTo>
                  <a:pt x="14123" y="4707"/>
                </a:lnTo>
                <a:lnTo>
                  <a:pt x="15899" y="4707"/>
                </a:lnTo>
                <a:lnTo>
                  <a:pt x="15899" y="8224"/>
                </a:lnTo>
                <a:lnTo>
                  <a:pt x="18510" y="10800"/>
                </a:lnTo>
                <a:lnTo>
                  <a:pt x="16856" y="10800"/>
                </a:lnTo>
                <a:lnTo>
                  <a:pt x="16856" y="17989"/>
                </a:lnTo>
                <a:lnTo>
                  <a:pt x="6237" y="17989"/>
                </a:lnTo>
                <a:lnTo>
                  <a:pt x="6237" y="10800"/>
                </a:lnTo>
                <a:lnTo>
                  <a:pt x="4584" y="10800"/>
                </a:lnTo>
                <a:close/>
              </a:path>
              <a:path fill="darkenLess" w="23093" h="21600">
                <a:moveTo>
                  <a:pt x="14123" y="6448"/>
                </a:moveTo>
                <a:lnTo>
                  <a:pt x="14123" y="4707"/>
                </a:lnTo>
                <a:lnTo>
                  <a:pt x="15899" y="4707"/>
                </a:lnTo>
                <a:lnTo>
                  <a:pt x="15899" y="8224"/>
                </a:lnTo>
                <a:close/>
              </a:path>
              <a:path fill="darkenLess" w="23093" h="21600">
                <a:moveTo>
                  <a:pt x="10624" y="14299"/>
                </a:moveTo>
                <a:lnTo>
                  <a:pt x="12469" y="14299"/>
                </a:lnTo>
                <a:lnTo>
                  <a:pt x="12469" y="17989"/>
                </a:lnTo>
                <a:lnTo>
                  <a:pt x="16856" y="17989"/>
                </a:lnTo>
                <a:lnTo>
                  <a:pt x="16856" y="10800"/>
                </a:lnTo>
                <a:lnTo>
                  <a:pt x="6237" y="10800"/>
                </a:lnTo>
                <a:lnTo>
                  <a:pt x="6237" y="17989"/>
                </a:lnTo>
                <a:lnTo>
                  <a:pt x="10624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2"/>
          <p:cNvSpPr/>
          <p:nvPr/>
        </p:nvSpPr>
        <p:spPr>
          <a:xfrm>
            <a:off x="2771640" y="476280"/>
            <a:ext cx="3529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3"/>
          <p:cNvSpPr/>
          <p:nvPr/>
        </p:nvSpPr>
        <p:spPr>
          <a:xfrm>
            <a:off x="838080" y="20574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го заданий выполнено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4"/>
          <p:cNvSpPr/>
          <p:nvPr/>
        </p:nvSpPr>
        <p:spPr>
          <a:xfrm>
            <a:off x="838080" y="29718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полнено верно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7"/>
          <p:cNvSpPr/>
          <p:nvPr/>
        </p:nvSpPr>
        <p:spPr>
          <a:xfrm>
            <a:off x="838080" y="38862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цент выполнения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8"/>
          <p:cNvSpPr/>
          <p:nvPr/>
        </p:nvSpPr>
        <p:spPr>
          <a:xfrm>
            <a:off x="838080" y="48006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ценка…………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13"/>
          <p:cNvSpPr/>
          <p:nvPr/>
        </p:nvSpPr>
        <p:spPr>
          <a:xfrm>
            <a:off x="7956720" y="115920"/>
            <a:ext cx="1042920" cy="1009440"/>
          </a:xfrm>
          <a:custGeom>
            <a:avLst/>
            <a:gdLst>
              <a:gd name="textAreaLeft" fmla="*/ 65160 w 1042920"/>
              <a:gd name="textAreaRight" fmla="*/ 977760 w 1042920"/>
              <a:gd name="textAreaTop" fmla="*/ 65160 h 1009440"/>
              <a:gd name="textAreaBottom" fmla="*/ 944280 h 1009440"/>
            </a:gdLst>
            <a:ahLst/>
            <a:rect l="textAreaLeft" t="textAreaTop" r="textAreaRight" b="textAreaBottom"/>
            <a:pathLst>
              <a:path w="22316" h="21600">
                <a:moveTo>
                  <a:pt x="0" y="0"/>
                </a:moveTo>
                <a:lnTo>
                  <a:pt x="22316" y="0"/>
                </a:lnTo>
                <a:lnTo>
                  <a:pt x="22316" y="21600"/>
                </a:lnTo>
                <a:lnTo>
                  <a:pt x="0" y="21600"/>
                </a:lnTo>
                <a:close/>
              </a:path>
              <a:path fill="lightenLess" w="22316" h="21600">
                <a:moveTo>
                  <a:pt x="0" y="0"/>
                </a:moveTo>
                <a:lnTo>
                  <a:pt x="22316" y="0"/>
                </a:lnTo>
                <a:lnTo>
                  <a:pt x="20916" y="1400"/>
                </a:lnTo>
                <a:lnTo>
                  <a:pt x="1400" y="1400"/>
                </a:lnTo>
                <a:close/>
              </a:path>
              <a:path fill="darken" w="22316" h="21600">
                <a:moveTo>
                  <a:pt x="22316" y="0"/>
                </a:moveTo>
                <a:lnTo>
                  <a:pt x="22316" y="21600"/>
                </a:lnTo>
                <a:lnTo>
                  <a:pt x="20916" y="20200"/>
                </a:lnTo>
                <a:lnTo>
                  <a:pt x="20916" y="1400"/>
                </a:lnTo>
                <a:close/>
              </a:path>
              <a:path fill="darkenLess" w="22316" h="21600">
                <a:moveTo>
                  <a:pt x="223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16" y="20200"/>
                </a:lnTo>
                <a:close/>
              </a:path>
              <a:path fill="lighten" w="223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316" h="21600">
                <a:moveTo>
                  <a:pt x="11158" y="3837"/>
                </a:moveTo>
                <a:lnTo>
                  <a:pt x="13734" y="6448"/>
                </a:lnTo>
                <a:lnTo>
                  <a:pt x="13734" y="4707"/>
                </a:lnTo>
                <a:lnTo>
                  <a:pt x="15510" y="4707"/>
                </a:lnTo>
                <a:lnTo>
                  <a:pt x="15510" y="8224"/>
                </a:lnTo>
                <a:lnTo>
                  <a:pt x="18121" y="10800"/>
                </a:lnTo>
                <a:lnTo>
                  <a:pt x="16467" y="10800"/>
                </a:lnTo>
                <a:lnTo>
                  <a:pt x="16467" y="17989"/>
                </a:lnTo>
                <a:lnTo>
                  <a:pt x="5849" y="17989"/>
                </a:lnTo>
                <a:lnTo>
                  <a:pt x="5849" y="10800"/>
                </a:lnTo>
                <a:lnTo>
                  <a:pt x="4195" y="10800"/>
                </a:lnTo>
                <a:close/>
              </a:path>
              <a:path fill="darkenLess" w="22316" h="21600">
                <a:moveTo>
                  <a:pt x="13734" y="6448"/>
                </a:moveTo>
                <a:lnTo>
                  <a:pt x="13734" y="4707"/>
                </a:lnTo>
                <a:lnTo>
                  <a:pt x="15510" y="4707"/>
                </a:lnTo>
                <a:lnTo>
                  <a:pt x="15510" y="8224"/>
                </a:lnTo>
                <a:close/>
              </a:path>
              <a:path fill="darkenLess" w="22316" h="21600">
                <a:moveTo>
                  <a:pt x="10235" y="14299"/>
                </a:moveTo>
                <a:lnTo>
                  <a:pt x="12081" y="14299"/>
                </a:lnTo>
                <a:lnTo>
                  <a:pt x="12081" y="17989"/>
                </a:lnTo>
                <a:lnTo>
                  <a:pt x="16467" y="17989"/>
                </a:lnTo>
                <a:lnTo>
                  <a:pt x="16467" y="10800"/>
                </a:lnTo>
                <a:lnTo>
                  <a:pt x="5849" y="10800"/>
                </a:lnTo>
                <a:lnTo>
                  <a:pt x="5849" y="17989"/>
                </a:lnTo>
                <a:lnTo>
                  <a:pt x="10235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сты по теме «Глагол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вратные глаг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мена акт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мена пасси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7"/>
          <p:cNvSpPr/>
          <p:nvPr/>
        </p:nvSpPr>
        <p:spPr>
          <a:xfrm>
            <a:off x="545040" y="1484280"/>
            <a:ext cx="7178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 sollen wir _____ treff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der Stad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звратные глаго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2"/>
          <p:cNvSpPr/>
          <p:nvPr/>
        </p:nvSpPr>
        <p:spPr>
          <a:xfrm>
            <a:off x="258840" y="1197000"/>
            <a:ext cx="83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r kann _____ nicht mehr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änder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2"/>
          <p:cNvSpPr/>
          <p:nvPr/>
        </p:nvSpPr>
        <p:spPr>
          <a:xfrm>
            <a:off x="257040" y="1052640"/>
            <a:ext cx="627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Kommt ihr also morg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freue _____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2"/>
          <p:cNvSpPr/>
          <p:nvPr/>
        </p:nvSpPr>
        <p:spPr>
          <a:xfrm>
            <a:off x="399960" y="1268280"/>
            <a:ext cx="7518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Das Kind 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ürchtet _____ alle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zu Haus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6"/>
          <p:cNvSpPr/>
          <p:nvPr/>
        </p:nvSpPr>
        <p:spPr>
          <a:xfrm>
            <a:off x="690120" y="1268280"/>
            <a:ext cx="723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Eva und Dieter wollen 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enn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6"/>
          <p:cNvSpPr/>
          <p:nvPr/>
        </p:nvSpPr>
        <p:spPr>
          <a:xfrm>
            <a:off x="189000" y="1268280"/>
            <a:ext cx="875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Warum wundert ihr _____ da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üb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6"/>
          <p:cNvSpPr/>
          <p:nvPr/>
        </p:nvSpPr>
        <p:spPr>
          <a:xfrm>
            <a:off x="688680" y="1268280"/>
            <a:ext cx="783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Otto besc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äftigt _____ gern m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em Basteln von Flugzeuge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6"/>
          <p:cNvSpPr/>
          <p:nvPr/>
        </p:nvSpPr>
        <p:spPr>
          <a:xfrm>
            <a:off x="688320" y="1268280"/>
            <a:ext cx="650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Interessierst du _____ 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ü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ediz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од существитель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ществительные в немецком языке, как и в русском, имеют категорию рода - мужского, женского или среднего. При этом род существительных в немецком и русском языках часто не совпада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.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das Hau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ср. род)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муж. род). Поэтому существительные необходимо заучивать с </a:t>
            </a:r>
            <a:r>
              <a:rPr b="0" lang="ru-RU" sz="1800" spc="-1" strike="noStrike" u="sng">
                <a:solidFill>
                  <a:srgbClr val="cc3300"/>
                </a:solidFill>
                <a:uFillTx/>
                <a:latin typeface="Arial"/>
                <a:hlinkClick r:id="rId1" action="ppaction://hlinksldjump"/>
              </a:rPr>
              <a:t>артикл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ый и указывает род существительного. Запоминание рода существительных часто вызывает трудности, однако многие существительные имеют некоторые признаки, которые помогают определить род этих существительных. Род существительных можно определ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значению сло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способу словообразования (по форме сло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6"/>
          <p:cNvSpPr/>
          <p:nvPr/>
        </p:nvSpPr>
        <p:spPr>
          <a:xfrm>
            <a:off x="2124000" y="4797360"/>
            <a:ext cx="914400" cy="914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.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7"/>
          <p:cNvSpPr/>
          <p:nvPr/>
        </p:nvSpPr>
        <p:spPr>
          <a:xfrm>
            <a:off x="4211640" y="4797360"/>
            <a:ext cx="914400" cy="914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.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8"/>
          <p:cNvSpPr/>
          <p:nvPr/>
        </p:nvSpPr>
        <p:spPr>
          <a:xfrm>
            <a:off x="6227640" y="4797360"/>
            <a:ext cx="914400" cy="914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.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1"/>
          <p:cNvSpPr/>
          <p:nvPr/>
        </p:nvSpPr>
        <p:spPr>
          <a:xfrm rot="19320000">
            <a:off x="1547640" y="5660640"/>
            <a:ext cx="760680" cy="142920"/>
          </a:xfrm>
          <a:prstGeom prst="leftArrow">
            <a:avLst>
              <a:gd name="adj1" fmla="val 50000"/>
              <a:gd name="adj2" fmla="val 13306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2"/>
          <p:cNvSpPr/>
          <p:nvPr/>
        </p:nvSpPr>
        <p:spPr>
          <a:xfrm rot="2134200">
            <a:off x="1547280" y="4652640"/>
            <a:ext cx="760680" cy="165240"/>
          </a:xfrm>
          <a:prstGeom prst="leftArrow">
            <a:avLst>
              <a:gd name="adj1" fmla="val 50000"/>
              <a:gd name="adj2" fmla="val 11508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3"/>
          <p:cNvSpPr/>
          <p:nvPr/>
        </p:nvSpPr>
        <p:spPr>
          <a:xfrm rot="2210400">
            <a:off x="6948000" y="5660640"/>
            <a:ext cx="720720" cy="152280"/>
          </a:xfrm>
          <a:prstGeom prst="rightArrow">
            <a:avLst>
              <a:gd name="adj1" fmla="val 50000"/>
              <a:gd name="adj2" fmla="val 11832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4"/>
          <p:cNvSpPr/>
          <p:nvPr/>
        </p:nvSpPr>
        <p:spPr>
          <a:xfrm rot="19451400">
            <a:off x="6948000" y="4652640"/>
            <a:ext cx="738360" cy="139680"/>
          </a:xfrm>
          <a:prstGeom prst="rightArrow">
            <a:avLst>
              <a:gd name="adj1" fmla="val 50000"/>
              <a:gd name="adj2" fmla="val 13215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5"/>
          <p:cNvSpPr/>
          <p:nvPr/>
        </p:nvSpPr>
        <p:spPr>
          <a:xfrm>
            <a:off x="4572000" y="4149720"/>
            <a:ext cx="144360" cy="687240"/>
          </a:xfrm>
          <a:prstGeom prst="upArrow">
            <a:avLst>
              <a:gd name="adj1" fmla="val 50000"/>
              <a:gd name="adj2" fmla="val 11901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6"/>
          <p:cNvSpPr/>
          <p:nvPr/>
        </p:nvSpPr>
        <p:spPr>
          <a:xfrm>
            <a:off x="4572000" y="5661000"/>
            <a:ext cx="144360" cy="720720"/>
          </a:xfrm>
          <a:prstGeom prst="downArrow">
            <a:avLst>
              <a:gd name="adj1" fmla="val 50000"/>
              <a:gd name="adj2" fmla="val 12481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8"/>
          <p:cNvSpPr/>
          <p:nvPr/>
        </p:nvSpPr>
        <p:spPr>
          <a:xfrm>
            <a:off x="181080" y="407664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Arial"/>
                <a:hlinkClick r:id="rId2" action="ppaction://hlinksldjump"/>
              </a:rPr>
              <a:t>по знач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9"/>
          <p:cNvSpPr/>
          <p:nvPr/>
        </p:nvSpPr>
        <p:spPr>
          <a:xfrm>
            <a:off x="3926160" y="378936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Arial"/>
                <a:hlinkClick r:id="rId3" action="ppaction://hlinksldjump"/>
              </a:rPr>
              <a:t>по знач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0"/>
          <p:cNvSpPr/>
          <p:nvPr/>
        </p:nvSpPr>
        <p:spPr>
          <a:xfrm>
            <a:off x="7453440" y="407664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Arial"/>
                <a:hlinkClick r:id="rId4" action="ppaction://hlinksldjump"/>
              </a:rPr>
              <a:t>по знач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1"/>
          <p:cNvSpPr/>
          <p:nvPr/>
        </p:nvSpPr>
        <p:spPr>
          <a:xfrm>
            <a:off x="253440" y="602136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Arial"/>
                <a:hlinkClick r:id="rId5" action="ppaction://hlinksldjump"/>
              </a:rPr>
              <a:t>по фор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4067280" y="6381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Arial"/>
                <a:hlinkClick r:id="rId6" action="ppaction://hlinksldjump"/>
              </a:rPr>
              <a:t>по фор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3"/>
          <p:cNvSpPr/>
          <p:nvPr/>
        </p:nvSpPr>
        <p:spPr>
          <a:xfrm>
            <a:off x="7670160" y="602136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3300"/>
                </a:solidFill>
                <a:uFillTx/>
                <a:latin typeface="Arial"/>
                <a:hlinkClick r:id="rId7" action="ppaction://hlinksldjump"/>
              </a:rPr>
              <a:t>по фор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4">
            <a:hlinkClick r:id="rId8" action="ppaction://hlinksldjump"/>
          </p:cNvPr>
          <p:cNvSpPr/>
          <p:nvPr/>
        </p:nvSpPr>
        <p:spPr>
          <a:xfrm>
            <a:off x="8604360" y="0"/>
            <a:ext cx="539640" cy="504720"/>
          </a:xfrm>
          <a:custGeom>
            <a:avLst/>
            <a:gdLst>
              <a:gd name="textAreaLeft" fmla="*/ 32400 w 539640"/>
              <a:gd name="textAreaRight" fmla="*/ 507240 w 53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093" h="21600">
                <a:moveTo>
                  <a:pt x="0" y="0"/>
                </a:moveTo>
                <a:lnTo>
                  <a:pt x="23093" y="0"/>
                </a:lnTo>
                <a:lnTo>
                  <a:pt x="23093" y="21600"/>
                </a:lnTo>
                <a:lnTo>
                  <a:pt x="0" y="21600"/>
                </a:lnTo>
                <a:close/>
              </a:path>
              <a:path fill="lightenLess" w="23093" h="21600">
                <a:moveTo>
                  <a:pt x="0" y="0"/>
                </a:moveTo>
                <a:lnTo>
                  <a:pt x="23093" y="0"/>
                </a:lnTo>
                <a:lnTo>
                  <a:pt x="21693" y="1400"/>
                </a:lnTo>
                <a:lnTo>
                  <a:pt x="1400" y="1400"/>
                </a:lnTo>
                <a:close/>
              </a:path>
              <a:path fill="darken" w="23093" h="21600">
                <a:moveTo>
                  <a:pt x="23093" y="0"/>
                </a:moveTo>
                <a:lnTo>
                  <a:pt x="23093" y="21600"/>
                </a:lnTo>
                <a:lnTo>
                  <a:pt x="21693" y="20200"/>
                </a:lnTo>
                <a:lnTo>
                  <a:pt x="21693" y="1400"/>
                </a:lnTo>
                <a:close/>
              </a:path>
              <a:path fill="darkenLess" w="23093" h="21600">
                <a:moveTo>
                  <a:pt x="23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3" y="20200"/>
                </a:lnTo>
                <a:close/>
              </a:path>
              <a:path fill="lighten" w="23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3" h="21600">
                <a:moveTo>
                  <a:pt x="11547" y="3837"/>
                </a:moveTo>
                <a:lnTo>
                  <a:pt x="14123" y="6448"/>
                </a:lnTo>
                <a:lnTo>
                  <a:pt x="14123" y="4707"/>
                </a:lnTo>
                <a:lnTo>
                  <a:pt x="15899" y="4707"/>
                </a:lnTo>
                <a:lnTo>
                  <a:pt x="15899" y="8224"/>
                </a:lnTo>
                <a:lnTo>
                  <a:pt x="18510" y="10800"/>
                </a:lnTo>
                <a:lnTo>
                  <a:pt x="16856" y="10800"/>
                </a:lnTo>
                <a:lnTo>
                  <a:pt x="16856" y="17989"/>
                </a:lnTo>
                <a:lnTo>
                  <a:pt x="6237" y="17989"/>
                </a:lnTo>
                <a:lnTo>
                  <a:pt x="6237" y="10800"/>
                </a:lnTo>
                <a:lnTo>
                  <a:pt x="4584" y="10800"/>
                </a:lnTo>
                <a:close/>
              </a:path>
              <a:path fill="darkenLess" w="23093" h="21600">
                <a:moveTo>
                  <a:pt x="14123" y="6448"/>
                </a:moveTo>
                <a:lnTo>
                  <a:pt x="14123" y="4707"/>
                </a:lnTo>
                <a:lnTo>
                  <a:pt x="15899" y="4707"/>
                </a:lnTo>
                <a:lnTo>
                  <a:pt x="15899" y="8224"/>
                </a:lnTo>
                <a:close/>
              </a:path>
              <a:path fill="darkenLess" w="23093" h="21600">
                <a:moveTo>
                  <a:pt x="10624" y="14299"/>
                </a:moveTo>
                <a:lnTo>
                  <a:pt x="12469" y="14299"/>
                </a:lnTo>
                <a:lnTo>
                  <a:pt x="12469" y="17989"/>
                </a:lnTo>
                <a:lnTo>
                  <a:pt x="16856" y="17989"/>
                </a:lnTo>
                <a:lnTo>
                  <a:pt x="16856" y="10800"/>
                </a:lnTo>
                <a:lnTo>
                  <a:pt x="6237" y="10800"/>
                </a:lnTo>
                <a:lnTo>
                  <a:pt x="6237" y="17989"/>
                </a:lnTo>
                <a:lnTo>
                  <a:pt x="10624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6"/>
          <p:cNvSpPr/>
          <p:nvPr/>
        </p:nvSpPr>
        <p:spPr>
          <a:xfrm>
            <a:off x="690120" y="1268280"/>
            <a:ext cx="751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. Wie 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ühlt _____ deine Mut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6"/>
          <p:cNvSpPr/>
          <p:nvPr/>
        </p:nvSpPr>
        <p:spPr>
          <a:xfrm>
            <a:off x="688680" y="1268280"/>
            <a:ext cx="732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. Danach setzte ich _____ 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n Tisc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2"/>
          <p:cNvSpPr/>
          <p:nvPr/>
        </p:nvSpPr>
        <p:spPr>
          <a:xfrm>
            <a:off x="2843280" y="476280"/>
            <a:ext cx="33843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3"/>
          <p:cNvSpPr/>
          <p:nvPr/>
        </p:nvSpPr>
        <p:spPr>
          <a:xfrm>
            <a:off x="838080" y="20574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го заданий выполнено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838080" y="29718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полнено верно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7"/>
          <p:cNvSpPr/>
          <p:nvPr/>
        </p:nvSpPr>
        <p:spPr>
          <a:xfrm>
            <a:off x="838080" y="38862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цент выполнения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8"/>
          <p:cNvSpPr/>
          <p:nvPr/>
        </p:nvSpPr>
        <p:spPr>
          <a:xfrm>
            <a:off x="838080" y="48006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ценка…………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13"/>
          <p:cNvSpPr/>
          <p:nvPr/>
        </p:nvSpPr>
        <p:spPr>
          <a:xfrm>
            <a:off x="7956720" y="18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7"/>
          <p:cNvSpPr/>
          <p:nvPr/>
        </p:nvSpPr>
        <p:spPr>
          <a:xfrm>
            <a:off x="547560" y="148428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ge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eh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ch zu meiner Om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ремена акти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2"/>
          <p:cNvSpPr/>
          <p:nvPr/>
        </p:nvSpPr>
        <p:spPr>
          <a:xfrm>
            <a:off x="260280" y="1197000"/>
            <a:ext cx="80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egegne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dem 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ädchen e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rmer Man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2"/>
          <p:cNvSpPr/>
          <p:nvPr/>
        </p:nvSpPr>
        <p:spPr>
          <a:xfrm>
            <a:off x="255240" y="1052640"/>
            <a:ext cx="6980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i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ie in den Ferien n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Österreich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efahre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2"/>
          <p:cNvSpPr/>
          <p:nvPr/>
        </p:nvSpPr>
        <p:spPr>
          <a:xfrm>
            <a:off x="401040" y="1268280"/>
            <a:ext cx="833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Zu Mittag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erde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hr in der Sch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sse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6"/>
          <p:cNvSpPr/>
          <p:nvPr/>
        </p:nvSpPr>
        <p:spPr>
          <a:xfrm>
            <a:off x="688320" y="1268280"/>
            <a:ext cx="670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Ich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ab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den Brief geste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ekomme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6"/>
          <p:cNvSpPr/>
          <p:nvPr/>
        </p:nvSpPr>
        <p:spPr>
          <a:xfrm>
            <a:off x="474480" y="126828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Am Aben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are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ir im Konzer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6"/>
          <p:cNvSpPr/>
          <p:nvPr/>
        </p:nvSpPr>
        <p:spPr>
          <a:xfrm>
            <a:off x="689400" y="1268280"/>
            <a:ext cx="763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Nach dem Unterricht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oll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n Schulleiter sprech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ущ. м.р. (по значению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79280" y="836640"/>
          <a:ext cx="8856720" cy="5905440"/>
        </p:xfrm>
        <a:graphic>
          <a:graphicData uri="http://schemas.openxmlformats.org/drawingml/2006/table">
            <a:tbl>
              <a:tblPr/>
              <a:tblGrid>
                <a:gridCol w="2952720"/>
                <a:gridCol w="2951280"/>
                <a:gridCol w="2952720"/>
              </a:tblGrid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ключ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ц мужского по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Mann 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жчин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отных мужского по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B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är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медвед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рон све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Norden (север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ен год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Sommer (лет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яце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Januar (январ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й недел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Montag (понедельник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ени суто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Morgen (утр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Nacht (ноч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адк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Regen (дожд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ерал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Granit (грани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мн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Rubin (рубин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Harz (Гарц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зе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Baikal (Байкал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ртных напитк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Wodka (водк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ых единиц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Euro (евр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Kopeke (копейка), die Krone (крона)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Mark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марк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бесных свети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Mond -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у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Venus -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не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AutoShape 147">
            <a:hlinkClick r:id="rId1" action="ppaction://hlinksldjump"/>
          </p:cNvPr>
          <p:cNvSpPr/>
          <p:nvPr/>
        </p:nvSpPr>
        <p:spPr>
          <a:xfrm>
            <a:off x="8604360" y="0"/>
            <a:ext cx="539640" cy="504720"/>
          </a:xfrm>
          <a:custGeom>
            <a:avLst/>
            <a:gdLst>
              <a:gd name="textAreaLeft" fmla="*/ 32400 w 539640"/>
              <a:gd name="textAreaRight" fmla="*/ 507240 w 53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093" h="21600">
                <a:moveTo>
                  <a:pt x="0" y="0"/>
                </a:moveTo>
                <a:lnTo>
                  <a:pt x="23093" y="0"/>
                </a:lnTo>
                <a:lnTo>
                  <a:pt x="23093" y="21600"/>
                </a:lnTo>
                <a:lnTo>
                  <a:pt x="0" y="21600"/>
                </a:lnTo>
                <a:close/>
              </a:path>
              <a:path fill="lightenLess" w="23093" h="21600">
                <a:moveTo>
                  <a:pt x="0" y="0"/>
                </a:moveTo>
                <a:lnTo>
                  <a:pt x="23093" y="0"/>
                </a:lnTo>
                <a:lnTo>
                  <a:pt x="21693" y="1400"/>
                </a:lnTo>
                <a:lnTo>
                  <a:pt x="1400" y="1400"/>
                </a:lnTo>
                <a:close/>
              </a:path>
              <a:path fill="darken" w="23093" h="21600">
                <a:moveTo>
                  <a:pt x="23093" y="0"/>
                </a:moveTo>
                <a:lnTo>
                  <a:pt x="23093" y="21600"/>
                </a:lnTo>
                <a:lnTo>
                  <a:pt x="21693" y="20200"/>
                </a:lnTo>
                <a:lnTo>
                  <a:pt x="21693" y="1400"/>
                </a:lnTo>
                <a:close/>
              </a:path>
              <a:path fill="darkenLess" w="23093" h="21600">
                <a:moveTo>
                  <a:pt x="23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3" y="20200"/>
                </a:lnTo>
                <a:close/>
              </a:path>
              <a:path fill="lighten" w="23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3" h="21600">
                <a:moveTo>
                  <a:pt x="11547" y="3837"/>
                </a:moveTo>
                <a:lnTo>
                  <a:pt x="14123" y="6448"/>
                </a:lnTo>
                <a:lnTo>
                  <a:pt x="14123" y="4707"/>
                </a:lnTo>
                <a:lnTo>
                  <a:pt x="15899" y="4707"/>
                </a:lnTo>
                <a:lnTo>
                  <a:pt x="15899" y="8224"/>
                </a:lnTo>
                <a:lnTo>
                  <a:pt x="18510" y="10800"/>
                </a:lnTo>
                <a:lnTo>
                  <a:pt x="16856" y="10800"/>
                </a:lnTo>
                <a:lnTo>
                  <a:pt x="16856" y="17989"/>
                </a:lnTo>
                <a:lnTo>
                  <a:pt x="6237" y="17989"/>
                </a:lnTo>
                <a:lnTo>
                  <a:pt x="6237" y="10800"/>
                </a:lnTo>
                <a:lnTo>
                  <a:pt x="4584" y="10800"/>
                </a:lnTo>
                <a:close/>
              </a:path>
              <a:path fill="darkenLess" w="23093" h="21600">
                <a:moveTo>
                  <a:pt x="14123" y="6448"/>
                </a:moveTo>
                <a:lnTo>
                  <a:pt x="14123" y="4707"/>
                </a:lnTo>
                <a:lnTo>
                  <a:pt x="15899" y="4707"/>
                </a:lnTo>
                <a:lnTo>
                  <a:pt x="15899" y="8224"/>
                </a:lnTo>
                <a:close/>
              </a:path>
              <a:path fill="darkenLess" w="23093" h="21600">
                <a:moveTo>
                  <a:pt x="10624" y="14299"/>
                </a:moveTo>
                <a:lnTo>
                  <a:pt x="12469" y="14299"/>
                </a:lnTo>
                <a:lnTo>
                  <a:pt x="12469" y="17989"/>
                </a:lnTo>
                <a:lnTo>
                  <a:pt x="16856" y="17989"/>
                </a:lnTo>
                <a:lnTo>
                  <a:pt x="16856" y="10800"/>
                </a:lnTo>
                <a:lnTo>
                  <a:pt x="6237" y="10800"/>
                </a:lnTo>
                <a:lnTo>
                  <a:pt x="6237" y="17989"/>
                </a:lnTo>
                <a:lnTo>
                  <a:pt x="10624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6"/>
          <p:cNvSpPr/>
          <p:nvPr/>
        </p:nvSpPr>
        <p:spPr>
          <a:xfrm>
            <a:off x="688680" y="1268280"/>
            <a:ext cx="675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Si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a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m Mai Geburtsta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6"/>
          <p:cNvSpPr/>
          <p:nvPr/>
        </p:nvSpPr>
        <p:spPr>
          <a:xfrm>
            <a:off x="687960" y="1268280"/>
            <a:ext cx="816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. Jetzt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i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er seine Arbeit mach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6"/>
          <p:cNvSpPr/>
          <p:nvPr/>
        </p:nvSpPr>
        <p:spPr>
          <a:xfrm>
            <a:off x="473400" y="1268280"/>
            <a:ext cx="831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. Ich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i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heute f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üh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ufgestande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2"/>
          <p:cNvSpPr/>
          <p:nvPr/>
        </p:nvSpPr>
        <p:spPr>
          <a:xfrm>
            <a:off x="2843280" y="476280"/>
            <a:ext cx="33843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3"/>
          <p:cNvSpPr/>
          <p:nvPr/>
        </p:nvSpPr>
        <p:spPr>
          <a:xfrm>
            <a:off x="838080" y="20574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го заданий выполнено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838080" y="29718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полнено верно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7"/>
          <p:cNvSpPr/>
          <p:nvPr/>
        </p:nvSpPr>
        <p:spPr>
          <a:xfrm>
            <a:off x="838080" y="38862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цент выполнения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8"/>
          <p:cNvSpPr/>
          <p:nvPr/>
        </p:nvSpPr>
        <p:spPr>
          <a:xfrm>
            <a:off x="838080" y="48006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ценка…………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13"/>
          <p:cNvSpPr/>
          <p:nvPr/>
        </p:nvSpPr>
        <p:spPr>
          <a:xfrm>
            <a:off x="7956720" y="18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 Box 7"/>
          <p:cNvSpPr/>
          <p:nvPr/>
        </p:nvSpPr>
        <p:spPr>
          <a:xfrm>
            <a:off x="544320" y="1484280"/>
            <a:ext cx="748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ir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ahrscheinlich in zw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che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epr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üf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ремена пасси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2"/>
          <p:cNvSpPr/>
          <p:nvPr/>
        </p:nvSpPr>
        <p:spPr>
          <a:xfrm>
            <a:off x="257400" y="1197000"/>
            <a:ext cx="71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e Touriste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i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von ihr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iseleit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formiert worde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2"/>
          <p:cNvSpPr/>
          <p:nvPr/>
        </p:nvSpPr>
        <p:spPr>
          <a:xfrm>
            <a:off x="255960" y="1052640"/>
            <a:ext cx="765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Noch ni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a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o viel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esu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orde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400680" y="1268280"/>
            <a:ext cx="7404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Das Gesc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äft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ir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um 16 Uh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eschlosse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6"/>
          <p:cNvSpPr/>
          <p:nvPr/>
        </p:nvSpPr>
        <p:spPr>
          <a:xfrm>
            <a:off x="688680" y="1268280"/>
            <a:ext cx="658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Wa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ir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m Text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esag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6"/>
          <p:cNvSpPr/>
          <p:nvPr/>
        </p:nvSpPr>
        <p:spPr>
          <a:xfrm>
            <a:off x="473400" y="1268280"/>
            <a:ext cx="780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Innsbruck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ir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ls “Innspruch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87 zum erstenmal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rw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äh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ущ. м.р. (по форм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79280" y="981000"/>
          <a:ext cx="8785440" cy="5761080"/>
        </p:xfrm>
        <a:graphic>
          <a:graphicData uri="http://schemas.openxmlformats.org/drawingml/2006/table">
            <a:tbl>
              <a:tblPr/>
              <a:tblGrid>
                <a:gridCol w="2927520"/>
                <a:gridCol w="2930400"/>
                <a:gridCol w="2927520"/>
              </a:tblGrid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ествит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ч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суффиксам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er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ler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ner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ling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Fahr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r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Sport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ler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Gärt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r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Lehr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ling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Fuch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следует путать суффикс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r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 производных существительных со словами, корень которых заканчивается на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r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Mutter, die Tochter, das Fenster, die Feder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остранные слова (в основном, одушевлённые) с суффиксам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ent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ant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ist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et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ot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at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soph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nom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graph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eur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ier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ar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är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or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Stud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t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Labor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t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Publiz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st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Po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t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Pil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ot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Kandid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t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Philo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oph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Astro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om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Photo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raph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Ingeni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ur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Pion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er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Jubil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r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Sekret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är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Dokt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o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душевленные существительные с суффиксам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nt, -at, -et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огут быть мужского и среднего рода: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Kontinent - das Patent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Apparat - das Referat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Planet - das Alphab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ные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корня глаголов без суффикс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иногда с изменением корневой гласно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G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т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Gr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u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ß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</a:t>
                      </a: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ß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Spr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u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</a:t>
                      </a:r>
                      <a:r>
                        <a:rPr b="0" lang="en-US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ключение: das Spi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AutoShape 150">
            <a:hlinkClick r:id="rId1" action="ppaction://hlinksldjump"/>
          </p:cNvPr>
          <p:cNvSpPr/>
          <p:nvPr/>
        </p:nvSpPr>
        <p:spPr>
          <a:xfrm>
            <a:off x="8604360" y="0"/>
            <a:ext cx="539640" cy="504720"/>
          </a:xfrm>
          <a:custGeom>
            <a:avLst/>
            <a:gdLst>
              <a:gd name="textAreaLeft" fmla="*/ 32400 w 539640"/>
              <a:gd name="textAreaRight" fmla="*/ 507240 w 53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093" h="21600">
                <a:moveTo>
                  <a:pt x="0" y="0"/>
                </a:moveTo>
                <a:lnTo>
                  <a:pt x="23093" y="0"/>
                </a:lnTo>
                <a:lnTo>
                  <a:pt x="23093" y="21600"/>
                </a:lnTo>
                <a:lnTo>
                  <a:pt x="0" y="21600"/>
                </a:lnTo>
                <a:close/>
              </a:path>
              <a:path fill="lightenLess" w="23093" h="21600">
                <a:moveTo>
                  <a:pt x="0" y="0"/>
                </a:moveTo>
                <a:lnTo>
                  <a:pt x="23093" y="0"/>
                </a:lnTo>
                <a:lnTo>
                  <a:pt x="21693" y="1400"/>
                </a:lnTo>
                <a:lnTo>
                  <a:pt x="1400" y="1400"/>
                </a:lnTo>
                <a:close/>
              </a:path>
              <a:path fill="darken" w="23093" h="21600">
                <a:moveTo>
                  <a:pt x="23093" y="0"/>
                </a:moveTo>
                <a:lnTo>
                  <a:pt x="23093" y="21600"/>
                </a:lnTo>
                <a:lnTo>
                  <a:pt x="21693" y="20200"/>
                </a:lnTo>
                <a:lnTo>
                  <a:pt x="21693" y="1400"/>
                </a:lnTo>
                <a:close/>
              </a:path>
              <a:path fill="darkenLess" w="23093" h="21600">
                <a:moveTo>
                  <a:pt x="23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3" y="20200"/>
                </a:lnTo>
                <a:close/>
              </a:path>
              <a:path fill="lighten" w="23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3" h="21600">
                <a:moveTo>
                  <a:pt x="11547" y="3837"/>
                </a:moveTo>
                <a:lnTo>
                  <a:pt x="14123" y="6448"/>
                </a:lnTo>
                <a:lnTo>
                  <a:pt x="14123" y="4707"/>
                </a:lnTo>
                <a:lnTo>
                  <a:pt x="15899" y="4707"/>
                </a:lnTo>
                <a:lnTo>
                  <a:pt x="15899" y="8224"/>
                </a:lnTo>
                <a:lnTo>
                  <a:pt x="18510" y="10800"/>
                </a:lnTo>
                <a:lnTo>
                  <a:pt x="16856" y="10800"/>
                </a:lnTo>
                <a:lnTo>
                  <a:pt x="16856" y="17989"/>
                </a:lnTo>
                <a:lnTo>
                  <a:pt x="6237" y="17989"/>
                </a:lnTo>
                <a:lnTo>
                  <a:pt x="6237" y="10800"/>
                </a:lnTo>
                <a:lnTo>
                  <a:pt x="4584" y="10800"/>
                </a:lnTo>
                <a:close/>
              </a:path>
              <a:path fill="darkenLess" w="23093" h="21600">
                <a:moveTo>
                  <a:pt x="14123" y="6448"/>
                </a:moveTo>
                <a:lnTo>
                  <a:pt x="14123" y="4707"/>
                </a:lnTo>
                <a:lnTo>
                  <a:pt x="15899" y="4707"/>
                </a:lnTo>
                <a:lnTo>
                  <a:pt x="15899" y="8224"/>
                </a:lnTo>
                <a:close/>
              </a:path>
              <a:path fill="darkenLess" w="23093" h="21600">
                <a:moveTo>
                  <a:pt x="10624" y="14299"/>
                </a:moveTo>
                <a:lnTo>
                  <a:pt x="12469" y="14299"/>
                </a:lnTo>
                <a:lnTo>
                  <a:pt x="12469" y="17989"/>
                </a:lnTo>
                <a:lnTo>
                  <a:pt x="16856" y="17989"/>
                </a:lnTo>
                <a:lnTo>
                  <a:pt x="16856" y="10800"/>
                </a:lnTo>
                <a:lnTo>
                  <a:pt x="6237" y="10800"/>
                </a:lnTo>
                <a:lnTo>
                  <a:pt x="6237" y="17989"/>
                </a:lnTo>
                <a:lnTo>
                  <a:pt x="10624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6"/>
          <p:cNvSpPr/>
          <p:nvPr/>
        </p:nvSpPr>
        <p:spPr>
          <a:xfrm>
            <a:off x="691200" y="1268280"/>
            <a:ext cx="714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Die Wohnung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ir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erade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dnung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ebrach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 Box 6"/>
          <p:cNvSpPr/>
          <p:nvPr/>
        </p:nvSpPr>
        <p:spPr>
          <a:xfrm>
            <a:off x="689040" y="1268280"/>
            <a:ext cx="638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Das Problem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urd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kti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esproche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6"/>
          <p:cNvSpPr/>
          <p:nvPr/>
        </p:nvSpPr>
        <p:spPr>
          <a:xfrm>
            <a:off x="688320" y="1268280"/>
            <a:ext cx="684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s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di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Übersetzung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eprü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orde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6"/>
          <p:cNvSpPr/>
          <p:nvPr/>
        </p:nvSpPr>
        <p:spPr>
          <a:xfrm>
            <a:off x="473400" y="1268280"/>
            <a:ext cx="568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. Si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erden erwarte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2"/>
          <p:cNvSpPr/>
          <p:nvPr/>
        </p:nvSpPr>
        <p:spPr>
          <a:xfrm>
            <a:off x="3132000" y="476280"/>
            <a:ext cx="33163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838080" y="20574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го заданий выполнено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4"/>
          <p:cNvSpPr/>
          <p:nvPr/>
        </p:nvSpPr>
        <p:spPr>
          <a:xfrm>
            <a:off x="838080" y="29718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полнено верно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7"/>
          <p:cNvSpPr/>
          <p:nvPr/>
        </p:nvSpPr>
        <p:spPr>
          <a:xfrm>
            <a:off x="838080" y="38862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цент выполнения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8"/>
          <p:cNvSpPr/>
          <p:nvPr/>
        </p:nvSpPr>
        <p:spPr>
          <a:xfrm>
            <a:off x="838080" y="48006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ценка…………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13"/>
          <p:cNvSpPr/>
          <p:nvPr/>
        </p:nvSpPr>
        <p:spPr>
          <a:xfrm>
            <a:off x="7956720" y="18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сты по теме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Имя прилагательно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лонение прилагатель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епени сравнения прилагате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4"/>
          <p:cNvSpPr/>
          <p:nvPr/>
        </p:nvSpPr>
        <p:spPr>
          <a:xfrm>
            <a:off x="795672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7"/>
          <p:cNvSpPr/>
          <p:nvPr/>
        </p:nvSpPr>
        <p:spPr>
          <a:xfrm>
            <a:off x="254160" y="1413000"/>
            <a:ext cx="781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 Heinrich Heine hat vie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yrische Gedichte geschrieb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клонение прилагатель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2"/>
          <p:cNvSpPr/>
          <p:nvPr/>
        </p:nvSpPr>
        <p:spPr>
          <a:xfrm>
            <a:off x="399240" y="836640"/>
            <a:ext cx="817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nsbruck ist eine _____ Stadt 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sten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Österreich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 Box 2"/>
          <p:cNvSpPr/>
          <p:nvPr/>
        </p:nvSpPr>
        <p:spPr>
          <a:xfrm>
            <a:off x="690120" y="907920"/>
            <a:ext cx="723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Am Morgen wasche ich mi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w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öhnlich mit _____ Wass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2"/>
          <p:cNvSpPr/>
          <p:nvPr/>
        </p:nvSpPr>
        <p:spPr>
          <a:xfrm>
            <a:off x="615240" y="1125360"/>
            <a:ext cx="715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Ich habe dieses _____ Bu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weimal geles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8856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ущ. ж.р. (по значению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08000" y="907920"/>
          <a:ext cx="8928000" cy="5834160"/>
        </p:xfrm>
        <a:graphic>
          <a:graphicData uri="http://schemas.openxmlformats.org/drawingml/2006/table">
            <a:tbl>
              <a:tblPr/>
              <a:tblGrid>
                <a:gridCol w="2976480"/>
                <a:gridCol w="2975040"/>
                <a:gridCol w="297648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клю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ц женского по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Frau 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нщин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M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ädchen 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евочк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отных женского по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Kuh 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ов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Huhn 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иц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Schaf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вц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ревье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Birke (берез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Ahorn (клён)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Baobab (баобаб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Aster (астр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Mohn (мак)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Kaktus (какту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го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Himbeere (малин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уктов и овощ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Birne (груш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Apfel (яблоко)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Pfirsich (персик)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Kohl (капуста)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Kürbis (тыква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инства немецких р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Elbe, die Oder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p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Rhein, der Main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Neck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летов, судов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космических корабл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Tu 154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Titanik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“Wostok 3”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ртов сигаре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Cam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AutoShape 90">
            <a:hlinkClick r:id="rId1" action="ppaction://hlinksldjump"/>
          </p:cNvPr>
          <p:cNvSpPr/>
          <p:nvPr/>
        </p:nvSpPr>
        <p:spPr>
          <a:xfrm>
            <a:off x="8604360" y="0"/>
            <a:ext cx="539640" cy="504720"/>
          </a:xfrm>
          <a:custGeom>
            <a:avLst/>
            <a:gdLst>
              <a:gd name="textAreaLeft" fmla="*/ 32400 w 539640"/>
              <a:gd name="textAreaRight" fmla="*/ 507240 w 53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093" h="21600">
                <a:moveTo>
                  <a:pt x="0" y="0"/>
                </a:moveTo>
                <a:lnTo>
                  <a:pt x="23093" y="0"/>
                </a:lnTo>
                <a:lnTo>
                  <a:pt x="23093" y="21600"/>
                </a:lnTo>
                <a:lnTo>
                  <a:pt x="0" y="21600"/>
                </a:lnTo>
                <a:close/>
              </a:path>
              <a:path fill="lightenLess" w="23093" h="21600">
                <a:moveTo>
                  <a:pt x="0" y="0"/>
                </a:moveTo>
                <a:lnTo>
                  <a:pt x="23093" y="0"/>
                </a:lnTo>
                <a:lnTo>
                  <a:pt x="21693" y="1400"/>
                </a:lnTo>
                <a:lnTo>
                  <a:pt x="1400" y="1400"/>
                </a:lnTo>
                <a:close/>
              </a:path>
              <a:path fill="darken" w="23093" h="21600">
                <a:moveTo>
                  <a:pt x="23093" y="0"/>
                </a:moveTo>
                <a:lnTo>
                  <a:pt x="23093" y="21600"/>
                </a:lnTo>
                <a:lnTo>
                  <a:pt x="21693" y="20200"/>
                </a:lnTo>
                <a:lnTo>
                  <a:pt x="21693" y="1400"/>
                </a:lnTo>
                <a:close/>
              </a:path>
              <a:path fill="darkenLess" w="23093" h="21600">
                <a:moveTo>
                  <a:pt x="23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3" y="20200"/>
                </a:lnTo>
                <a:close/>
              </a:path>
              <a:path fill="lighten" w="23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3" h="21600">
                <a:moveTo>
                  <a:pt x="11547" y="3837"/>
                </a:moveTo>
                <a:lnTo>
                  <a:pt x="14123" y="6448"/>
                </a:lnTo>
                <a:lnTo>
                  <a:pt x="14123" y="4707"/>
                </a:lnTo>
                <a:lnTo>
                  <a:pt x="15899" y="4707"/>
                </a:lnTo>
                <a:lnTo>
                  <a:pt x="15899" y="8224"/>
                </a:lnTo>
                <a:lnTo>
                  <a:pt x="18510" y="10800"/>
                </a:lnTo>
                <a:lnTo>
                  <a:pt x="16856" y="10800"/>
                </a:lnTo>
                <a:lnTo>
                  <a:pt x="16856" y="17989"/>
                </a:lnTo>
                <a:lnTo>
                  <a:pt x="6237" y="17989"/>
                </a:lnTo>
                <a:lnTo>
                  <a:pt x="6237" y="10800"/>
                </a:lnTo>
                <a:lnTo>
                  <a:pt x="4584" y="10800"/>
                </a:lnTo>
                <a:close/>
              </a:path>
              <a:path fill="darkenLess" w="23093" h="21600">
                <a:moveTo>
                  <a:pt x="14123" y="6448"/>
                </a:moveTo>
                <a:lnTo>
                  <a:pt x="14123" y="4707"/>
                </a:lnTo>
                <a:lnTo>
                  <a:pt x="15899" y="4707"/>
                </a:lnTo>
                <a:lnTo>
                  <a:pt x="15899" y="8224"/>
                </a:lnTo>
                <a:close/>
              </a:path>
              <a:path fill="darkenLess" w="23093" h="21600">
                <a:moveTo>
                  <a:pt x="10624" y="14299"/>
                </a:moveTo>
                <a:lnTo>
                  <a:pt x="12469" y="14299"/>
                </a:lnTo>
                <a:lnTo>
                  <a:pt x="12469" y="17989"/>
                </a:lnTo>
                <a:lnTo>
                  <a:pt x="16856" y="17989"/>
                </a:lnTo>
                <a:lnTo>
                  <a:pt x="16856" y="10800"/>
                </a:lnTo>
                <a:lnTo>
                  <a:pt x="6237" y="10800"/>
                </a:lnTo>
                <a:lnTo>
                  <a:pt x="6237" y="17989"/>
                </a:lnTo>
                <a:lnTo>
                  <a:pt x="10624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6"/>
          <p:cNvSpPr/>
          <p:nvPr/>
        </p:nvSpPr>
        <p:spPr>
          <a:xfrm>
            <a:off x="256320" y="836640"/>
            <a:ext cx="8704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Di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Österreicher und die Gäste a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uropa erholen sich gern in _____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äldern Österreich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6"/>
          <p:cNvSpPr/>
          <p:nvPr/>
        </p:nvSpPr>
        <p:spPr>
          <a:xfrm>
            <a:off x="473040" y="1125360"/>
            <a:ext cx="791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Laufe bitte schnell in den La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d kaufe _____ Bro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6"/>
          <p:cNvSpPr/>
          <p:nvPr/>
        </p:nvSpPr>
        <p:spPr>
          <a:xfrm>
            <a:off x="399960" y="1125360"/>
            <a:ext cx="844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Dein _____ Kleid sieht sehr sc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ö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us, es gefällt mir seh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6"/>
          <p:cNvSpPr/>
          <p:nvPr/>
        </p:nvSpPr>
        <p:spPr>
          <a:xfrm>
            <a:off x="330120" y="1052640"/>
            <a:ext cx="858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Unsere Heimat Russland ist 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d in Europa und Asi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6"/>
          <p:cNvSpPr/>
          <p:nvPr/>
        </p:nvSpPr>
        <p:spPr>
          <a:xfrm>
            <a:off x="256680" y="1052640"/>
            <a:ext cx="87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. Mein alter Gr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ß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ter t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ägt im kal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inter sehr gern _____ Pullov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6"/>
          <p:cNvSpPr/>
          <p:nvPr/>
        </p:nvSpPr>
        <p:spPr>
          <a:xfrm>
            <a:off x="399240" y="836640"/>
            <a:ext cx="783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. In unsere Klasse ist eine ne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ülerin gekommen, 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ädchen heißt An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 Box 2"/>
          <p:cNvSpPr/>
          <p:nvPr/>
        </p:nvSpPr>
        <p:spPr>
          <a:xfrm>
            <a:off x="3132000" y="476280"/>
            <a:ext cx="31719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"/>
          <p:cNvSpPr/>
          <p:nvPr/>
        </p:nvSpPr>
        <p:spPr>
          <a:xfrm>
            <a:off x="838080" y="20574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го заданий выполнено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4"/>
          <p:cNvSpPr/>
          <p:nvPr/>
        </p:nvSpPr>
        <p:spPr>
          <a:xfrm>
            <a:off x="838080" y="29718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полнено верно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7"/>
          <p:cNvSpPr/>
          <p:nvPr/>
        </p:nvSpPr>
        <p:spPr>
          <a:xfrm>
            <a:off x="838080" y="38862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цент выполнения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8"/>
          <p:cNvSpPr/>
          <p:nvPr/>
        </p:nvSpPr>
        <p:spPr>
          <a:xfrm>
            <a:off x="838080" y="48006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ценка…………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13"/>
          <p:cNvSpPr/>
          <p:nvPr/>
        </p:nvSpPr>
        <p:spPr>
          <a:xfrm>
            <a:off x="7956720" y="18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7"/>
          <p:cNvSpPr/>
          <p:nvPr/>
        </p:nvSpPr>
        <p:spPr>
          <a:xfrm>
            <a:off x="399960" y="2060640"/>
            <a:ext cx="837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ser Haus ist so _____ wie de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епени сравнения прилагатель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2"/>
          <p:cNvSpPr/>
          <p:nvPr/>
        </p:nvSpPr>
        <p:spPr>
          <a:xfrm>
            <a:off x="258480" y="1197000"/>
            <a:ext cx="870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her Tag ist der _____ im Jah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 Box 2"/>
          <p:cNvSpPr/>
          <p:nvPr/>
        </p:nvSpPr>
        <p:spPr>
          <a:xfrm>
            <a:off x="255960" y="1052640"/>
            <a:ext cx="86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Dieses Zimmer ist _____ als jen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ущ. ж.р. (по форм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79280" y="907920"/>
          <a:ext cx="8856720" cy="5846760"/>
        </p:xfrm>
        <a:graphic>
          <a:graphicData uri="http://schemas.openxmlformats.org/drawingml/2006/table">
            <a:tbl>
              <a:tblPr/>
              <a:tblGrid>
                <a:gridCol w="2952720"/>
                <a:gridCol w="2951280"/>
                <a:gridCol w="2952720"/>
              </a:tblGrid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ествит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ч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суффиксам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in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ung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heit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keit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schaft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e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Laborant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n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Üb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ung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Frei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eit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Möglich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keit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Land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chaft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Maler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остранные слова с ударными суффиксам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ie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(t)ät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(t)ion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ur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ik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age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ade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anz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en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Chem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e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Universi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ät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Demonstra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ion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Kult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ur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Phys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k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Report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ge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Fass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de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Ambul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z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Exist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z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инство существит. с суффиксом </a:t>
                      </a:r>
                      <a:r>
                        <a:rPr b="1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e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в основном, двухсложные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Lieb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Kält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Hilf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traß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Lamp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 также ряд сущ-х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жског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ода, оканчивающихся на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der Kollege; der Russe, der Junge; der Name, der Gedanke; der Käse и несколько сущ-х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г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ода: das Ende, das Interesse, das Aug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ествительные, образованные от глаголов при помощи суффикса </a:t>
                      </a:r>
                      <a:r>
                        <a:rPr b="1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t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Fahr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Kuns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Mach</a:t>
                      </a:r>
                      <a:r>
                        <a:rPr b="0" lang="ru-RU" sz="12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сколько сущ-х м. и ср.р. имеют суффикс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t, -st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der Durst, der Frost, der Dienst, der Verlust; das Gif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AutoShape 170">
            <a:hlinkClick r:id="rId1" action="ppaction://hlinksldjump"/>
          </p:cNvPr>
          <p:cNvSpPr/>
          <p:nvPr/>
        </p:nvSpPr>
        <p:spPr>
          <a:xfrm>
            <a:off x="8604360" y="0"/>
            <a:ext cx="539640" cy="504720"/>
          </a:xfrm>
          <a:custGeom>
            <a:avLst/>
            <a:gdLst>
              <a:gd name="textAreaLeft" fmla="*/ 32400 w 539640"/>
              <a:gd name="textAreaRight" fmla="*/ 507240 w 53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093" h="21600">
                <a:moveTo>
                  <a:pt x="0" y="0"/>
                </a:moveTo>
                <a:lnTo>
                  <a:pt x="23093" y="0"/>
                </a:lnTo>
                <a:lnTo>
                  <a:pt x="23093" y="21600"/>
                </a:lnTo>
                <a:lnTo>
                  <a:pt x="0" y="21600"/>
                </a:lnTo>
                <a:close/>
              </a:path>
              <a:path fill="lightenLess" w="23093" h="21600">
                <a:moveTo>
                  <a:pt x="0" y="0"/>
                </a:moveTo>
                <a:lnTo>
                  <a:pt x="23093" y="0"/>
                </a:lnTo>
                <a:lnTo>
                  <a:pt x="21693" y="1400"/>
                </a:lnTo>
                <a:lnTo>
                  <a:pt x="1400" y="1400"/>
                </a:lnTo>
                <a:close/>
              </a:path>
              <a:path fill="darken" w="23093" h="21600">
                <a:moveTo>
                  <a:pt x="23093" y="0"/>
                </a:moveTo>
                <a:lnTo>
                  <a:pt x="23093" y="21600"/>
                </a:lnTo>
                <a:lnTo>
                  <a:pt x="21693" y="20200"/>
                </a:lnTo>
                <a:lnTo>
                  <a:pt x="21693" y="1400"/>
                </a:lnTo>
                <a:close/>
              </a:path>
              <a:path fill="darkenLess" w="23093" h="21600">
                <a:moveTo>
                  <a:pt x="23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3" y="20200"/>
                </a:lnTo>
                <a:close/>
              </a:path>
              <a:path fill="lighten" w="23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3" h="21600">
                <a:moveTo>
                  <a:pt x="11547" y="3837"/>
                </a:moveTo>
                <a:lnTo>
                  <a:pt x="14123" y="6448"/>
                </a:lnTo>
                <a:lnTo>
                  <a:pt x="14123" y="4707"/>
                </a:lnTo>
                <a:lnTo>
                  <a:pt x="15899" y="4707"/>
                </a:lnTo>
                <a:lnTo>
                  <a:pt x="15899" y="8224"/>
                </a:lnTo>
                <a:lnTo>
                  <a:pt x="18510" y="10800"/>
                </a:lnTo>
                <a:lnTo>
                  <a:pt x="16856" y="10800"/>
                </a:lnTo>
                <a:lnTo>
                  <a:pt x="16856" y="17989"/>
                </a:lnTo>
                <a:lnTo>
                  <a:pt x="6237" y="17989"/>
                </a:lnTo>
                <a:lnTo>
                  <a:pt x="6237" y="10800"/>
                </a:lnTo>
                <a:lnTo>
                  <a:pt x="4584" y="10800"/>
                </a:lnTo>
                <a:close/>
              </a:path>
              <a:path fill="darkenLess" w="23093" h="21600">
                <a:moveTo>
                  <a:pt x="14123" y="6448"/>
                </a:moveTo>
                <a:lnTo>
                  <a:pt x="14123" y="4707"/>
                </a:lnTo>
                <a:lnTo>
                  <a:pt x="15899" y="4707"/>
                </a:lnTo>
                <a:lnTo>
                  <a:pt x="15899" y="8224"/>
                </a:lnTo>
                <a:close/>
              </a:path>
              <a:path fill="darkenLess" w="23093" h="21600">
                <a:moveTo>
                  <a:pt x="10624" y="14299"/>
                </a:moveTo>
                <a:lnTo>
                  <a:pt x="12469" y="14299"/>
                </a:lnTo>
                <a:lnTo>
                  <a:pt x="12469" y="17989"/>
                </a:lnTo>
                <a:lnTo>
                  <a:pt x="16856" y="17989"/>
                </a:lnTo>
                <a:lnTo>
                  <a:pt x="16856" y="10800"/>
                </a:lnTo>
                <a:lnTo>
                  <a:pt x="6237" y="10800"/>
                </a:lnTo>
                <a:lnTo>
                  <a:pt x="6237" y="17989"/>
                </a:lnTo>
                <a:lnTo>
                  <a:pt x="10624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2"/>
          <p:cNvSpPr/>
          <p:nvPr/>
        </p:nvSpPr>
        <p:spPr>
          <a:xfrm>
            <a:off x="398520" y="1268280"/>
            <a:ext cx="6503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Von allen Arbeiten ist 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e 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6"/>
          <p:cNvSpPr/>
          <p:nvPr/>
        </p:nvSpPr>
        <p:spPr>
          <a:xfrm>
            <a:off x="688680" y="1268280"/>
            <a:ext cx="743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Mein Bruder ist _____ als ic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6"/>
          <p:cNvSpPr/>
          <p:nvPr/>
        </p:nvSpPr>
        <p:spPr>
          <a:xfrm>
            <a:off x="473400" y="1268280"/>
            <a:ext cx="709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Der neue Park ist der 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der Stad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6"/>
          <p:cNvSpPr/>
          <p:nvPr/>
        </p:nvSpPr>
        <p:spPr>
          <a:xfrm>
            <a:off x="689040" y="1268280"/>
            <a:ext cx="802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Lies bitte _____ ! Wir 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ören di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nich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6"/>
          <p:cNvSpPr/>
          <p:nvPr/>
        </p:nvSpPr>
        <p:spPr>
          <a:xfrm>
            <a:off x="688320" y="1268280"/>
            <a:ext cx="672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Es ist _____ wie am Tag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 Box 6"/>
          <p:cNvSpPr/>
          <p:nvPr/>
        </p:nvSpPr>
        <p:spPr>
          <a:xfrm>
            <a:off x="688680" y="1268280"/>
            <a:ext cx="723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. Sie kommt nicht _____ als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 Minut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 Box 6"/>
          <p:cNvSpPr/>
          <p:nvPr/>
        </p:nvSpPr>
        <p:spPr>
          <a:xfrm>
            <a:off x="687600" y="1268280"/>
            <a:ext cx="7011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. Was ist der _____ Fluss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serem 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2"/>
          <p:cNvSpPr/>
          <p:nvPr/>
        </p:nvSpPr>
        <p:spPr>
          <a:xfrm>
            <a:off x="3132000" y="476280"/>
            <a:ext cx="31719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3"/>
          <p:cNvSpPr/>
          <p:nvPr/>
        </p:nvSpPr>
        <p:spPr>
          <a:xfrm>
            <a:off x="838080" y="20574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го заданий выполнено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4"/>
          <p:cNvSpPr/>
          <p:nvPr/>
        </p:nvSpPr>
        <p:spPr>
          <a:xfrm>
            <a:off x="838080" y="29718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полнено верно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7"/>
          <p:cNvSpPr/>
          <p:nvPr/>
        </p:nvSpPr>
        <p:spPr>
          <a:xfrm>
            <a:off x="838080" y="38862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цент выполнения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8"/>
          <p:cNvSpPr/>
          <p:nvPr/>
        </p:nvSpPr>
        <p:spPr>
          <a:xfrm>
            <a:off x="838080" y="48006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ценка…………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13"/>
          <p:cNvSpPr/>
          <p:nvPr/>
        </p:nvSpPr>
        <p:spPr>
          <a:xfrm>
            <a:off x="7956720" y="18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сты по теме «Местоимени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187280" y="1980720"/>
            <a:ext cx="7499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ные местоим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тяжательные местоим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ительные местоим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4"/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7"/>
          <p:cNvSpPr/>
          <p:nvPr/>
        </p:nvSpPr>
        <p:spPr>
          <a:xfrm>
            <a:off x="545400" y="1484280"/>
            <a:ext cx="746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rin hat _____ vom Bahnh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gehol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чные местоим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одерж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В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Имя существ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Глаго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Имя прилаг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Местоиме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Числ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Предл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  <a:hlinkClick r:id="rId8" action="ppaction://hlinksldjump"/>
              </a:rPr>
              <a:t>Союз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  <a:hlinkClick r:id="rId9" action="ppaction://hlinksldjump"/>
              </a:rPr>
              <a:t>Те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  <a:hlinkClick r:id="rId10" action="ppaction://hlinksldjump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  <a:hlinkClick r:id="rId11" action="ppaction://hlinksldjump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ущ. ср.р. (по значению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08000" y="981000"/>
          <a:ext cx="8928000" cy="5722920"/>
        </p:xfrm>
        <a:graphic>
          <a:graphicData uri="http://schemas.openxmlformats.org/drawingml/2006/table">
            <a:tbl>
              <a:tblPr/>
              <a:tblGrid>
                <a:gridCol w="2975040"/>
                <a:gridCol w="2977920"/>
                <a:gridCol w="2975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клю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я детей и детёныш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Kind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ебёнок)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Lamm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ягнёно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ллов, сплав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Silber (серебр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Stahl (сталь)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Bronze (бронз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их элем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Chlor (хлор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Schwefel (сера)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Phosphor (фосфор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ин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as) Afrik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Arktis, die Antarkti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as) Deutschlan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Iran, der Ira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der Sudan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BRD, die Schweiz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Türkei, die Mongolei,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US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од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as) Moska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aa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ов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as) Rüge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Kri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тиниц, кинотетров, каф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Metrop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ческих единиц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Kilowa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зы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Russis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AutoShape 202">
            <a:hlinkClick r:id="rId1" action="ppaction://hlinksldjump"/>
          </p:cNvPr>
          <p:cNvSpPr/>
          <p:nvPr/>
        </p:nvSpPr>
        <p:spPr>
          <a:xfrm>
            <a:off x="8604360" y="0"/>
            <a:ext cx="539640" cy="504720"/>
          </a:xfrm>
          <a:custGeom>
            <a:avLst/>
            <a:gdLst>
              <a:gd name="textAreaLeft" fmla="*/ 32400 w 539640"/>
              <a:gd name="textAreaRight" fmla="*/ 507240 w 53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093" h="21600">
                <a:moveTo>
                  <a:pt x="0" y="0"/>
                </a:moveTo>
                <a:lnTo>
                  <a:pt x="23093" y="0"/>
                </a:lnTo>
                <a:lnTo>
                  <a:pt x="23093" y="21600"/>
                </a:lnTo>
                <a:lnTo>
                  <a:pt x="0" y="21600"/>
                </a:lnTo>
                <a:close/>
              </a:path>
              <a:path fill="lightenLess" w="23093" h="21600">
                <a:moveTo>
                  <a:pt x="0" y="0"/>
                </a:moveTo>
                <a:lnTo>
                  <a:pt x="23093" y="0"/>
                </a:lnTo>
                <a:lnTo>
                  <a:pt x="21693" y="1400"/>
                </a:lnTo>
                <a:lnTo>
                  <a:pt x="1400" y="1400"/>
                </a:lnTo>
                <a:close/>
              </a:path>
              <a:path fill="darken" w="23093" h="21600">
                <a:moveTo>
                  <a:pt x="23093" y="0"/>
                </a:moveTo>
                <a:lnTo>
                  <a:pt x="23093" y="21600"/>
                </a:lnTo>
                <a:lnTo>
                  <a:pt x="21693" y="20200"/>
                </a:lnTo>
                <a:lnTo>
                  <a:pt x="21693" y="1400"/>
                </a:lnTo>
                <a:close/>
              </a:path>
              <a:path fill="darkenLess" w="23093" h="21600">
                <a:moveTo>
                  <a:pt x="23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3" y="20200"/>
                </a:lnTo>
                <a:close/>
              </a:path>
              <a:path fill="lighten" w="23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3" h="21600">
                <a:moveTo>
                  <a:pt x="11547" y="3837"/>
                </a:moveTo>
                <a:lnTo>
                  <a:pt x="14123" y="6448"/>
                </a:lnTo>
                <a:lnTo>
                  <a:pt x="14123" y="4707"/>
                </a:lnTo>
                <a:lnTo>
                  <a:pt x="15899" y="4707"/>
                </a:lnTo>
                <a:lnTo>
                  <a:pt x="15899" y="8224"/>
                </a:lnTo>
                <a:lnTo>
                  <a:pt x="18510" y="10800"/>
                </a:lnTo>
                <a:lnTo>
                  <a:pt x="16856" y="10800"/>
                </a:lnTo>
                <a:lnTo>
                  <a:pt x="16856" y="17989"/>
                </a:lnTo>
                <a:lnTo>
                  <a:pt x="6237" y="17989"/>
                </a:lnTo>
                <a:lnTo>
                  <a:pt x="6237" y="10800"/>
                </a:lnTo>
                <a:lnTo>
                  <a:pt x="4584" y="10800"/>
                </a:lnTo>
                <a:close/>
              </a:path>
              <a:path fill="darkenLess" w="23093" h="21600">
                <a:moveTo>
                  <a:pt x="14123" y="6448"/>
                </a:moveTo>
                <a:lnTo>
                  <a:pt x="14123" y="4707"/>
                </a:lnTo>
                <a:lnTo>
                  <a:pt x="15899" y="4707"/>
                </a:lnTo>
                <a:lnTo>
                  <a:pt x="15899" y="8224"/>
                </a:lnTo>
                <a:close/>
              </a:path>
              <a:path fill="darkenLess" w="23093" h="21600">
                <a:moveTo>
                  <a:pt x="10624" y="14299"/>
                </a:moveTo>
                <a:lnTo>
                  <a:pt x="12469" y="14299"/>
                </a:lnTo>
                <a:lnTo>
                  <a:pt x="12469" y="17989"/>
                </a:lnTo>
                <a:lnTo>
                  <a:pt x="16856" y="17989"/>
                </a:lnTo>
                <a:lnTo>
                  <a:pt x="16856" y="10800"/>
                </a:lnTo>
                <a:lnTo>
                  <a:pt x="6237" y="10800"/>
                </a:lnTo>
                <a:lnTo>
                  <a:pt x="6237" y="17989"/>
                </a:lnTo>
                <a:lnTo>
                  <a:pt x="10624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2"/>
          <p:cNvSpPr/>
          <p:nvPr/>
        </p:nvSpPr>
        <p:spPr>
          <a:xfrm>
            <a:off x="256680" y="1197000"/>
            <a:ext cx="701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s interessiert _____ seh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2"/>
          <p:cNvSpPr/>
          <p:nvPr/>
        </p:nvSpPr>
        <p:spPr>
          <a:xfrm>
            <a:off x="255960" y="1052640"/>
            <a:ext cx="698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Hier sind alle a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ß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r _____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2"/>
          <p:cNvSpPr/>
          <p:nvPr/>
        </p:nvSpPr>
        <p:spPr>
          <a:xfrm>
            <a:off x="402120" y="1268280"/>
            <a:ext cx="695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Ich habe _____ am Mor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geruf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 Box 6"/>
          <p:cNvSpPr/>
          <p:nvPr/>
        </p:nvSpPr>
        <p:spPr>
          <a:xfrm>
            <a:off x="688320" y="1268280"/>
            <a:ext cx="6022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Zu uns kommen 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äs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ir begrüßen _____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 Box 6"/>
          <p:cNvSpPr/>
          <p:nvPr/>
        </p:nvSpPr>
        <p:spPr>
          <a:xfrm>
            <a:off x="471600" y="1268280"/>
            <a:ext cx="658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Mein Freund ist krank. I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suche _____ heu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 Box 6"/>
          <p:cNvSpPr/>
          <p:nvPr/>
        </p:nvSpPr>
        <p:spPr>
          <a:xfrm>
            <a:off x="181800" y="1268280"/>
            <a:ext cx="814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Ich schreibe ihr, _____ ist jetzt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öl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6"/>
          <p:cNvSpPr/>
          <p:nvPr/>
        </p:nvSpPr>
        <p:spPr>
          <a:xfrm>
            <a:off x="328320" y="1268280"/>
            <a:ext cx="853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Die Familie kommt aus Rig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 ist eine alte Stadt im Baltiku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 Box 6"/>
          <p:cNvSpPr/>
          <p:nvPr/>
        </p:nvSpPr>
        <p:spPr>
          <a:xfrm>
            <a:off x="544320" y="1341360"/>
            <a:ext cx="791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. Sie schreibt _____ jede Woch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 Box 6"/>
          <p:cNvSpPr/>
          <p:nvPr/>
        </p:nvSpPr>
        <p:spPr>
          <a:xfrm>
            <a:off x="687600" y="1268280"/>
            <a:ext cx="791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. Er versteht die Regel nicht, i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rk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äre _____ ih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3132000" y="476280"/>
            <a:ext cx="33163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3"/>
          <p:cNvSpPr/>
          <p:nvPr/>
        </p:nvSpPr>
        <p:spPr>
          <a:xfrm>
            <a:off x="838080" y="20574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го заданий выполнено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"/>
          <p:cNvSpPr/>
          <p:nvPr/>
        </p:nvSpPr>
        <p:spPr>
          <a:xfrm>
            <a:off x="838080" y="29718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полнено верно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7"/>
          <p:cNvSpPr/>
          <p:nvPr/>
        </p:nvSpPr>
        <p:spPr>
          <a:xfrm>
            <a:off x="838080" y="38862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цент выполнения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8"/>
          <p:cNvSpPr/>
          <p:nvPr/>
        </p:nvSpPr>
        <p:spPr>
          <a:xfrm>
            <a:off x="838080" y="48006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ценка…………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utoShape 14"/>
          <p:cNvSpPr/>
          <p:nvPr/>
        </p:nvSpPr>
        <p:spPr>
          <a:xfrm>
            <a:off x="7956720" y="18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ущ. ср.р. (по форм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79280" y="907920"/>
          <a:ext cx="8785440" cy="578988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ествитель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ч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сущ-ные с суффиксам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chen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lein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(s)t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Mäd</a:t>
                      </a:r>
                      <a:r>
                        <a:rPr b="0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hen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Tisch</a:t>
                      </a:r>
                      <a:r>
                        <a:rPr b="0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lein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Fünf</a:t>
                      </a:r>
                      <a:r>
                        <a:rPr b="0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el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Hundert</a:t>
                      </a:r>
                      <a:r>
                        <a:rPr b="0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t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инство сущ-ных с суффиксам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tum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n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Eigen</a:t>
                      </a:r>
                      <a:r>
                        <a:rPr b="0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um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Verhält</a:t>
                      </a:r>
                      <a:r>
                        <a:rPr b="0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is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Исключение: der Reichtum, der Irrtum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уффикс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nis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ывает также у существительных женского рода: die Kenntnis, die Erlaubn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. слова (предметы и абстрактные понятия), оканчивающиеся н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(i)um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ett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ment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ma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Stud</a:t>
                      </a:r>
                      <a:r>
                        <a:rPr b="0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um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Kabin</a:t>
                      </a:r>
                      <a:r>
                        <a:rPr b="0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tt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Doku</a:t>
                      </a:r>
                      <a:r>
                        <a:rPr b="0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ent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Dra</a:t>
                      </a:r>
                      <a:r>
                        <a:rPr b="0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a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Kin</a:t>
                      </a:r>
                      <a:r>
                        <a:rPr b="0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ествительные с приставкой </a:t>
                      </a: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e-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и иногда суффиксом </a:t>
                      </a: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e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</a:t>
                      </a:r>
                      <a:r>
                        <a:rPr b="0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e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ässer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</a:t>
                      </a:r>
                      <a:r>
                        <a:rPr b="0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e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rg</a:t>
                      </a:r>
                      <a:r>
                        <a:rPr b="0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</a:t>
                      </a:r>
                      <a:r>
                        <a:rPr b="0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e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äld</a:t>
                      </a:r>
                      <a:r>
                        <a:rPr b="0" lang="ru-RU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стантивированные инфинити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Spreche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т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ech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Turne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n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AutoShape 158">
            <a:hlinkClick r:id="rId1" action="ppaction://hlinksldjump"/>
          </p:cNvPr>
          <p:cNvSpPr/>
          <p:nvPr/>
        </p:nvSpPr>
        <p:spPr>
          <a:xfrm>
            <a:off x="8604360" y="0"/>
            <a:ext cx="539640" cy="504720"/>
          </a:xfrm>
          <a:custGeom>
            <a:avLst/>
            <a:gdLst>
              <a:gd name="textAreaLeft" fmla="*/ 32400 w 539640"/>
              <a:gd name="textAreaRight" fmla="*/ 507240 w 53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093" h="21600">
                <a:moveTo>
                  <a:pt x="0" y="0"/>
                </a:moveTo>
                <a:lnTo>
                  <a:pt x="23093" y="0"/>
                </a:lnTo>
                <a:lnTo>
                  <a:pt x="23093" y="21600"/>
                </a:lnTo>
                <a:lnTo>
                  <a:pt x="0" y="21600"/>
                </a:lnTo>
                <a:close/>
              </a:path>
              <a:path fill="lightenLess" w="23093" h="21600">
                <a:moveTo>
                  <a:pt x="0" y="0"/>
                </a:moveTo>
                <a:lnTo>
                  <a:pt x="23093" y="0"/>
                </a:lnTo>
                <a:lnTo>
                  <a:pt x="21693" y="1400"/>
                </a:lnTo>
                <a:lnTo>
                  <a:pt x="1400" y="1400"/>
                </a:lnTo>
                <a:close/>
              </a:path>
              <a:path fill="darken" w="23093" h="21600">
                <a:moveTo>
                  <a:pt x="23093" y="0"/>
                </a:moveTo>
                <a:lnTo>
                  <a:pt x="23093" y="21600"/>
                </a:lnTo>
                <a:lnTo>
                  <a:pt x="21693" y="20200"/>
                </a:lnTo>
                <a:lnTo>
                  <a:pt x="21693" y="1400"/>
                </a:lnTo>
                <a:close/>
              </a:path>
              <a:path fill="darkenLess" w="23093" h="21600">
                <a:moveTo>
                  <a:pt x="23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3" y="20200"/>
                </a:lnTo>
                <a:close/>
              </a:path>
              <a:path fill="lighten" w="23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3" h="21600">
                <a:moveTo>
                  <a:pt x="11547" y="3837"/>
                </a:moveTo>
                <a:lnTo>
                  <a:pt x="14123" y="6448"/>
                </a:lnTo>
                <a:lnTo>
                  <a:pt x="14123" y="4707"/>
                </a:lnTo>
                <a:lnTo>
                  <a:pt x="15899" y="4707"/>
                </a:lnTo>
                <a:lnTo>
                  <a:pt x="15899" y="8224"/>
                </a:lnTo>
                <a:lnTo>
                  <a:pt x="18510" y="10800"/>
                </a:lnTo>
                <a:lnTo>
                  <a:pt x="16856" y="10800"/>
                </a:lnTo>
                <a:lnTo>
                  <a:pt x="16856" y="17989"/>
                </a:lnTo>
                <a:lnTo>
                  <a:pt x="6237" y="17989"/>
                </a:lnTo>
                <a:lnTo>
                  <a:pt x="6237" y="10800"/>
                </a:lnTo>
                <a:lnTo>
                  <a:pt x="4584" y="10800"/>
                </a:lnTo>
                <a:close/>
              </a:path>
              <a:path fill="darkenLess" w="23093" h="21600">
                <a:moveTo>
                  <a:pt x="14123" y="6448"/>
                </a:moveTo>
                <a:lnTo>
                  <a:pt x="14123" y="4707"/>
                </a:lnTo>
                <a:lnTo>
                  <a:pt x="15899" y="4707"/>
                </a:lnTo>
                <a:lnTo>
                  <a:pt x="15899" y="8224"/>
                </a:lnTo>
                <a:close/>
              </a:path>
              <a:path fill="darkenLess" w="23093" h="21600">
                <a:moveTo>
                  <a:pt x="10624" y="14299"/>
                </a:moveTo>
                <a:lnTo>
                  <a:pt x="12469" y="14299"/>
                </a:lnTo>
                <a:lnTo>
                  <a:pt x="12469" y="17989"/>
                </a:lnTo>
                <a:lnTo>
                  <a:pt x="16856" y="17989"/>
                </a:lnTo>
                <a:lnTo>
                  <a:pt x="16856" y="10800"/>
                </a:lnTo>
                <a:lnTo>
                  <a:pt x="6237" y="10800"/>
                </a:lnTo>
                <a:lnTo>
                  <a:pt x="6237" y="17989"/>
                </a:lnTo>
                <a:lnTo>
                  <a:pt x="10624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7"/>
          <p:cNvSpPr/>
          <p:nvPr/>
        </p:nvSpPr>
        <p:spPr>
          <a:xfrm>
            <a:off x="545400" y="1484280"/>
            <a:ext cx="811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e Mutter lobt _____ Tochter 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ü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gute Einkäuf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тяжательные местоим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2"/>
          <p:cNvSpPr/>
          <p:nvPr/>
        </p:nvSpPr>
        <p:spPr>
          <a:xfrm>
            <a:off x="256320" y="1197000"/>
            <a:ext cx="628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e meisten Sc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üler s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it _____ Noten zufriede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2"/>
          <p:cNvSpPr/>
          <p:nvPr/>
        </p:nvSpPr>
        <p:spPr>
          <a:xfrm>
            <a:off x="113040" y="1052640"/>
            <a:ext cx="88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Willst du _____ Studium fortsetz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2"/>
          <p:cNvSpPr/>
          <p:nvPr/>
        </p:nvSpPr>
        <p:spPr>
          <a:xfrm>
            <a:off x="399240" y="1268280"/>
            <a:ext cx="692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Ich kenne diesen Autor 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 Romane gu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 Box 6"/>
          <p:cNvSpPr/>
          <p:nvPr/>
        </p:nvSpPr>
        <p:spPr>
          <a:xfrm>
            <a:off x="690120" y="1268280"/>
            <a:ext cx="686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Die Lehrerin hat uns 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f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ätze gebrac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 Box 6"/>
          <p:cNvSpPr/>
          <p:nvPr/>
        </p:nvSpPr>
        <p:spPr>
          <a:xfrm>
            <a:off x="475560" y="1268280"/>
            <a:ext cx="791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Meine Mutter arbeitet mit 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ter im B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ür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6"/>
          <p:cNvSpPr/>
          <p:nvPr/>
        </p:nvSpPr>
        <p:spPr>
          <a:xfrm>
            <a:off x="690480" y="1268280"/>
            <a:ext cx="6950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Die B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ücher _____ Freund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ese ich ger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Text Box 6"/>
          <p:cNvSpPr/>
          <p:nvPr/>
        </p:nvSpPr>
        <p:spPr>
          <a:xfrm>
            <a:off x="690840" y="1268280"/>
            <a:ext cx="808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Er hat eine neue Uhr. _____ Uh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ällt mir sehr gu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6"/>
          <p:cNvSpPr/>
          <p:nvPr/>
        </p:nvSpPr>
        <p:spPr>
          <a:xfrm>
            <a:off x="473040" y="1197000"/>
            <a:ext cx="844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. Was sind _____ Eltern von Beru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 hast mir nichts von ihnen erz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ähl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6"/>
          <p:cNvSpPr/>
          <p:nvPr/>
        </p:nvSpPr>
        <p:spPr>
          <a:xfrm>
            <a:off x="687600" y="1268280"/>
            <a:ext cx="616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. Ist das _____ Tasch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856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правление существительны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79280" y="1988640"/>
            <a:ext cx="885672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bhängen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von (D.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abhängig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von (D.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die Abhängigkeit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von (D.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висеть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зависимый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зависимость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beitragen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zu (D.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der Beitrag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zu (D.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осить вклад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клад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bitten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um (A.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die Bitte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um (A.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ить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просьб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rinnern sich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an (A.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die Erinnerung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an (A.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поминать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оспоминани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offen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auf (A.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die Hoffnung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auf (A.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деятьс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надежд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eilnehmen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an (D.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die Teilnahme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an (D.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аствовать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участи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vorbereiten (sich)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auf/für (A.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die Vorbereitung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auf/für (A.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товить(ся)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подготовк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verabschieden, sich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von (D.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der Abschied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von (D.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щатьс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прощани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eich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an (D.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der Reichtum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an (D.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гатый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м-л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богатство, изобили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го-л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другие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ые существительные могут требовать употребления определенного предлога. Обычно это существительные, однокоренные с глаголами и/или прилагательными, которым свойственно управление, наприме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79280" y="5013360"/>
            <a:ext cx="87854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ко надо иметь в виду, что управление существительных не всегда совпадает с управлением соответствующих глаголов или прилагатель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179280" y="6021360"/>
            <a:ext cx="8785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besuchen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A.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der Besuch 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bei (D.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ещать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го-л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поcещени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го-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begegnen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D.) - </a:t>
            </a:r>
            <a:r>
              <a:rPr b="0" lang="ru-RU" sz="1600" spc="-1" strike="noStrike">
                <a:solidFill>
                  <a:srgbClr val="cc3300"/>
                </a:solidFill>
                <a:latin typeface="Arial"/>
              </a:rPr>
              <a:t>die Begegnung</a:t>
            </a: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 mit (D.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трети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кого-л.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треч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 кем-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32">
            <a:hlinkClick r:id="rId1" action="ppaction://hlinksldjump"/>
          </p:cNvPr>
          <p:cNvSpPr/>
          <p:nvPr/>
        </p:nvSpPr>
        <p:spPr>
          <a:xfrm>
            <a:off x="8604360" y="0"/>
            <a:ext cx="539640" cy="504720"/>
          </a:xfrm>
          <a:custGeom>
            <a:avLst/>
            <a:gdLst>
              <a:gd name="textAreaLeft" fmla="*/ 32400 w 539640"/>
              <a:gd name="textAreaRight" fmla="*/ 507240 w 53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093" h="21600">
                <a:moveTo>
                  <a:pt x="0" y="0"/>
                </a:moveTo>
                <a:lnTo>
                  <a:pt x="23093" y="0"/>
                </a:lnTo>
                <a:lnTo>
                  <a:pt x="23093" y="21600"/>
                </a:lnTo>
                <a:lnTo>
                  <a:pt x="0" y="21600"/>
                </a:lnTo>
                <a:close/>
              </a:path>
              <a:path fill="lightenLess" w="23093" h="21600">
                <a:moveTo>
                  <a:pt x="0" y="0"/>
                </a:moveTo>
                <a:lnTo>
                  <a:pt x="23093" y="0"/>
                </a:lnTo>
                <a:lnTo>
                  <a:pt x="21693" y="1400"/>
                </a:lnTo>
                <a:lnTo>
                  <a:pt x="1400" y="1400"/>
                </a:lnTo>
                <a:close/>
              </a:path>
              <a:path fill="darken" w="23093" h="21600">
                <a:moveTo>
                  <a:pt x="23093" y="0"/>
                </a:moveTo>
                <a:lnTo>
                  <a:pt x="23093" y="21600"/>
                </a:lnTo>
                <a:lnTo>
                  <a:pt x="21693" y="20200"/>
                </a:lnTo>
                <a:lnTo>
                  <a:pt x="21693" y="1400"/>
                </a:lnTo>
                <a:close/>
              </a:path>
              <a:path fill="darkenLess" w="23093" h="21600">
                <a:moveTo>
                  <a:pt x="23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3" y="20200"/>
                </a:lnTo>
                <a:close/>
              </a:path>
              <a:path fill="lighten" w="23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3" h="21600">
                <a:moveTo>
                  <a:pt x="11547" y="3837"/>
                </a:moveTo>
                <a:lnTo>
                  <a:pt x="14123" y="6448"/>
                </a:lnTo>
                <a:lnTo>
                  <a:pt x="14123" y="4707"/>
                </a:lnTo>
                <a:lnTo>
                  <a:pt x="15899" y="4707"/>
                </a:lnTo>
                <a:lnTo>
                  <a:pt x="15899" y="8224"/>
                </a:lnTo>
                <a:lnTo>
                  <a:pt x="18510" y="10800"/>
                </a:lnTo>
                <a:lnTo>
                  <a:pt x="16856" y="10800"/>
                </a:lnTo>
                <a:lnTo>
                  <a:pt x="16856" y="17989"/>
                </a:lnTo>
                <a:lnTo>
                  <a:pt x="6237" y="17989"/>
                </a:lnTo>
                <a:lnTo>
                  <a:pt x="6237" y="10800"/>
                </a:lnTo>
                <a:lnTo>
                  <a:pt x="4584" y="10800"/>
                </a:lnTo>
                <a:close/>
              </a:path>
              <a:path fill="darkenLess" w="23093" h="21600">
                <a:moveTo>
                  <a:pt x="14123" y="6448"/>
                </a:moveTo>
                <a:lnTo>
                  <a:pt x="14123" y="4707"/>
                </a:lnTo>
                <a:lnTo>
                  <a:pt x="15899" y="4707"/>
                </a:lnTo>
                <a:lnTo>
                  <a:pt x="15899" y="8224"/>
                </a:lnTo>
                <a:close/>
              </a:path>
              <a:path fill="darkenLess" w="23093" h="21600">
                <a:moveTo>
                  <a:pt x="10624" y="14299"/>
                </a:moveTo>
                <a:lnTo>
                  <a:pt x="12469" y="14299"/>
                </a:lnTo>
                <a:lnTo>
                  <a:pt x="12469" y="17989"/>
                </a:lnTo>
                <a:lnTo>
                  <a:pt x="16856" y="17989"/>
                </a:lnTo>
                <a:lnTo>
                  <a:pt x="16856" y="10800"/>
                </a:lnTo>
                <a:lnTo>
                  <a:pt x="6237" y="10800"/>
                </a:lnTo>
                <a:lnTo>
                  <a:pt x="6237" y="17989"/>
                </a:lnTo>
                <a:lnTo>
                  <a:pt x="10624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 Box 2"/>
          <p:cNvSpPr/>
          <p:nvPr/>
        </p:nvSpPr>
        <p:spPr>
          <a:xfrm>
            <a:off x="3132000" y="476280"/>
            <a:ext cx="34592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3"/>
          <p:cNvSpPr/>
          <p:nvPr/>
        </p:nvSpPr>
        <p:spPr>
          <a:xfrm>
            <a:off x="838080" y="20574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го заданий выполнено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4"/>
          <p:cNvSpPr/>
          <p:nvPr/>
        </p:nvSpPr>
        <p:spPr>
          <a:xfrm>
            <a:off x="838080" y="29718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полнено верно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7"/>
          <p:cNvSpPr/>
          <p:nvPr/>
        </p:nvSpPr>
        <p:spPr>
          <a:xfrm>
            <a:off x="838080" y="38862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цент выполнения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8"/>
          <p:cNvSpPr/>
          <p:nvPr/>
        </p:nvSpPr>
        <p:spPr>
          <a:xfrm>
            <a:off x="838080" y="48006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ценка…………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13"/>
          <p:cNvSpPr/>
          <p:nvPr/>
        </p:nvSpPr>
        <p:spPr>
          <a:xfrm>
            <a:off x="7956720" y="18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Text Box 7"/>
          <p:cNvSpPr/>
          <p:nvPr/>
        </p:nvSpPr>
        <p:spPr>
          <a:xfrm>
            <a:off x="285840" y="1484280"/>
            <a:ext cx="848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r alte Professor hat die Fr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es Studente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ar nicht begriff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ительные местоим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2"/>
          <p:cNvSpPr/>
          <p:nvPr/>
        </p:nvSpPr>
        <p:spPr>
          <a:xfrm>
            <a:off x="258120" y="1197000"/>
            <a:ext cx="78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eit dem 1. Septemb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tudi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an der Un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2"/>
          <p:cNvSpPr/>
          <p:nvPr/>
        </p:nvSpPr>
        <p:spPr>
          <a:xfrm>
            <a:off x="684360" y="1052640"/>
            <a:ext cx="681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Ich denke jetzt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n meine Reisepl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ä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Text Box 2"/>
          <p:cNvSpPr/>
          <p:nvPr/>
        </p:nvSpPr>
        <p:spPr>
          <a:xfrm>
            <a:off x="543960" y="1268280"/>
            <a:ext cx="723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Katrin will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Krankenschwes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rd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6"/>
          <p:cNvSpPr/>
          <p:nvPr/>
        </p:nvSpPr>
        <p:spPr>
          <a:xfrm>
            <a:off x="256320" y="1268280"/>
            <a:ext cx="870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Das Bild wurd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von mi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ezeichn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6"/>
          <p:cNvSpPr/>
          <p:nvPr/>
        </p:nvSpPr>
        <p:spPr>
          <a:xfrm>
            <a:off x="471960" y="1268280"/>
            <a:ext cx="6305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Das Theaters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ück daue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zwei Stunde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6"/>
          <p:cNvSpPr/>
          <p:nvPr/>
        </p:nvSpPr>
        <p:spPr>
          <a:xfrm>
            <a:off x="689760" y="1268280"/>
            <a:ext cx="706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Die Tochter gratuliert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hr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utt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zum Geburtsta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Text Box 6"/>
          <p:cNvSpPr/>
          <p:nvPr/>
        </p:nvSpPr>
        <p:spPr>
          <a:xfrm>
            <a:off x="688320" y="1268280"/>
            <a:ext cx="768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Sie 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üssen die Reis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is zu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0. Augus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bezahle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6"/>
          <p:cNvSpPr/>
          <p:nvPr/>
        </p:nvSpPr>
        <p:spPr>
          <a:xfrm>
            <a:off x="686880" y="1268280"/>
            <a:ext cx="579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. Ich wart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uf den B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5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аг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66"/>
                </a:solidFill>
                <a:uFillTx/>
                <a:latin typeface="Arial"/>
                <a:hlinkClick r:id="rId1" action="ppaction://hlinksldjump"/>
              </a:rPr>
              <a:t>Классификация глаго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Глагольные приста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66"/>
                </a:solidFill>
                <a:uFillTx/>
                <a:latin typeface="Arial"/>
                <a:hlinkClick r:id="rId3" action="ppaction://hlinksldjump"/>
              </a:rPr>
              <a:t>Управление глаго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66"/>
                </a:solidFill>
                <a:uFillTx/>
                <a:latin typeface="Arial"/>
                <a:hlinkClick r:id="rId4" action="ppaction://hlinksldjump"/>
              </a:rPr>
              <a:t>Возвратные глаго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66"/>
                </a:solidFill>
                <a:uFillTx/>
                <a:latin typeface="Arial"/>
                <a:hlinkClick r:id="rId5" action="ppaction://hlinksldjump"/>
              </a:rPr>
              <a:t>Модальные глаго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66"/>
                </a:solidFill>
                <a:uFillTx/>
                <a:latin typeface="Arial"/>
                <a:hlinkClick r:id="rId6" action="ppaction://hlinksldjump"/>
              </a:rPr>
              <a:t>Основные формы глаго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ие и употребление временных форм индикати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стоящее время (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Arial"/>
                <a:hlinkClick r:id="rId7" action="ppaction://hlinksldjump"/>
              </a:rPr>
              <a:t>Präsen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дущее время (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Arial"/>
                <a:hlinkClick r:id="rId8" action="ppaction://hlinksldjump"/>
              </a:rPr>
              <a:t>Futur 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Arial"/>
                <a:hlinkClick r:id="rId9" action="ppaction://hlinksldjump"/>
              </a:rPr>
              <a:t>Futur </a:t>
            </a:r>
            <a:r>
              <a:rPr b="0" lang="en-US" sz="1600" spc="-1" strike="noStrike" u="sng">
                <a:solidFill>
                  <a:srgbClr val="006666"/>
                </a:solidFill>
                <a:uFillTx/>
                <a:latin typeface="Arial"/>
                <a:hlinkClick r:id="rId10" action="ppaction://hlinksldjump"/>
              </a:rPr>
              <a:t>I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Arial"/>
                <a:hlinkClick r:id="rId11" action="ppaction://hlinksldjump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шедшее время (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Arial"/>
                <a:hlinkClick r:id="rId12" action="ppaction://hlinksldjump"/>
              </a:rPr>
              <a:t>Präteritu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Arial"/>
                <a:hlinkClick r:id="rId13" action="ppaction://hlinksldjump"/>
              </a:rPr>
              <a:t>Perfek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6666"/>
                </a:solidFill>
                <a:uFillTx/>
                <a:latin typeface="Arial"/>
                <a:hlinkClick r:id="rId14" action="ppaction://hlinksldjump"/>
              </a:rPr>
              <a:t>Plusquamperfek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ло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66"/>
                </a:solidFill>
                <a:uFillTx/>
                <a:latin typeface="Arial"/>
                <a:hlinkClick r:id="rId15" action="ppaction://hlinksldjump"/>
              </a:rPr>
              <a:t>Индикатив (Изъявительное наклонен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66"/>
                </a:solidFill>
                <a:uFillTx/>
                <a:latin typeface="Arial"/>
                <a:hlinkClick r:id="rId16" action="ppaction://hlinksldjump"/>
              </a:rPr>
              <a:t>Императив (Повелительное наклонен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6666"/>
                </a:solidFill>
                <a:uFillTx/>
                <a:latin typeface="Arial"/>
                <a:hlinkClick r:id="rId17" action="ppaction://hlinksldjump"/>
              </a:rPr>
              <a:t>Конъюнкти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66"/>
                </a:solidFill>
                <a:uFillTx/>
                <a:latin typeface="Arial"/>
                <a:hlinkClick r:id="rId18" action="ppaction://hlinksldjump"/>
              </a:rPr>
              <a:t>Конъюнктив 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ba313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66"/>
                </a:solidFill>
                <a:uFillTx/>
                <a:latin typeface="Arial"/>
                <a:hlinkClick r:id="rId19" action="ppaction://hlinksldjump"/>
              </a:rPr>
              <a:t>Конъюнктив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66"/>
                </a:solidFill>
                <a:uFillTx/>
                <a:latin typeface="Arial"/>
                <a:hlinkClick r:id="rId20" action="ppaction://hlinksldjump"/>
              </a:rPr>
              <a:t>Пасси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66"/>
                </a:solidFill>
                <a:uFillTx/>
                <a:latin typeface="Arial"/>
                <a:hlinkClick r:id="rId21" action="ppaction://hlinksldjump"/>
              </a:rPr>
              <a:t>Инфинитивы и инфинитивные констр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66"/>
                </a:solidFill>
                <a:uFillTx/>
                <a:latin typeface="Arial"/>
                <a:hlinkClick r:id="rId22" action="ppaction://hlinksldjump"/>
              </a:rPr>
              <a:t>Причаст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66"/>
                </a:solidFill>
                <a:uFillTx/>
                <a:latin typeface="Arial"/>
                <a:hlinkClick r:id="rId23" action="ppaction://hlinksldjump"/>
              </a:rPr>
              <a:t>Тесты по теме «Глаго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">
            <a:hlinkClick r:id="rId24" action="ppaction://hlinksldjump"/>
          </p:cNvPr>
          <p:cNvSpPr/>
          <p:nvPr/>
        </p:nvSpPr>
        <p:spPr>
          <a:xfrm>
            <a:off x="795672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Text Box 6"/>
          <p:cNvSpPr/>
          <p:nvPr/>
        </p:nvSpPr>
        <p:spPr>
          <a:xfrm>
            <a:off x="688320" y="1268280"/>
            <a:ext cx="766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. Die 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üche ist 3,5 m lang u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3,15 m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rei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2"/>
          <p:cNvSpPr/>
          <p:nvPr/>
        </p:nvSpPr>
        <p:spPr>
          <a:xfrm>
            <a:off x="3132000" y="476280"/>
            <a:ext cx="33879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3"/>
          <p:cNvSpPr/>
          <p:nvPr/>
        </p:nvSpPr>
        <p:spPr>
          <a:xfrm>
            <a:off x="838080" y="20574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го заданий выполнено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4"/>
          <p:cNvSpPr/>
          <p:nvPr/>
        </p:nvSpPr>
        <p:spPr>
          <a:xfrm>
            <a:off x="838080" y="29718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полнено верно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7"/>
          <p:cNvSpPr/>
          <p:nvPr/>
        </p:nvSpPr>
        <p:spPr>
          <a:xfrm>
            <a:off x="838080" y="38862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цент выполнения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8"/>
          <p:cNvSpPr/>
          <p:nvPr/>
        </p:nvSpPr>
        <p:spPr>
          <a:xfrm>
            <a:off x="838080" y="48006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ценка…………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utoShape 13"/>
          <p:cNvSpPr/>
          <p:nvPr/>
        </p:nvSpPr>
        <p:spPr>
          <a:xfrm>
            <a:off x="7956720" y="18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сты по теме «Числительно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187280" y="1980720"/>
            <a:ext cx="7499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енные и порядковые числи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ите при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5"/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 Box 7"/>
          <p:cNvSpPr/>
          <p:nvPr/>
        </p:nvSpPr>
        <p:spPr>
          <a:xfrm>
            <a:off x="474120" y="1773360"/>
            <a:ext cx="799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s Jahr hat 12 Monate, Janu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t _____ Mon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личественные и порядковые числите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 Box 2"/>
          <p:cNvSpPr/>
          <p:nvPr/>
        </p:nvSpPr>
        <p:spPr>
          <a:xfrm>
            <a:off x="258120" y="1197000"/>
            <a:ext cx="738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nnerstag ist _____ Tag 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ch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259560" y="836640"/>
            <a:ext cx="8218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An der Haltestelle stehen dr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men und sprechen. _____ D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isst Frau Kuh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Text Box 2"/>
          <p:cNvSpPr/>
          <p:nvPr/>
        </p:nvSpPr>
        <p:spPr>
          <a:xfrm>
            <a:off x="257400" y="1268280"/>
            <a:ext cx="861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In der Klasse _____ sind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üler – 9 Jungen und 11 Mädche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Text Box 6"/>
          <p:cNvSpPr/>
          <p:nvPr/>
        </p:nvSpPr>
        <p:spPr>
          <a:xfrm>
            <a:off x="255240" y="1268280"/>
            <a:ext cx="873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Auf dem Foto seht ihr da elf Kind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 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ädchen heisst Monik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 Box 6"/>
          <p:cNvSpPr/>
          <p:nvPr/>
        </p:nvSpPr>
        <p:spPr>
          <a:xfrm>
            <a:off x="330120" y="1268280"/>
            <a:ext cx="858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Die Deutschen feiern Weihnach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 Dezemb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 Box 6"/>
          <p:cNvSpPr/>
          <p:nvPr/>
        </p:nvSpPr>
        <p:spPr>
          <a:xfrm>
            <a:off x="331560" y="1268280"/>
            <a:ext cx="8390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In der Nacht am _____ Deze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iern alle Menschen das Neujah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лассификация глаго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856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емецком языке глаголы делятся на различные группы в зависим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значения: полнозначные (или основные) и вспомогатель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способа словообразования: простые, производные и слож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типа спряжения: </a:t>
            </a:r>
            <a:r>
              <a:rPr b="0" lang="ru-RU" sz="3200" spc="-1" strike="noStrike" u="sng">
                <a:solidFill>
                  <a:srgbClr val="006666"/>
                </a:solidFill>
                <a:uFillTx/>
                <a:latin typeface="Arial"/>
                <a:hlinkClick r:id="rId1" action="ppaction://hlinksldjump"/>
              </a:rPr>
              <a:t>слаб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силь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3200" spc="-1" strike="noStrike" u="sng">
                <a:solidFill>
                  <a:srgbClr val="006666"/>
                </a:solidFill>
                <a:uFillTx/>
                <a:latin typeface="Arial"/>
                <a:hlinkClick r:id="rId3" action="ppaction://hlinksldjump"/>
              </a:rPr>
              <a:t>неправиль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отношения глагола-сказуемо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подлежащему: личные и безлич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дополнению: переходные и непереход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">
            <a:hlinkClick r:id="rId4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Text Box 6"/>
          <p:cNvSpPr/>
          <p:nvPr/>
        </p:nvSpPr>
        <p:spPr>
          <a:xfrm>
            <a:off x="690840" y="1268280"/>
            <a:ext cx="779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November ist _____ Monat 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hr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Text Box 6"/>
          <p:cNvSpPr/>
          <p:nvPr/>
        </p:nvSpPr>
        <p:spPr>
          <a:xfrm>
            <a:off x="330840" y="1268280"/>
            <a:ext cx="855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. Am 15. Mai 1935 wurde in Mosk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 U-Bahnlinie 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öffne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 Box 6"/>
          <p:cNvSpPr/>
          <p:nvPr/>
        </p:nvSpPr>
        <p:spPr>
          <a:xfrm>
            <a:off x="184320" y="1052640"/>
            <a:ext cx="8846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. In unserem Klassenzimmer steh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ht Schulb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änke, an _____ Bank 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itze ic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"/>
          <p:cNvSpPr/>
          <p:nvPr/>
        </p:nvSpPr>
        <p:spPr>
          <a:xfrm>
            <a:off x="2771640" y="476280"/>
            <a:ext cx="3529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3"/>
          <p:cNvSpPr/>
          <p:nvPr/>
        </p:nvSpPr>
        <p:spPr>
          <a:xfrm>
            <a:off x="838080" y="20574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го заданий выполнено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4"/>
          <p:cNvSpPr/>
          <p:nvPr/>
        </p:nvSpPr>
        <p:spPr>
          <a:xfrm>
            <a:off x="838080" y="29718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полнено верно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7"/>
          <p:cNvSpPr/>
          <p:nvPr/>
        </p:nvSpPr>
        <p:spPr>
          <a:xfrm>
            <a:off x="838080" y="38862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цент выполнения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8"/>
          <p:cNvSpPr/>
          <p:nvPr/>
        </p:nvSpPr>
        <p:spPr>
          <a:xfrm>
            <a:off x="838080" y="48006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ценка…………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13"/>
          <p:cNvSpPr/>
          <p:nvPr/>
        </p:nvSpPr>
        <p:spPr>
          <a:xfrm>
            <a:off x="7956720" y="18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ext Box 7"/>
          <p:cNvSpPr/>
          <p:nvPr/>
        </p:nvSpPr>
        <p:spPr>
          <a:xfrm>
            <a:off x="471600" y="1773360"/>
            <a:ext cx="596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hs + sech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= 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шите прим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Text Box 2"/>
          <p:cNvSpPr/>
          <p:nvPr/>
        </p:nvSpPr>
        <p:spPr>
          <a:xfrm>
            <a:off x="256680" y="1197000"/>
            <a:ext cx="524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zehn – 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f = 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xt Box 2"/>
          <p:cNvSpPr/>
          <p:nvPr/>
        </p:nvSpPr>
        <p:spPr>
          <a:xfrm>
            <a:off x="615960" y="1484280"/>
            <a:ext cx="58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zwei + sieben = 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Text Box 2"/>
          <p:cNvSpPr/>
          <p:nvPr/>
        </p:nvSpPr>
        <p:spPr>
          <a:xfrm>
            <a:off x="1047600" y="1413000"/>
            <a:ext cx="535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neun – eins = 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Text Box 6"/>
          <p:cNvSpPr/>
          <p:nvPr/>
        </p:nvSpPr>
        <p:spPr>
          <a:xfrm>
            <a:off x="543960" y="1341360"/>
            <a:ext cx="746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zw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f – zehn + sechs = 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6"/>
          <p:cNvSpPr/>
          <p:nvPr/>
        </p:nvSpPr>
        <p:spPr>
          <a:xfrm>
            <a:off x="760320" y="1268280"/>
            <a:ext cx="68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acht + 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f – neun = 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лагольные пристав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79280" y="1125360"/>
            <a:ext cx="360072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тделяем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be-, ge-, er-, ver-, zer-, ent-, emp-, miss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Неотделяемые приставки безударны и всегда пишутся слитно с корнем, напр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Ich </a:t>
            </a: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ver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steh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dieses Wort nicht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zip 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разуется без пристав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-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ählen -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äh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50920" y="1125360"/>
            <a:ext cx="51116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деляемые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ab-, an-, auf-, aus-, bei-, ein-, mit-, nach-, vor-, zu-, zusammen-, über-, unter-, durch-, um-, fort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Отделяемые приставки всегда стоят под ударением. Они отделяются от глагола и стоят в конце предложения, напр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Ich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stell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die Freunde </a:t>
            </a: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vor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zip 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тделяемая приставка стоит перед приставко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-: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reiben -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riebe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08000" y="4436640"/>
            <a:ext cx="88567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ставки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über-, unter-, durch-, um-, wieder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гут быть отделяемыми и неотделяемыми. Если на приставку падает ударение, то она отделяется, если нет - не отделяется. При этом значения глаголов c отделяемой и неотделяемой приставкой обычно разные. Напр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'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wiede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ole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отделяемая) - принести снова, забрать, верну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wiede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' hole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неотделяемая) - повтор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"/>
          <p:cNvSpPr/>
          <p:nvPr/>
        </p:nvSpPr>
        <p:spPr>
          <a:xfrm rot="21103200">
            <a:off x="2411280" y="836640"/>
            <a:ext cx="976320" cy="162000"/>
          </a:xfrm>
          <a:prstGeom prst="leftArrow">
            <a:avLst>
              <a:gd name="adj1" fmla="val 50000"/>
              <a:gd name="adj2" fmla="val 150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5"/>
          <p:cNvSpPr/>
          <p:nvPr/>
        </p:nvSpPr>
        <p:spPr>
          <a:xfrm rot="672600">
            <a:off x="4859280" y="836640"/>
            <a:ext cx="976320" cy="162000"/>
          </a:xfrm>
          <a:prstGeom prst="rightArrow">
            <a:avLst>
              <a:gd name="adj1" fmla="val 50000"/>
              <a:gd name="adj2" fmla="val 150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3"/>
          <p:cNvSpPr/>
          <p:nvPr/>
        </p:nvSpPr>
        <p:spPr>
          <a:xfrm>
            <a:off x="3924360" y="3357720"/>
            <a:ext cx="162000" cy="976320"/>
          </a:xfrm>
          <a:prstGeom prst="downArrow">
            <a:avLst>
              <a:gd name="adj1" fmla="val 50000"/>
              <a:gd name="adj2" fmla="val 150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4">
            <a:hlinkClick r:id="rId1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 Box 6"/>
          <p:cNvSpPr/>
          <p:nvPr/>
        </p:nvSpPr>
        <p:spPr>
          <a:xfrm>
            <a:off x="688680" y="1341360"/>
            <a:ext cx="691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elf – zwei – sieben = 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 Box 6"/>
          <p:cNvSpPr/>
          <p:nvPr/>
        </p:nvSpPr>
        <p:spPr>
          <a:xfrm>
            <a:off x="688680" y="1268280"/>
            <a:ext cx="655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zwei + vier – 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f = 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 Box 6"/>
          <p:cNvSpPr/>
          <p:nvPr/>
        </p:nvSpPr>
        <p:spPr>
          <a:xfrm>
            <a:off x="329040" y="1268280"/>
            <a:ext cx="67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. zehn + drei – acht = 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ext Box 6"/>
          <p:cNvSpPr/>
          <p:nvPr/>
        </p:nvSpPr>
        <p:spPr>
          <a:xfrm>
            <a:off x="185040" y="1052640"/>
            <a:ext cx="791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. zw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f + sieben – zehn = 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 Box 2"/>
          <p:cNvSpPr/>
          <p:nvPr/>
        </p:nvSpPr>
        <p:spPr>
          <a:xfrm>
            <a:off x="2771640" y="476280"/>
            <a:ext cx="3529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3"/>
          <p:cNvSpPr/>
          <p:nvPr/>
        </p:nvSpPr>
        <p:spPr>
          <a:xfrm>
            <a:off x="838080" y="20574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го заданий выполнено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4"/>
          <p:cNvSpPr/>
          <p:nvPr/>
        </p:nvSpPr>
        <p:spPr>
          <a:xfrm>
            <a:off x="838080" y="29718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полнено верно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7"/>
          <p:cNvSpPr/>
          <p:nvPr/>
        </p:nvSpPr>
        <p:spPr>
          <a:xfrm>
            <a:off x="838080" y="38862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цент выполнения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8"/>
          <p:cNvSpPr/>
          <p:nvPr/>
        </p:nvSpPr>
        <p:spPr>
          <a:xfrm>
            <a:off x="838080" y="48006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ценка…………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13"/>
          <p:cNvSpPr/>
          <p:nvPr/>
        </p:nvSpPr>
        <p:spPr>
          <a:xfrm>
            <a:off x="7956720" y="18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сты по теме «Предлог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476000" y="1980720"/>
            <a:ext cx="7210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правление предло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начение предло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4"/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545760" y="1484280"/>
            <a:ext cx="754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r 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ängen das Bild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n 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a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Управление предло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Text Box 2"/>
          <p:cNvSpPr/>
          <p:nvPr/>
        </p:nvSpPr>
        <p:spPr>
          <a:xfrm>
            <a:off x="617040" y="1197000"/>
            <a:ext cx="797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 Theater fahren wir mit 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2"/>
          <p:cNvSpPr/>
          <p:nvPr/>
        </p:nvSpPr>
        <p:spPr>
          <a:xfrm>
            <a:off x="543600" y="1052640"/>
            <a:ext cx="760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Stellen Sie den Tisch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beitszimme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2"/>
          <p:cNvSpPr/>
          <p:nvPr/>
        </p:nvSpPr>
        <p:spPr>
          <a:xfrm>
            <a:off x="255600" y="1268280"/>
            <a:ext cx="87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Der Fluss fliesst neben _____ Dor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правление глаголо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Управление глаго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способность глагола требовать употребления зависимых от него слов в определенном падеже (с определенным предлогом или без него). Часто управление глаголов в немецком и в русском языке совпадает, и употребление таких глаголов не вызывает трудностей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sehen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j-n (Akk.)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видеть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го-л, что-л. (вин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helfen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j-m (Dat.)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помогать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у-л. (дат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существует значительное количество глаголов, не совпадающих по управлению в русском и немецком языках, например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sich interessieren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für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Akk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нтересовать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ем-л. (тво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е глаголы необходимо запоминать с их управле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5">
            <a:hlinkClick r:id="rId1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6"/>
          <p:cNvSpPr/>
          <p:nvPr/>
        </p:nvSpPr>
        <p:spPr>
          <a:xfrm>
            <a:off x="690120" y="1268280"/>
            <a:ext cx="7462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Gehst du durch _____ Gar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ch Ha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6"/>
          <p:cNvSpPr/>
          <p:nvPr/>
        </p:nvSpPr>
        <p:spPr>
          <a:xfrm>
            <a:off x="473040" y="1268280"/>
            <a:ext cx="800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Er kauft das Lehrbuch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ür 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Grupp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6"/>
          <p:cNvSpPr/>
          <p:nvPr/>
        </p:nvSpPr>
        <p:spPr>
          <a:xfrm>
            <a:off x="690120" y="1268280"/>
            <a:ext cx="731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Um 2 Uhr kam ich aus 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u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6"/>
          <p:cNvSpPr/>
          <p:nvPr/>
        </p:nvSpPr>
        <p:spPr>
          <a:xfrm>
            <a:off x="474120" y="1197000"/>
            <a:ext cx="82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Der Kugelschreiber fiel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f 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d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6"/>
          <p:cNvSpPr/>
          <p:nvPr/>
        </p:nvSpPr>
        <p:spPr>
          <a:xfrm>
            <a:off x="114480" y="1268280"/>
            <a:ext cx="884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. Ich gratuliere meiner Mutti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u 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burtsta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 Box 6"/>
          <p:cNvSpPr/>
          <p:nvPr/>
        </p:nvSpPr>
        <p:spPr>
          <a:xfrm>
            <a:off x="688680" y="1268280"/>
            <a:ext cx="678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. Ich wohne jetzt bei 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und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2"/>
          <p:cNvSpPr/>
          <p:nvPr/>
        </p:nvSpPr>
        <p:spPr>
          <a:xfrm>
            <a:off x="3132000" y="476280"/>
            <a:ext cx="32432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838080" y="20574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го заданий выполнено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838080" y="29718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полнено верно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7"/>
          <p:cNvSpPr/>
          <p:nvPr/>
        </p:nvSpPr>
        <p:spPr>
          <a:xfrm>
            <a:off x="838080" y="38862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цент выполнения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8"/>
          <p:cNvSpPr/>
          <p:nvPr/>
        </p:nvSpPr>
        <p:spPr>
          <a:xfrm>
            <a:off x="838080" y="48006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ценка…………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utoShape 13"/>
          <p:cNvSpPr/>
          <p:nvPr/>
        </p:nvSpPr>
        <p:spPr>
          <a:xfrm>
            <a:off x="7956720" y="18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 Box 7"/>
          <p:cNvSpPr/>
          <p:nvPr/>
        </p:nvSpPr>
        <p:spPr>
          <a:xfrm>
            <a:off x="256320" y="1484280"/>
            <a:ext cx="8618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e spielen oft _____ die Studen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serer Universi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ä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Значение предло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Text Box 2"/>
          <p:cNvSpPr/>
          <p:nvPr/>
        </p:nvSpPr>
        <p:spPr>
          <a:xfrm>
            <a:off x="257760" y="1197000"/>
            <a:ext cx="862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e wohnt schon _____ 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ünf Jahr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unserer Stad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2"/>
          <p:cNvSpPr/>
          <p:nvPr/>
        </p:nvSpPr>
        <p:spPr>
          <a:xfrm>
            <a:off x="257040" y="1052640"/>
            <a:ext cx="833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_____ dem Haus liegt ein Gart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звратные глагол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озвратные глагол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глаголы, у которых объект действия совпадает с субъектом. Возвратные глаголы употребляются с возвратным местоимением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sic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олько в 3 л. ед. и мн.ч. В 1 и 2 л. ед. и мн.ч. употребляется соответствующее личное местоимение в аккузативе (или датив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08000" y="2781360"/>
          <a:ext cx="8928000" cy="1727280"/>
        </p:xfrm>
        <a:graphic>
          <a:graphicData uri="http://schemas.openxmlformats.org/drawingml/2006/table">
            <a:tbl>
              <a:tblPr/>
              <a:tblGrid>
                <a:gridCol w="4465440"/>
                <a:gridCol w="4462560"/>
              </a:tblGrid>
              <a:tr h="431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ich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teressiere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есовать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essiere 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i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essieren 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u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teressierst 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i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essiert 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/sie/e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essiert 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i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/Si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essieren 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i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108000" y="4797360"/>
          <a:ext cx="8928000" cy="1920960"/>
        </p:xfrm>
        <a:graphic>
          <a:graphicData uri="http://schemas.openxmlformats.org/drawingml/2006/table">
            <a:tbl>
              <a:tblPr/>
              <a:tblGrid>
                <a:gridCol w="4465440"/>
                <a:gridCol w="446256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ich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D.) etwas ansehen - смотреть, рассматривать что-л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he 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ir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as Bild 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hen 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uns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as Bild 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iehst 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ir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Bild 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ht 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uch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Bild 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/sie/e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ht 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ich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as Bild 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/Si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hen </a:t>
                      </a: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ich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as Bild 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AutoShape 56">
            <a:hlinkClick r:id="rId1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Text Box 2"/>
          <p:cNvSpPr/>
          <p:nvPr/>
        </p:nvSpPr>
        <p:spPr>
          <a:xfrm>
            <a:off x="399960" y="1268280"/>
            <a:ext cx="774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_____ das Haus ist ein Gart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6"/>
          <p:cNvSpPr/>
          <p:nvPr/>
        </p:nvSpPr>
        <p:spPr>
          <a:xfrm>
            <a:off x="690120" y="1268280"/>
            <a:ext cx="720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_____ einer Woche habe i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t ihr telefonier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6"/>
          <p:cNvSpPr/>
          <p:nvPr/>
        </p:nvSpPr>
        <p:spPr>
          <a:xfrm>
            <a:off x="474480" y="1268280"/>
            <a:ext cx="802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Die Konferenz findet _____ d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terricht stat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6"/>
          <p:cNvSpPr/>
          <p:nvPr/>
        </p:nvSpPr>
        <p:spPr>
          <a:xfrm>
            <a:off x="689400" y="1268280"/>
            <a:ext cx="6980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_____ Wasser wachsen d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flanzen nic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6"/>
          <p:cNvSpPr/>
          <p:nvPr/>
        </p:nvSpPr>
        <p:spPr>
          <a:xfrm>
            <a:off x="689400" y="1268280"/>
            <a:ext cx="743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Sie ist ein 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ädchen _____ 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Jahre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Text Box 6"/>
          <p:cNvSpPr/>
          <p:nvPr/>
        </p:nvSpPr>
        <p:spPr>
          <a:xfrm>
            <a:off x="688680" y="1268280"/>
            <a:ext cx="720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. Wir laufen den Fluss _____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6"/>
          <p:cNvSpPr/>
          <p:nvPr/>
        </p:nvSpPr>
        <p:spPr>
          <a:xfrm>
            <a:off x="328320" y="1268280"/>
            <a:ext cx="847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. Das Kind 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äuft den Eltern _____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2"/>
          <p:cNvSpPr/>
          <p:nvPr/>
        </p:nvSpPr>
        <p:spPr>
          <a:xfrm>
            <a:off x="3132000" y="476280"/>
            <a:ext cx="33163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3"/>
          <p:cNvSpPr/>
          <p:nvPr/>
        </p:nvSpPr>
        <p:spPr>
          <a:xfrm>
            <a:off x="838080" y="20574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го заданий выполнено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4"/>
          <p:cNvSpPr/>
          <p:nvPr/>
        </p:nvSpPr>
        <p:spPr>
          <a:xfrm>
            <a:off x="838080" y="29718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полнено верно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7"/>
          <p:cNvSpPr/>
          <p:nvPr/>
        </p:nvSpPr>
        <p:spPr>
          <a:xfrm>
            <a:off x="838080" y="38862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цент выполнения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8"/>
          <p:cNvSpPr/>
          <p:nvPr/>
        </p:nvSpPr>
        <p:spPr>
          <a:xfrm>
            <a:off x="838080" y="48006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ценка…………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AutoShape 13"/>
          <p:cNvSpPr/>
          <p:nvPr/>
        </p:nvSpPr>
        <p:spPr>
          <a:xfrm>
            <a:off x="7956720" y="18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00"/>
                </a:solidFill>
                <a:latin typeface="Arial"/>
              </a:rPr>
              <a:t>Тесты по теме «Союз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619280" y="1980720"/>
            <a:ext cx="7067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Подчинительные сою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Arial"/>
              </a:rPr>
              <a:t>Парные сою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5"/>
          <p:cNvSpPr/>
          <p:nvPr/>
        </p:nvSpPr>
        <p:spPr>
          <a:xfrm>
            <a:off x="788508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Text Box 7"/>
          <p:cNvSpPr/>
          <p:nvPr/>
        </p:nvSpPr>
        <p:spPr>
          <a:xfrm>
            <a:off x="402120" y="1484280"/>
            <a:ext cx="807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Frage deine Freundin, _____ 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oft das Theater besuc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Подчинительные сою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новные формы глаголо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79280" y="2492280"/>
          <a:ext cx="8785440" cy="4249800"/>
        </p:xfrm>
        <a:graphic>
          <a:graphicData uri="http://schemas.openxmlformats.org/drawingml/2006/table">
            <a:tbl>
              <a:tblPr/>
              <a:tblGrid>
                <a:gridCol w="2927520"/>
                <a:gridCol w="2930400"/>
                <a:gridCol w="2927520"/>
              </a:tblGrid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ä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it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zip 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h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h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h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wort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wort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wort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uch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uch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uch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ier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ier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ier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ho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ми формами глаголов являются Infinitiv, P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ä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eritum, Partizip 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формы слабых глаг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92">
            <a:hlinkClick r:id="rId1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2"/>
          <p:cNvSpPr/>
          <p:nvPr/>
        </p:nvSpPr>
        <p:spPr>
          <a:xfrm>
            <a:off x="398160" y="981000"/>
            <a:ext cx="8320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Ich habe den Text nicht </a:t>
            </a:r>
            <a:r>
              <a:rPr b="0" lang="en-US" sz="4000" spc="-1" strike="noStrike">
                <a:solidFill>
                  <a:srgbClr val="003300"/>
                </a:solidFill>
                <a:latin typeface="Arial"/>
                <a:ea typeface="Arial"/>
              </a:rPr>
              <a:t>übersetzt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  <a:ea typeface="Arial"/>
              </a:rPr>
              <a:t>_____ er schwer war</a:t>
            </a: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2"/>
          <p:cNvSpPr/>
          <p:nvPr/>
        </p:nvSpPr>
        <p:spPr>
          <a:xfrm>
            <a:off x="114480" y="1052640"/>
            <a:ext cx="88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3. _____ ich ein deutsches Buch les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schreibe ich alle neuen W</a:t>
            </a:r>
            <a:r>
              <a:rPr b="0" lang="en-US" sz="4000" spc="-1" strike="noStrike">
                <a:solidFill>
                  <a:srgbClr val="003300"/>
                </a:solidFill>
                <a:latin typeface="Arial"/>
                <a:ea typeface="Arial"/>
              </a:rPr>
              <a:t>örter hera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2"/>
          <p:cNvSpPr/>
          <p:nvPr/>
        </p:nvSpPr>
        <p:spPr>
          <a:xfrm>
            <a:off x="400680" y="1268280"/>
            <a:ext cx="794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4. _____ wir den Saal geschm</a:t>
            </a:r>
            <a:r>
              <a:rPr b="0" lang="en-US" sz="4000" spc="-1" strike="noStrike">
                <a:solidFill>
                  <a:srgbClr val="003300"/>
                </a:solidFill>
                <a:latin typeface="Arial"/>
                <a:ea typeface="Arial"/>
              </a:rPr>
              <a:t>ück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  <a:ea typeface="Arial"/>
              </a:rPr>
              <a:t>hatten, verliessen wir die Schule</a:t>
            </a: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Text Box 6"/>
          <p:cNvSpPr/>
          <p:nvPr/>
        </p:nvSpPr>
        <p:spPr>
          <a:xfrm>
            <a:off x="689400" y="1268280"/>
            <a:ext cx="794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5. _____ ich krank war, vers</a:t>
            </a:r>
            <a:r>
              <a:rPr b="0" lang="en-US" sz="4000" spc="-1" strike="noStrike">
                <a:solidFill>
                  <a:srgbClr val="003300"/>
                </a:solidFill>
                <a:latin typeface="Arial"/>
                <a:ea typeface="Arial"/>
              </a:rPr>
              <a:t>äum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  <a:ea typeface="Arial"/>
              </a:rPr>
              <a:t>ich die Stund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6"/>
          <p:cNvSpPr/>
          <p:nvPr/>
        </p:nvSpPr>
        <p:spPr>
          <a:xfrm>
            <a:off x="473400" y="1268280"/>
            <a:ext cx="757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6. Man sagt, _____ er schon v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seiner Reise zur</a:t>
            </a:r>
            <a:r>
              <a:rPr b="0" lang="en-US" sz="4000" spc="-1" strike="noStrike">
                <a:solidFill>
                  <a:srgbClr val="003300"/>
                </a:solidFill>
                <a:latin typeface="Arial"/>
                <a:ea typeface="Arial"/>
              </a:rPr>
              <a:t>ückgekehrt ist</a:t>
            </a: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6"/>
          <p:cNvSpPr/>
          <p:nvPr/>
        </p:nvSpPr>
        <p:spPr>
          <a:xfrm>
            <a:off x="689040" y="1268280"/>
            <a:ext cx="833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7. Wie sp</a:t>
            </a:r>
            <a:r>
              <a:rPr b="0" lang="en-US" sz="4000" spc="-1" strike="noStrike">
                <a:solidFill>
                  <a:srgbClr val="003300"/>
                </a:solidFill>
                <a:latin typeface="Arial"/>
                <a:ea typeface="Arial"/>
              </a:rPr>
              <a:t>ät war es, _____ Sie heu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  <a:ea typeface="Arial"/>
              </a:rPr>
              <a:t>in die Schule kam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Text Box 6"/>
          <p:cNvSpPr/>
          <p:nvPr/>
        </p:nvSpPr>
        <p:spPr>
          <a:xfrm>
            <a:off x="689760" y="1268280"/>
            <a:ext cx="734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8. _____ er das Auto repariert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sa</a:t>
            </a:r>
            <a:r>
              <a:rPr b="0" lang="en-US" sz="4000" spc="-1" strike="noStrike">
                <a:solidFill>
                  <a:srgbClr val="003300"/>
                </a:solidFill>
                <a:latin typeface="Arial"/>
                <a:ea typeface="Arial"/>
              </a:rPr>
              <a:t>ß seine Frau auf der Bank</a:t>
            </a: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6"/>
          <p:cNvSpPr/>
          <p:nvPr/>
        </p:nvSpPr>
        <p:spPr>
          <a:xfrm>
            <a:off x="689760" y="1268280"/>
            <a:ext cx="825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9. Es dauert aber ein Paar Woche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_____ der neue Pass fertig i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6"/>
          <p:cNvSpPr/>
          <p:nvPr/>
        </p:nvSpPr>
        <p:spPr>
          <a:xfrm>
            <a:off x="328320" y="907920"/>
            <a:ext cx="8620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10. Ich teile den Eltern meine Ankun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mit, _____ sie mich vom Bahnh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abhol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Text Box 2"/>
          <p:cNvSpPr/>
          <p:nvPr/>
        </p:nvSpPr>
        <p:spPr>
          <a:xfrm>
            <a:off x="2771640" y="476280"/>
            <a:ext cx="3529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РЕЗУЛЬТ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3"/>
          <p:cNvSpPr/>
          <p:nvPr/>
        </p:nvSpPr>
        <p:spPr>
          <a:xfrm>
            <a:off x="838080" y="20574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го заданий выполнено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4"/>
          <p:cNvSpPr/>
          <p:nvPr/>
        </p:nvSpPr>
        <p:spPr>
          <a:xfrm>
            <a:off x="838080" y="29718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полнено верно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7"/>
          <p:cNvSpPr/>
          <p:nvPr/>
        </p:nvSpPr>
        <p:spPr>
          <a:xfrm>
            <a:off x="838080" y="38862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цент выполнения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8"/>
          <p:cNvSpPr/>
          <p:nvPr/>
        </p:nvSpPr>
        <p:spPr>
          <a:xfrm>
            <a:off x="838080" y="48006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ценка…………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13"/>
          <p:cNvSpPr/>
          <p:nvPr/>
        </p:nvSpPr>
        <p:spPr>
          <a:xfrm>
            <a:off x="7956720" y="18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обая группа слабых глаголов, изменяющих корневую глас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79280" y="1600200"/>
          <a:ext cx="8785440" cy="5068800"/>
        </p:xfrm>
        <a:graphic>
          <a:graphicData uri="http://schemas.openxmlformats.org/drawingml/2006/table">
            <a:tbl>
              <a:tblPr/>
              <a:tblGrid>
                <a:gridCol w="1656000"/>
                <a:gridCol w="1944720"/>
                <a:gridCol w="1944360"/>
                <a:gridCol w="32403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ä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it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zip 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n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i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i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nn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i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i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ыв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n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</a:t>
                      </a:r>
                      <a:r>
                        <a:rPr b="0" i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</a:t>
                      </a:r>
                      <a:r>
                        <a:rPr b="0" i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е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d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i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i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щат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d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d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d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орачив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i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i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ыл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вать по ради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k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i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i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м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AutoShape 76">
            <a:hlinkClick r:id="rId1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Text Box 7"/>
          <p:cNvSpPr/>
          <p:nvPr/>
        </p:nvSpPr>
        <p:spPr>
          <a:xfrm>
            <a:off x="399240" y="1484280"/>
            <a:ext cx="808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Diese sch</a:t>
            </a:r>
            <a:r>
              <a:rPr b="0" lang="en-US" sz="4000" spc="-1" strike="noStrike">
                <a:solidFill>
                  <a:srgbClr val="003300"/>
                </a:solidFill>
                <a:latin typeface="Arial"/>
                <a:ea typeface="Arial"/>
              </a:rPr>
              <a:t>öne Jacke gehört nic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  <a:ea typeface="Arial"/>
              </a:rPr>
              <a:t>mir, _____ meiner Schwester</a:t>
            </a: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Парные сою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Text Box 2"/>
          <p:cNvSpPr/>
          <p:nvPr/>
        </p:nvSpPr>
        <p:spPr>
          <a:xfrm>
            <a:off x="399240" y="765000"/>
            <a:ext cx="8367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Anna freute sich sowohl </a:t>
            </a:r>
            <a:r>
              <a:rPr b="0" lang="en-US" sz="4000" spc="-1" strike="noStrike">
                <a:solidFill>
                  <a:srgbClr val="003300"/>
                </a:solidFill>
                <a:latin typeface="Arial"/>
                <a:ea typeface="Arial"/>
              </a:rPr>
              <a:t>über 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  <a:ea typeface="Arial"/>
              </a:rPr>
              <a:t>Bilderbuch, _____ über die Video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  <a:ea typeface="Arial"/>
              </a:rPr>
              <a:t>cassette mit einer Liebesgeschichte</a:t>
            </a: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2"/>
          <p:cNvSpPr/>
          <p:nvPr/>
        </p:nvSpPr>
        <p:spPr>
          <a:xfrm>
            <a:off x="185400" y="836640"/>
            <a:ext cx="8703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3300"/>
                </a:solidFill>
                <a:latin typeface="Arial"/>
                <a:ea typeface="Arial"/>
              </a:rPr>
              <a:t>Ihr könnt _____ am Samstag od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  <a:ea typeface="Arial"/>
              </a:rPr>
              <a:t>am Sonntag mich besuchen, ich fre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  <a:ea typeface="Arial"/>
              </a:rPr>
              <a:t>mich darauf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Text Box 2"/>
          <p:cNvSpPr/>
          <p:nvPr/>
        </p:nvSpPr>
        <p:spPr>
          <a:xfrm>
            <a:off x="402120" y="836640"/>
            <a:ext cx="816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4. Klaus faulenzt heute wieder – 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kommt weder zur ersten, _____ z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zweiten Stunde in die Schu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Text Box 6"/>
          <p:cNvSpPr/>
          <p:nvPr/>
        </p:nvSpPr>
        <p:spPr>
          <a:xfrm>
            <a:off x="329400" y="907920"/>
            <a:ext cx="8561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5. Die Welt existiert ewig in Ra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und Zeit: Sie hat _____ einen Anf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_____ ein Ende</a:t>
            </a:r>
            <a:r>
              <a:rPr b="0" lang="en-US" sz="4000" spc="-1" strike="noStrike">
                <a:solidFill>
                  <a:srgbClr val="00330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Text Box 6"/>
          <p:cNvSpPr/>
          <p:nvPr/>
        </p:nvSpPr>
        <p:spPr>
          <a:xfrm>
            <a:off x="472680" y="1268280"/>
            <a:ext cx="86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6. Er ist prinzipiell gegen den Alkoho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Er mag _____ Bier _____ We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Text Box 6"/>
          <p:cNvSpPr/>
          <p:nvPr/>
        </p:nvSpPr>
        <p:spPr>
          <a:xfrm>
            <a:off x="256320" y="620640"/>
            <a:ext cx="867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7. Die Luft ist so schmutzig, dass 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notwendig ist, _____ den Verkauf v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  <a:ea typeface="Arial"/>
              </a:rPr>
              <a:t>Benzin einzuschränken _____ al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  <a:ea typeface="Arial"/>
              </a:rPr>
              <a:t>Masken zu geb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6"/>
          <p:cNvSpPr/>
          <p:nvPr/>
        </p:nvSpPr>
        <p:spPr>
          <a:xfrm>
            <a:off x="472680" y="981000"/>
            <a:ext cx="839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8. Ich habe nicht dich gefragt, 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deinen Freu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Text Box 6"/>
          <p:cNvSpPr/>
          <p:nvPr/>
        </p:nvSpPr>
        <p:spPr>
          <a:xfrm>
            <a:off x="402120" y="1268280"/>
            <a:ext cx="839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9. Leider kenne ich _____ ihn 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seine Fra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Text Box 6"/>
          <p:cNvSpPr/>
          <p:nvPr/>
        </p:nvSpPr>
        <p:spPr>
          <a:xfrm>
            <a:off x="401400" y="1268280"/>
            <a:ext cx="828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10. ______ regnet es, _____sche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die Sonn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мя существитель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  <a:hlinkClick r:id="rId1" action="ppaction://hlinksldjump"/>
              </a:rPr>
              <a:t>Артик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  <a:hlinkClick r:id="rId2" action="ppaction://hlinksldjump"/>
              </a:rPr>
              <a:t>Склонение существите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  <a:hlinkClick r:id="rId3" action="ppaction://hlinksldjump"/>
              </a:rPr>
              <a:t>Множественное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  <a:hlinkClick r:id="rId4" action="ppaction://hlinksldjump"/>
              </a:rPr>
              <a:t>Разделительный генити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  <a:hlinkClick r:id="rId5" action="ppaction://hlinksldjump"/>
              </a:rPr>
              <a:t>Род существитель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  <a:hlinkClick r:id="rId6" action="ppaction://hlinksldjump"/>
              </a:rPr>
              <a:t>Управление существите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  <a:hlinkClick r:id="rId7" action="ppaction://hlinksldjump"/>
              </a:rPr>
              <a:t>Тесты по теме «Имя существительно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>
            <a:hlinkClick r:id="rId8" action="ppaction://hlinksldjump"/>
          </p:cNvPr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8785440" cy="12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новные формы модальных глагол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468360" y="2276640"/>
          <a:ext cx="8229600" cy="3886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ä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it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zip 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önn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i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i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ürf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i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i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üss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i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i="1" lang="en-US" sz="28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u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l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l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l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ll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ll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ög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i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g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i="1" lang="en-US" sz="28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</a:rPr>
                        <a:t>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AutoShape 39">
            <a:hlinkClick r:id="rId1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Text Box 2"/>
          <p:cNvSpPr/>
          <p:nvPr/>
        </p:nvSpPr>
        <p:spPr>
          <a:xfrm>
            <a:off x="2771640" y="476280"/>
            <a:ext cx="3529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00"/>
                </a:solidFill>
                <a:latin typeface="Arial"/>
              </a:rPr>
              <a:t>РЕЗУЛЬТ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3"/>
          <p:cNvSpPr/>
          <p:nvPr/>
        </p:nvSpPr>
        <p:spPr>
          <a:xfrm>
            <a:off x="838080" y="20574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го заданий выполнено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838080" y="29718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полнено верно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7"/>
          <p:cNvSpPr/>
          <p:nvPr/>
        </p:nvSpPr>
        <p:spPr>
          <a:xfrm>
            <a:off x="838080" y="38862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цент выполнения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8"/>
          <p:cNvSpPr/>
          <p:nvPr/>
        </p:nvSpPr>
        <p:spPr>
          <a:xfrm>
            <a:off x="838080" y="4800600"/>
            <a:ext cx="4267440" cy="398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ценка…………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AutoShape 13"/>
          <p:cNvSpPr/>
          <p:nvPr/>
        </p:nvSpPr>
        <p:spPr>
          <a:xfrm>
            <a:off x="7956720" y="18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лоссар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кузати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винительный паде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ти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действительный за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ртикл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служебное слово, показывающее род, число и падеж имени существитель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нити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родительный паде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ати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дательный паде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мперати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повелительное накло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дикати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изъявительное накло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финити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неопределённая форма глаг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/>
          </p:nvPr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ъюнкти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сослагательное накло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оминати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именительный паде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тицип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причас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сси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страдательный за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фек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прошедшее разговорное 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люсквамперфек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предпрошедшее (давнопрошедшее) 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зен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настоящее 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тери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прошедшее повествовательное 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ати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пассив состоя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уту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будущее 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utoShape 4"/>
          <p:cNvSpPr/>
          <p:nvPr/>
        </p:nvSpPr>
        <p:spPr>
          <a:xfrm>
            <a:off x="795672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хайлова О. Э., Шендельс Е. И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правочник по грамматике немецкого языка с упражнениями дл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лассов средней школы. – М.: Просвещение, 198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вчинникова А. В., Овчинников А. Ф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Тесты по немецкому языку для учащихся 5-11 классов общеобразовательной школы. – М.: Лист, 19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негирёва Н. С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Тесты по немецкому языку. – М.: Айрис-пресс, 200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колова Н. Б., Молчанова И. Д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правочник по грамматике немецкого языка дл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-X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лассов школ с углубленным изучением немецкого языка. – М.: Просвещение,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цкевич А. А., Левицкая Е. Г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Грамматика немецкого языка (в таблицах) для учащихся средней школы. – М.: Издат-школа, 199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AutoShape 5"/>
          <p:cNvSpPr/>
          <p:nvPr/>
        </p:nvSpPr>
        <p:spPr>
          <a:xfrm>
            <a:off x="7956720" y="18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новные формы вспомогательных глагол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50920" y="2637000"/>
          <a:ext cx="8642160" cy="2073240"/>
        </p:xfrm>
        <a:graphic>
          <a:graphicData uri="http://schemas.openxmlformats.org/drawingml/2006/table">
            <a:tbl>
              <a:tblPr/>
              <a:tblGrid>
                <a:gridCol w="2881080"/>
                <a:gridCol w="2880000"/>
                <a:gridCol w="288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ä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it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zip 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hab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wes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d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ur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word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AutoShape 74">
            <a:hlinkClick r:id="rId1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новные формы неправильных глагол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468360" y="2349360"/>
          <a:ext cx="8280360" cy="3935520"/>
        </p:xfrm>
        <a:graphic>
          <a:graphicData uri="http://schemas.openxmlformats.org/drawingml/2006/table">
            <a:tbl>
              <a:tblPr/>
              <a:tblGrid>
                <a:gridCol w="2070000"/>
                <a:gridCol w="2070000"/>
                <a:gridCol w="2070360"/>
                <a:gridCol w="207000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ä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it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zip 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h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gang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h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and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я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л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ng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ch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brac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оси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z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ess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де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s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uss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wus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AutoShape 55">
            <a:hlinkClick r:id="rId1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формы некоторых сильных глагол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79280" y="765000"/>
          <a:ext cx="8785440" cy="598824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ä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it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zip 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bl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g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f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f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f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fl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g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h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k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u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l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u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l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l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r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r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chr</a:t>
                      </a:r>
                      <a:r>
                        <a:rPr b="0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AutoShape 160">
            <a:hlinkClick r:id="rId1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пряжение глаголов в настоящем времен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Präsen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08000" y="1268280"/>
            <a:ext cx="8928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бозначения действия в настоящем или будущем времени используется временная форма Präsens. При изменении глагола по лицам к основе глагола добавляются личные окончания. Форма глагола при вежливом обращении (местоим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в немецком языке совпадает с 3 лицом мн.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08000" y="566064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6666"/>
                </a:solidFill>
                <a:uFillTx/>
                <a:latin typeface="Arial"/>
                <a:hlinkClick r:id="rId1" action="ppaction://hlinksldjump"/>
              </a:rPr>
              <a:t>Слаб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силь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Arial"/>
                <a:hlinkClick r:id="rId3" action="ppaction://hlinksldjump"/>
              </a:rPr>
              <a:t>неправиль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Arial"/>
                <a:hlinkClick r:id="rId4" action="ppaction://hlinksldjump"/>
              </a:rPr>
              <a:t>модаль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лаголы проявляют при спряжении в презенсе некоторые особ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79280" y="3573360"/>
          <a:ext cx="8791560" cy="2087640"/>
        </p:xfrm>
        <a:graphic>
          <a:graphicData uri="http://schemas.openxmlformats.org/drawingml/2006/table">
            <a:tbl>
              <a:tblPr/>
              <a:tblGrid>
                <a:gridCol w="1079640"/>
                <a:gridCol w="4253040"/>
                <a:gridCol w="345888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ц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. ч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. ч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h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я)</a:t>
                      </a: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                      -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ы)</a:t>
                      </a: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            -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)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(e)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r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ы)</a:t>
                      </a: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(e)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/sie/es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н/она/оно)</a:t>
                      </a: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(e)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/Sie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ни/Вы)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-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AutoShape 72">
            <a:hlinkClick r:id="rId5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абые глаголы в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äsens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78544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спряжении слабых глаголов в настоящем времени к основе глагола добавляются личные окончания (см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frage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прашива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основа глагола (слабого или сильного, не изменяющего корневого гласного) оканчивается н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, 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ли сочетание согласных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chn, ffn, dm, gn, t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напр., antworten, bilden, zeichnen), то между основой глагола и личным окончанием вставляется гласный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основа глагола (слабого или сильного) заканчивается н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, ss, ß, z, tz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напр., grüßen, heißen, lesen, sitzen), то во 2 лице ед.ч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окончании выпадает, и глаголы получают окончани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79280" y="3068640"/>
          <a:ext cx="8785440" cy="3627360"/>
        </p:xfrm>
        <a:graphic>
          <a:graphicData uri="http://schemas.openxmlformats.org/drawingml/2006/table">
            <a:tbl>
              <a:tblPr/>
              <a:tblGrid>
                <a:gridCol w="2197080"/>
                <a:gridCol w="2195640"/>
                <a:gridCol w="2197080"/>
                <a:gridCol w="2195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ge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worte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üße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g</a:t>
                      </a: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wort</a:t>
                      </a: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üß</a:t>
                      </a: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g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t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wort</a:t>
                      </a: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t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üß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/sie/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g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wort</a:t>
                      </a: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üß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g</a:t>
                      </a: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wort</a:t>
                      </a: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üß</a:t>
                      </a: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g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wort</a:t>
                      </a: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üß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/S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g</a:t>
                      </a: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wort</a:t>
                      </a: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üß</a:t>
                      </a: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AutoShape 60">
            <a:hlinkClick r:id="rId1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ьные глагол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äs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) Сильные глаголы во 2 и 3 л. ед.ч. изменяют корневую гласную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a, au, 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лучают умлаут (напр., fahren, laufen, halten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сный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ереходит в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geben, lesen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У сильных глаголов с изменяемой корневой гласной, основа которых заканчивается 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о 2 и 3 л. ед.ч. соединительный гласны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 добавляется, в 3 л. также не добавляется окончание (напр., halten - du hältst, er hält), а во 2 л. мн.ч. (где корневой гласный не изменяется) они, как и слабые глаголы, получают соединительны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ihr hal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t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08000" y="3573360"/>
          <a:ext cx="8928000" cy="3200400"/>
        </p:xfrm>
        <a:graphic>
          <a:graphicData uri="http://schemas.openxmlformats.org/drawingml/2006/table">
            <a:tbl>
              <a:tblPr/>
              <a:tblGrid>
                <a:gridCol w="1487520"/>
                <a:gridCol w="1488960"/>
                <a:gridCol w="1487520"/>
                <a:gridCol w="1487520"/>
                <a:gridCol w="1488960"/>
                <a:gridCol w="1487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be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hre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fe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e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te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b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hr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f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t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r>
                        <a:rPr b="0" i="1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t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ä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t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i="1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äu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i="1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e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i="1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ä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t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/sie/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r>
                        <a:rPr b="0" i="1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ä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i="1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äu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i="1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e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i="1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ä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b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hr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f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t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b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hr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f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t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/S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b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hr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f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t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AutoShape 119">
            <a:hlinkClick r:id="rId1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правильные глаголы 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äsen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79280" y="1916280"/>
          <a:ext cx="8785440" cy="4752720"/>
        </p:xfrm>
        <a:graphic>
          <a:graphicData uri="http://schemas.openxmlformats.org/drawingml/2006/table">
            <a:tbl>
              <a:tblPr/>
              <a:tblGrid>
                <a:gridCol w="2197080"/>
                <a:gridCol w="2195640"/>
                <a:gridCol w="2197080"/>
                <a:gridCol w="2195640"/>
              </a:tblGrid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i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e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de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ab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er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a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t</a:t>
                      </a: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rst</a:t>
                      </a: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/sie/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a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rd</a:t>
                      </a: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i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abe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erde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e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ab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erde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/S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i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abe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erde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AutoShape 50">
            <a:hlinkClick r:id="rId1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487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одальные глаголы и глагол "wissen"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äs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8000" y="2060280"/>
            <a:ext cx="8928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альные глаголы изменяют корневой гласный в ед.ч. (кром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olle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, и в 1 и 3 л. ед.ч. не имеют оконч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08000" y="3860640"/>
          <a:ext cx="8928000" cy="2830680"/>
        </p:xfrm>
        <a:graphic>
          <a:graphicData uri="http://schemas.openxmlformats.org/drawingml/2006/table">
            <a:tbl>
              <a:tblPr/>
              <a:tblGrid>
                <a:gridCol w="1369800"/>
                <a:gridCol w="1078200"/>
                <a:gridCol w="1081080"/>
                <a:gridCol w="1079280"/>
                <a:gridCol w="1081080"/>
                <a:gridCol w="1078200"/>
                <a:gridCol w="1081080"/>
                <a:gridCol w="1079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nn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ürf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ss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l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ll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ög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s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i="1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ß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l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t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t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i="1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ß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/sie/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i="1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ß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nn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ürf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ss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l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ll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ög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s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nn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ürf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ss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l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ll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ög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s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/S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nn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ürf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üss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l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ll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ög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s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AutoShape 292">
            <a:hlinkClick r:id="rId1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удущее время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 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тур I обозначает действие в будущем време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Er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wird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in der Bibliothek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arbeite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н будет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бот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библиоте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тур I может иметь такж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дальн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начение предположения о действии в настоящем времен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Er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wird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zu Hause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sei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ероятно, он д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тур I образуется из презенса вспомогательного глагол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werde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 соответствующем лице) и инфинит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го глаго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79280" y="5084640"/>
          <a:ext cx="8785440" cy="1584360"/>
        </p:xfrm>
        <a:graphic>
          <a:graphicData uri="http://schemas.openxmlformats.org/drawingml/2006/table">
            <a:tbl>
              <a:tblPr/>
              <a:tblGrid>
                <a:gridCol w="1584360"/>
                <a:gridCol w="2808360"/>
                <a:gridCol w="1312920"/>
                <a:gridCol w="3079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st      arbeit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d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det     arbeit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d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/sie/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/S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1" name="AutoShape 64"/>
          <p:cNvSpPr/>
          <p:nvPr/>
        </p:nvSpPr>
        <p:spPr>
          <a:xfrm>
            <a:off x="2916360" y="522936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65"/>
          <p:cNvSpPr/>
          <p:nvPr/>
        </p:nvSpPr>
        <p:spPr>
          <a:xfrm>
            <a:off x="7308720" y="5229360"/>
            <a:ext cx="152640" cy="1295280"/>
          </a:xfrm>
          <a:custGeom>
            <a:avLst/>
            <a:gdLst>
              <a:gd name="textAreaLeft" fmla="*/ 0 w 152640"/>
              <a:gd name="textAreaRight" fmla="*/ 55080 w 15264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66">
            <a:hlinkClick r:id="rId1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ртик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существительные в немецком языке пишутся с заглавной буквы и употребляются с определенным или неопределенным артиклем. Артикл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жебное слово, которое указывает на род, число и падеж существительного. Во множественном числе неопределенного артикля нет. Определенный артикль во множественном числе для всех родов одинаков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79280" y="3860640"/>
          <a:ext cx="8785440" cy="2926080"/>
        </p:xfrm>
        <a:graphic>
          <a:graphicData uri="http://schemas.openxmlformats.org/drawingml/2006/table">
            <a:tbl>
              <a:tblPr/>
              <a:tblGrid>
                <a:gridCol w="1871640"/>
                <a:gridCol w="1643040"/>
                <a:gridCol w="1756080"/>
                <a:gridCol w="1757160"/>
                <a:gridCol w="175752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тик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ственное чис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.чис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.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.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опреде-лён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cc3300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неопре-делён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AutoShape 91">
            <a:hlinkClick r:id="rId3" action="ppaction://hlinksldjump"/>
          </p:cNvPr>
          <p:cNvSpPr/>
          <p:nvPr/>
        </p:nvSpPr>
        <p:spPr>
          <a:xfrm>
            <a:off x="8604360" y="0"/>
            <a:ext cx="539640" cy="504720"/>
          </a:xfrm>
          <a:custGeom>
            <a:avLst/>
            <a:gdLst>
              <a:gd name="textAreaLeft" fmla="*/ 32400 w 539640"/>
              <a:gd name="textAreaRight" fmla="*/ 507240 w 53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093" h="21600">
                <a:moveTo>
                  <a:pt x="0" y="0"/>
                </a:moveTo>
                <a:lnTo>
                  <a:pt x="23093" y="0"/>
                </a:lnTo>
                <a:lnTo>
                  <a:pt x="23093" y="21600"/>
                </a:lnTo>
                <a:lnTo>
                  <a:pt x="0" y="21600"/>
                </a:lnTo>
                <a:close/>
              </a:path>
              <a:path fill="lightenLess" w="23093" h="21600">
                <a:moveTo>
                  <a:pt x="0" y="0"/>
                </a:moveTo>
                <a:lnTo>
                  <a:pt x="23093" y="0"/>
                </a:lnTo>
                <a:lnTo>
                  <a:pt x="21693" y="1400"/>
                </a:lnTo>
                <a:lnTo>
                  <a:pt x="1400" y="1400"/>
                </a:lnTo>
                <a:close/>
              </a:path>
              <a:path fill="darken" w="23093" h="21600">
                <a:moveTo>
                  <a:pt x="23093" y="0"/>
                </a:moveTo>
                <a:lnTo>
                  <a:pt x="23093" y="21600"/>
                </a:lnTo>
                <a:lnTo>
                  <a:pt x="21693" y="20200"/>
                </a:lnTo>
                <a:lnTo>
                  <a:pt x="21693" y="1400"/>
                </a:lnTo>
                <a:close/>
              </a:path>
              <a:path fill="darkenLess" w="23093" h="21600">
                <a:moveTo>
                  <a:pt x="23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3" y="20200"/>
                </a:lnTo>
                <a:close/>
              </a:path>
              <a:path fill="lighten" w="23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3" h="21600">
                <a:moveTo>
                  <a:pt x="11547" y="3837"/>
                </a:moveTo>
                <a:lnTo>
                  <a:pt x="14123" y="6448"/>
                </a:lnTo>
                <a:lnTo>
                  <a:pt x="14123" y="4707"/>
                </a:lnTo>
                <a:lnTo>
                  <a:pt x="15899" y="4707"/>
                </a:lnTo>
                <a:lnTo>
                  <a:pt x="15899" y="8224"/>
                </a:lnTo>
                <a:lnTo>
                  <a:pt x="18510" y="10800"/>
                </a:lnTo>
                <a:lnTo>
                  <a:pt x="16856" y="10800"/>
                </a:lnTo>
                <a:lnTo>
                  <a:pt x="16856" y="17989"/>
                </a:lnTo>
                <a:lnTo>
                  <a:pt x="6237" y="17989"/>
                </a:lnTo>
                <a:lnTo>
                  <a:pt x="6237" y="10800"/>
                </a:lnTo>
                <a:lnTo>
                  <a:pt x="4584" y="10800"/>
                </a:lnTo>
                <a:close/>
              </a:path>
              <a:path fill="darkenLess" w="23093" h="21600">
                <a:moveTo>
                  <a:pt x="14123" y="6448"/>
                </a:moveTo>
                <a:lnTo>
                  <a:pt x="14123" y="4707"/>
                </a:lnTo>
                <a:lnTo>
                  <a:pt x="15899" y="4707"/>
                </a:lnTo>
                <a:lnTo>
                  <a:pt x="15899" y="8224"/>
                </a:lnTo>
                <a:close/>
              </a:path>
              <a:path fill="darkenLess" w="23093" h="21600">
                <a:moveTo>
                  <a:pt x="10624" y="14299"/>
                </a:moveTo>
                <a:lnTo>
                  <a:pt x="12469" y="14299"/>
                </a:lnTo>
                <a:lnTo>
                  <a:pt x="12469" y="17989"/>
                </a:lnTo>
                <a:lnTo>
                  <a:pt x="16856" y="17989"/>
                </a:lnTo>
                <a:lnTo>
                  <a:pt x="16856" y="10800"/>
                </a:lnTo>
                <a:lnTo>
                  <a:pt x="6237" y="10800"/>
                </a:lnTo>
                <a:lnTo>
                  <a:pt x="6237" y="17989"/>
                </a:lnTo>
                <a:lnTo>
                  <a:pt x="10624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удущее время (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 I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тур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значает предшествующее действие в будущем времени (действие, которое завершится до определенного момента в будущем времени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Bis Montag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werden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wir den Vertrag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abgeschlossen haben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- До понедельника мы заключим догов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тур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ет иметь также модальное значение предположения о действии в прошедшем времен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Sie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wir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die Arbeit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beendet haben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- Вероятно, онa закончилa раб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тур II употребляется редко. Он образуется из презенса вспомогательного глагол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werde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Arial"/>
                <a:hlinkClick r:id="rId1" action="ppaction://hlinksldjump"/>
              </a:rPr>
              <a:t>инфинитива I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ого глаго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179280" y="5589720"/>
          <a:ext cx="8785440" cy="1189080"/>
        </p:xfrm>
        <a:graphic>
          <a:graphicData uri="http://schemas.openxmlformats.org/drawingml/2006/table">
            <a:tbl>
              <a:tblPr/>
              <a:tblGrid>
                <a:gridCol w="1152720"/>
                <a:gridCol w="3240000"/>
                <a:gridCol w="1008000"/>
                <a:gridCol w="3384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st       gearbeitet hab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det      gearbeitet hab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/sie/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/S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7" name="AutoShape 51"/>
          <p:cNvSpPr/>
          <p:nvPr/>
        </p:nvSpPr>
        <p:spPr>
          <a:xfrm>
            <a:off x="2195640" y="57340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52"/>
          <p:cNvSpPr/>
          <p:nvPr/>
        </p:nvSpPr>
        <p:spPr>
          <a:xfrm>
            <a:off x="6588000" y="573408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53">
            <a:hlinkClick r:id="rId2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854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шедшее повествовательное время (Präteritu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терит (прошедшее повествовательное) употребляется в связном повествовании в форме рассказа, литературного произведения о действиях, происходивших в прош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менная форма Präteritum образуется от второй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Arial"/>
                <a:hlinkClick r:id="rId1" action="ppaction://hlinksldjump"/>
              </a:rPr>
              <a:t>основной формы глаго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акже называемой Präteritum (или Imperfekt) с добавлением личных окончаний, как в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презенс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роме 1-го и 3-го лица е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. В 1-м и 3-м лице е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претерите глаголы не имеют личных оконча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79280" y="4581360"/>
          <a:ext cx="8785440" cy="2087640"/>
        </p:xfrm>
        <a:graphic>
          <a:graphicData uri="http://schemas.openxmlformats.org/drawingml/2006/table">
            <a:tbl>
              <a:tblPr/>
              <a:tblGrid>
                <a:gridCol w="1078200"/>
                <a:gridCol w="4249440"/>
                <a:gridCol w="345780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ц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. ч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. ч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h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я)</a:t>
                      </a: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                     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ы)</a:t>
                      </a: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            -(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)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r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ы)</a:t>
                      </a: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/sie/es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н/она/оно)</a:t>
                      </a: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/Sie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ни/Вы)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–</a:t>
                      </a: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ru-RU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AutoShape 30">
            <a:hlinkClick r:id="rId3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ряжение глаголов в Präterit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терит слабых глаголов образуется добавлением к основе глагола суффикс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(e)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machen - mach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терит сильных глаголов образуется посредством чередования корневого гласного. В претерите сильных глаголов суффикс отсутству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hmen - n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альные глаголы образуют претерит с суффиксами слабых глаголов и теряют умлау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önnen - k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n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79280" y="3213000"/>
          <a:ext cx="8785440" cy="3456000"/>
        </p:xfrm>
        <a:graphic>
          <a:graphicData uri="http://schemas.openxmlformats.org/drawingml/2006/table">
            <a:tbl>
              <a:tblPr/>
              <a:tblGrid>
                <a:gridCol w="1152720"/>
                <a:gridCol w="1727280"/>
                <a:gridCol w="1728720"/>
                <a:gridCol w="1871640"/>
                <a:gridCol w="230508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помога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h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önn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h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ht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hm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nt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t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/sie/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h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ht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hm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nt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t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ht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hm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nt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t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/S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ht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hm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nt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t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AutoShape 116">
            <a:hlinkClick r:id="rId1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шедшее разговорное время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fek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фект выражает действие в прошедшем времени, связанное с настоящим временем (актуальное для настоящего, либо настоящее является результатом этого действия), поэтому он используется обычно в диалогах, разговорно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фект образуется из вспомогательного глагол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abe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i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тоящего в соответствующем лице презенса, и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Arial"/>
                <a:hlinkClick r:id="rId1" action="ppaction://hlinksldjump"/>
              </a:rPr>
              <a:t>партиципа I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го глаго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79280" y="3933720"/>
          <a:ext cx="8785440" cy="2743200"/>
        </p:xfrm>
        <a:graphic>
          <a:graphicData uri="http://schemas.openxmlformats.org/drawingml/2006/table">
            <a:tbl>
              <a:tblPr/>
              <a:tblGrid>
                <a:gridCol w="2016360"/>
                <a:gridCol w="3313080"/>
                <a:gridCol w="345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e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s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/sie/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/S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01" name="AutoShape 97"/>
          <p:cNvSpPr/>
          <p:nvPr/>
        </p:nvSpPr>
        <p:spPr>
          <a:xfrm>
            <a:off x="3348000" y="4076640"/>
            <a:ext cx="152280" cy="2448000"/>
          </a:xfrm>
          <a:custGeom>
            <a:avLst/>
            <a:gdLst>
              <a:gd name="textAreaLeft" fmla="*/ 0 w 152280"/>
              <a:gd name="textAreaRight" fmla="*/ 55080 w 15228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99"/>
          <p:cNvSpPr/>
          <p:nvPr/>
        </p:nvSpPr>
        <p:spPr>
          <a:xfrm>
            <a:off x="3710520" y="508464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m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00"/>
          <p:cNvSpPr/>
          <p:nvPr/>
        </p:nvSpPr>
        <p:spPr>
          <a:xfrm>
            <a:off x="6516720" y="4076640"/>
            <a:ext cx="223920" cy="2448000"/>
          </a:xfrm>
          <a:custGeom>
            <a:avLst/>
            <a:gdLst>
              <a:gd name="textAreaLeft" fmla="*/ 0 w 223920"/>
              <a:gd name="textAreaRight" fmla="*/ 80640 w 22392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1"/>
          <p:cNvSpPr/>
          <p:nvPr/>
        </p:nvSpPr>
        <p:spPr>
          <a:xfrm>
            <a:off x="6951240" y="508464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ko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02">
            <a:hlinkClick r:id="rId2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прошедшее время (Plusquamperfek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25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юсквамперфект обозначает законченное действие, предшествующее другому действию в прошедшем времени, при этом второе действие выражается в претери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юсквамперфект образуется из претерита вспомогательных глаголо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abe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i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партиципа 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сновного глагола. Выбор вспомогательного глагола осуществляется как в перфек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79280" y="3938760"/>
          <a:ext cx="8785440" cy="2743200"/>
        </p:xfrm>
        <a:graphic>
          <a:graphicData uri="http://schemas.openxmlformats.org/drawingml/2006/table">
            <a:tbl>
              <a:tblPr/>
              <a:tblGrid>
                <a:gridCol w="2016360"/>
                <a:gridCol w="3313080"/>
                <a:gridCol w="345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t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t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/sie/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/S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09" name="AutoShape 57"/>
          <p:cNvSpPr/>
          <p:nvPr/>
        </p:nvSpPr>
        <p:spPr>
          <a:xfrm>
            <a:off x="3419640" y="4076640"/>
            <a:ext cx="152280" cy="2448000"/>
          </a:xfrm>
          <a:custGeom>
            <a:avLst/>
            <a:gdLst>
              <a:gd name="textAreaLeft" fmla="*/ 0 w 152280"/>
              <a:gd name="textAreaRight" fmla="*/ 55080 w 15228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8"/>
          <p:cNvSpPr/>
          <p:nvPr/>
        </p:nvSpPr>
        <p:spPr>
          <a:xfrm>
            <a:off x="3710520" y="508464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m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59"/>
          <p:cNvSpPr/>
          <p:nvPr/>
        </p:nvSpPr>
        <p:spPr>
          <a:xfrm>
            <a:off x="6659640" y="4076640"/>
            <a:ext cx="225360" cy="2448000"/>
          </a:xfrm>
          <a:custGeom>
            <a:avLst/>
            <a:gdLst>
              <a:gd name="textAreaLeft" fmla="*/ 0 w 225360"/>
              <a:gd name="textAreaRight" fmla="*/ 81360 w 22536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0"/>
          <p:cNvSpPr/>
          <p:nvPr/>
        </p:nvSpPr>
        <p:spPr>
          <a:xfrm>
            <a:off x="7095960" y="508464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ko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61">
            <a:hlinkClick r:id="rId2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перфекте (и плюсквамперфект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8000" y="1052280"/>
            <a:ext cx="89280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бор вспомогательного глагола зависит от значения основного глаго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79280" y="1628640"/>
          <a:ext cx="8785440" cy="5040360"/>
        </p:xfrm>
        <a:graphic>
          <a:graphicData uri="http://schemas.openxmlformats.org/drawingml/2006/table">
            <a:tbl>
              <a:tblPr/>
              <a:tblGrid>
                <a:gridCol w="4394160"/>
                <a:gridCol w="43912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abe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прягаются 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i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прягаются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just">
                        <a:spcBef>
                          <a:spcPts val="499"/>
                        </a:spcBef>
                        <a:buClr>
                          <a:srgbClr val="779f92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ходные глаголы: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en vt, verstehen, vt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 др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99"/>
                        </a:spcBef>
                        <a:buClr>
                          <a:srgbClr val="779f92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ереходные глаголы, обозначающие спокойное состояние, продолжительное действие: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egen,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ze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 др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99"/>
                        </a:spcBef>
                        <a:buClr>
                          <a:srgbClr val="779f92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вратные глаголы: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h freuen, sich interessiere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 др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99"/>
                        </a:spcBef>
                        <a:buClr>
                          <a:srgbClr val="779f92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альные глагол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99"/>
                        </a:spcBef>
                        <a:buClr>
                          <a:srgbClr val="779f92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личные глаголы: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regnet - es hat geregnet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шел дождь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99"/>
                        </a:spcBef>
                        <a:buClr>
                          <a:srgbClr val="779f92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just">
                        <a:spcBef>
                          <a:spcPts val="499"/>
                        </a:spcBef>
                        <a:buClr>
                          <a:srgbClr val="779f92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ереходные глаголы, обозначающие движение (перемещение) -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hen, kommen, fahre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 др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99"/>
                        </a:spcBef>
                        <a:buClr>
                          <a:srgbClr val="779f92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ереходные глаголы, обозначающие изменение состояния, перемену мест -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wachen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росыпаться),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f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he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в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вать) и др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99"/>
                        </a:spcBef>
                        <a:buClr>
                          <a:srgbClr val="779f92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голы: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in, werden, bleiben, begegnen, geschehen, passiere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происходить, случаться),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linge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удаваться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len, fol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AutoShape 27">
            <a:hlinkClick r:id="rId1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клон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егория наклонения глагола выражает отношение действия к действительности. Наклонение имеет знач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ьности - изъявительное наклонение (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Arial"/>
                <a:hlinkClick r:id="rId1" action="ppaction://hlinksldjump"/>
              </a:rPr>
              <a:t>der Indikati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реальности - сослагательное наклонение (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der Konjunkti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буждения - повелительное наклонение (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Arial"/>
                <a:hlinkClick r:id="rId3" action="ppaction://hlinksldjump"/>
              </a:rPr>
              <a:t>der Imperati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м наклонением в повествовании является индикатив. Глаголы в индикативе изменяются по лицам, числам и врем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ъюнктив в немецком языке также имеет развитую систему времен (8 временных форм), в отличие от русского языка, где сослагательное наклонение выражается глаголами в прошедшем времени с частицей "бы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">
            <a:hlinkClick r:id="rId4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878544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ъявительное наклонение (Indikat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зъявительном наклонении немецкий глагол имеет шесть временных фор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66"/>
                </a:solidFill>
                <a:uFillTx/>
                <a:latin typeface="Arial"/>
                <a:hlinkClick r:id="rId1" action="ppaction://hlinksldjump"/>
              </a:rPr>
              <a:t>Präsen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66"/>
                </a:solidFill>
                <a:uFillTx/>
                <a:latin typeface="Arial"/>
                <a:hlinkClick r:id="rId2" action="ppaction://hlinksldjump"/>
              </a:rPr>
              <a:t>Futu</a:t>
            </a:r>
            <a:r>
              <a:rPr b="0" lang="en-US" sz="1800" spc="-1" strike="noStrike" u="sng">
                <a:solidFill>
                  <a:srgbClr val="006666"/>
                </a:solidFill>
                <a:uFillTx/>
                <a:latin typeface="Arial"/>
                <a:hlinkClick r:id="rId3" action="ppaction://hlinksldjump"/>
              </a:rPr>
              <a:t>r I</a:t>
            </a:r>
            <a:r>
              <a:rPr b="0" lang="ru-RU" sz="1800" spc="-1" strike="noStrike" u="sng">
                <a:solidFill>
                  <a:srgbClr val="006666"/>
                </a:solidFill>
                <a:uFillTx/>
                <a:latin typeface="Arial"/>
                <a:hlinkClick r:id="rId4" action="ppaction://hlinksldjump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66"/>
                </a:solidFill>
                <a:uFillTx/>
                <a:latin typeface="Arial"/>
                <a:hlinkClick r:id="rId5" action="ppaction://hlinksldjump"/>
              </a:rPr>
              <a:t>Futur 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66"/>
                </a:solidFill>
                <a:uFillTx/>
                <a:latin typeface="Arial"/>
                <a:hlinkClick r:id="rId6" action="ppaction://hlinksldjump"/>
              </a:rPr>
              <a:t>Präteritu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66"/>
                </a:solidFill>
                <a:uFillTx/>
                <a:latin typeface="Arial"/>
                <a:hlinkClick r:id="rId7" action="ppaction://hlinksldjump"/>
              </a:rPr>
              <a:t>Perfek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66"/>
                </a:solidFill>
                <a:uFillTx/>
                <a:latin typeface="Arial"/>
                <a:hlinkClick r:id="rId8" action="ppaction://hlinksldjump"/>
              </a:rPr>
              <a:t>Plusquamperfek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ременные формы могут употреблятьс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бсолютн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начении, то есть для обозначения действия в настоящем (Präsens), прошедшем (Präteritum, Perfekt, реже Plusquamperfekt) или будущем времени (Präsens, Futur I), а так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носительн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начении, то есть выражают одновременность совершения действий или предшествование одного действия другом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овременные действия обозначаются обычно одной и той же временной формой. Для того чтобы показать предшествование, используются следующие пары времен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Plusquamperfekt + Präteritum (2 действия в прошедшем времен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Perfekt + Präsens (одно действие в прошедшем времени, второе - в настоящем времен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Perfekt (Futur II) + Futur I (два действия в будущем времен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">
            <a:hlinkClick r:id="rId9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Повелительное наклонение (Imperativ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79280" y="5805360"/>
            <a:ext cx="87854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обудительном предложени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лагол стоит на первом мест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Отделяемая приставка ставится в конец предложения. Обратите внимание на формы императива от глагол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ei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i!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Будь!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id!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Будьте!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ien Sie!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Будьте!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ien wir!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Будем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79280" y="981000"/>
          <a:ext cx="8785440" cy="4735440"/>
        </p:xfrm>
        <a:graphic>
          <a:graphicData uri="http://schemas.openxmlformats.org/drawingml/2006/table">
            <a:tbl>
              <a:tblPr/>
              <a:tblGrid>
                <a:gridCol w="3024360"/>
                <a:gridCol w="4248000"/>
                <a:gridCol w="1513080"/>
              </a:tblGrid>
              <a:tr h="204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л. ед.ч. (обращение на "ты"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уется из основы глагола и факультативного суффикса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После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t, -d, -tm, -ffn, -chn, -el, -ig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уффикс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бязателен. У сильных глаголов с корневой гласной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, о, au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млаут не добавляется. Корневая гласная «e» у сильных глаголов меняется на «i(e)», при этом суффикс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e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е добавляетс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ig(e)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wort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f(e)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hr(e)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es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ich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л. мн.ч. (обращение к нескольким лицам, к каждому из которых мы обращаемся на "ты"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падает с соответствующей формой глагола в презенсе (основа глагола +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t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, личное местоимение отсутствуе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t! Antwortet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жливая форма (обращение на "Вы" к одному или нескольким лица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уется из глагола и местоимения, которое ставится после глагол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en Sie! Kommen Sie herein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л. мн.ч. (призыв к совместному действию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уется из глагола и местоимения, которое ставится после глагол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en wir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AutoShape 137">
            <a:hlinkClick r:id="rId1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лагательное наклонение (Konjunkt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ское сослагательное наклонение имеет значение возможности, предположительности и выражается глаголами в прошедшем времени с частицей "бы": мог бы, играл б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равнению с русским сослагательным наклонением немецкий конъюнктив шире как по функциям, так и по форм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ъюнктив имеет все временные формы, как и индикатив: презенс, футурум, перфект, претерит, плюсквамперфект + 2 дополнительные: кондиционалис I и кондиционалис II. По способу образования и употреблению все временные формы можно разделить на 2 групп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79280" y="4076640"/>
          <a:ext cx="8785440" cy="2597040"/>
        </p:xfrm>
        <a:graphic>
          <a:graphicData uri="http://schemas.openxmlformats.org/drawingml/2006/table">
            <a:tbl>
              <a:tblPr/>
              <a:tblGrid>
                <a:gridCol w="4392720"/>
                <a:gridCol w="43927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зентные формы (</a:t>
                      </a:r>
                      <a:r>
                        <a:rPr b="0" lang="ru-RU" sz="24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Konjunktiv 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теритальные формы (</a:t>
                      </a:r>
                      <a:r>
                        <a:rPr b="0" lang="ru-RU" sz="24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Konjunktiv I</a:t>
                      </a:r>
                      <a:r>
                        <a:rPr b="0" lang="en-US" sz="24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äs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k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äterit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squamperfek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ditionalis I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ditionalis 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1" name="AutoShape 31">
            <a:hlinkClick r:id="rId4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клонение определённого артик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9280" y="1197000"/>
          <a:ext cx="8785440" cy="35082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584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де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ственное чис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.чис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.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.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k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9280" y="4941720"/>
            <a:ext cx="878544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определенный артикль склоняются также </a:t>
            </a: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  <a:hlinkClick r:id="rId1" action="ppaction://hlinksldjump"/>
              </a:rPr>
              <a:t>указательные местоимен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dies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этот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jen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тот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olch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такой и </a:t>
            </a:r>
            <a:r>
              <a:rPr b="0" lang="ru-RU" sz="2800" spc="-1" strike="noStrike" u="sng">
                <a:solidFill>
                  <a:srgbClr val="cc3300"/>
                </a:solidFill>
                <a:uFillTx/>
                <a:latin typeface="Arial"/>
                <a:hlinkClick r:id="rId2" action="ppaction://hlinksldjump"/>
              </a:rPr>
              <a:t>вопросительное местоимени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elch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как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1">
            <a:hlinkClick r:id="rId3" action="ppaction://hlinksldjump"/>
          </p:cNvPr>
          <p:cNvSpPr/>
          <p:nvPr/>
        </p:nvSpPr>
        <p:spPr>
          <a:xfrm>
            <a:off x="8604360" y="0"/>
            <a:ext cx="539640" cy="504720"/>
          </a:xfrm>
          <a:custGeom>
            <a:avLst/>
            <a:gdLst>
              <a:gd name="textAreaLeft" fmla="*/ 32400 w 539640"/>
              <a:gd name="textAreaRight" fmla="*/ 507240 w 53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093" h="21600">
                <a:moveTo>
                  <a:pt x="0" y="0"/>
                </a:moveTo>
                <a:lnTo>
                  <a:pt x="23093" y="0"/>
                </a:lnTo>
                <a:lnTo>
                  <a:pt x="23093" y="21600"/>
                </a:lnTo>
                <a:lnTo>
                  <a:pt x="0" y="21600"/>
                </a:lnTo>
                <a:close/>
              </a:path>
              <a:path fill="lightenLess" w="23093" h="21600">
                <a:moveTo>
                  <a:pt x="0" y="0"/>
                </a:moveTo>
                <a:lnTo>
                  <a:pt x="23093" y="0"/>
                </a:lnTo>
                <a:lnTo>
                  <a:pt x="21693" y="1400"/>
                </a:lnTo>
                <a:lnTo>
                  <a:pt x="1400" y="1400"/>
                </a:lnTo>
                <a:close/>
              </a:path>
              <a:path fill="darken" w="23093" h="21600">
                <a:moveTo>
                  <a:pt x="23093" y="0"/>
                </a:moveTo>
                <a:lnTo>
                  <a:pt x="23093" y="21600"/>
                </a:lnTo>
                <a:lnTo>
                  <a:pt x="21693" y="20200"/>
                </a:lnTo>
                <a:lnTo>
                  <a:pt x="21693" y="1400"/>
                </a:lnTo>
                <a:close/>
              </a:path>
              <a:path fill="darkenLess" w="23093" h="21600">
                <a:moveTo>
                  <a:pt x="23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3" y="20200"/>
                </a:lnTo>
                <a:close/>
              </a:path>
              <a:path fill="lighten" w="23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3" h="21600">
                <a:moveTo>
                  <a:pt x="11547" y="3837"/>
                </a:moveTo>
                <a:lnTo>
                  <a:pt x="14123" y="6448"/>
                </a:lnTo>
                <a:lnTo>
                  <a:pt x="14123" y="4707"/>
                </a:lnTo>
                <a:lnTo>
                  <a:pt x="15899" y="4707"/>
                </a:lnTo>
                <a:lnTo>
                  <a:pt x="15899" y="8224"/>
                </a:lnTo>
                <a:lnTo>
                  <a:pt x="18510" y="10800"/>
                </a:lnTo>
                <a:lnTo>
                  <a:pt x="16856" y="10800"/>
                </a:lnTo>
                <a:lnTo>
                  <a:pt x="16856" y="17989"/>
                </a:lnTo>
                <a:lnTo>
                  <a:pt x="6237" y="17989"/>
                </a:lnTo>
                <a:lnTo>
                  <a:pt x="6237" y="10800"/>
                </a:lnTo>
                <a:lnTo>
                  <a:pt x="4584" y="10800"/>
                </a:lnTo>
                <a:close/>
              </a:path>
              <a:path fill="darkenLess" w="23093" h="21600">
                <a:moveTo>
                  <a:pt x="14123" y="6448"/>
                </a:moveTo>
                <a:lnTo>
                  <a:pt x="14123" y="4707"/>
                </a:lnTo>
                <a:lnTo>
                  <a:pt x="15899" y="4707"/>
                </a:lnTo>
                <a:lnTo>
                  <a:pt x="15899" y="8224"/>
                </a:lnTo>
                <a:close/>
              </a:path>
              <a:path fill="darkenLess" w="23093" h="21600">
                <a:moveTo>
                  <a:pt x="10624" y="14299"/>
                </a:moveTo>
                <a:lnTo>
                  <a:pt x="12469" y="14299"/>
                </a:lnTo>
                <a:lnTo>
                  <a:pt x="12469" y="17989"/>
                </a:lnTo>
                <a:lnTo>
                  <a:pt x="16856" y="17989"/>
                </a:lnTo>
                <a:lnTo>
                  <a:pt x="16856" y="10800"/>
                </a:lnTo>
                <a:lnTo>
                  <a:pt x="6237" y="10800"/>
                </a:lnTo>
                <a:lnTo>
                  <a:pt x="6237" y="17989"/>
                </a:lnTo>
                <a:lnTo>
                  <a:pt x="10624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85672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зование презентных форм конъюнктива (Konjunktiv I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79280" y="1268280"/>
            <a:ext cx="87854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зенс конъюнкти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разуется от основы глагола с помощь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ффикса -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личных окончаний.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ичные окончания отсутствуют. Корневая гласная не изменя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08000" y="5084280"/>
            <a:ext cx="8928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фект конъюнкти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разуется из всп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лаголо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abe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sei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презенсе конъюнктива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тиципа 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мыслового глаго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Er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hab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die Vorlesung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besucht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Er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sei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rechtzeitig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gekommen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утуруме конъюнкти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лаго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werde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оит в презенсе конъюнктива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Er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werd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noch einmal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kommen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79280" y="2276640"/>
          <a:ext cx="8791560" cy="2773080"/>
        </p:xfrm>
        <a:graphic>
          <a:graphicData uri="http://schemas.openxmlformats.org/drawingml/2006/table">
            <a:tbl>
              <a:tblPr/>
              <a:tblGrid>
                <a:gridCol w="1255680"/>
                <a:gridCol w="1255680"/>
                <a:gridCol w="1256040"/>
                <a:gridCol w="1130040"/>
                <a:gridCol w="1079640"/>
                <a:gridCol w="1152360"/>
                <a:gridCol w="1662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помога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g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b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d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önn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g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b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i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d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önn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/sie/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g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b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d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önn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g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b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i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d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önn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g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b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i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d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önn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/S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g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b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i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d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önn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" name="AutoShape 98">
            <a:hlinkClick r:id="rId1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потребление презентных форм конъюнктив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простых предлож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8856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зентные формы конъюнктив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соответствую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ослагательному наклонению русского языка и никогда не переводятся глаголами в прошедшем времени с частицей „бы“. Презенс конъюнктива в простых (главных) предложениях имеет значение, близкое к повелительному наклонению и ограничивается следующими конструкция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man + Präsens Konjunktiv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потребляется в инструкциях, рецептах и выражает предписание, рекомендацию, долженствование. На русский язык эта конструкция переводится словам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„следует, надо, нужно“ или повелительным наклонение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Man löse das Salz im Wasser.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ледует растворить (Растворите) соль в вод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Es sei(en) + Partizip 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акже выражает долженствование и используется, в основном, в научной и технической литературе. На русский язык переводится: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едует, нужно, необходимо + неопределенная форм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мыслового глагола. Наиболее употребительные обороты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Es sei gesagt, dass… - Следует сказать, что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Es sei bemerkt, dass… - Следует заметить, что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Es sei erwähnt, dass… - Следует упомянуть, что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Es sei betont, dass… - Следует подчеркнуть, что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Es sei angenommen, dass… - Следует предположить, что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Es sei darauf hingewiesen, dass… - Следует указать на то, что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азуемое в презенсе конъюнктива выражает допущение (в технических текстах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Der Körper bewege sich geradlinig. - Допустим, что тело движется прямолиней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азуемое в презенсе конъюнктива выражает пожелание, призыв (в лозунгах, поэзии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Es gedeihe unsere Heimat! - Пусть процветает наша родина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5">
            <a:hlinkClick r:id="rId1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ъюнктив в косвенной речи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передачи чужих слов (косвенной речи) в придаточных дополнительных наряду с индикативом употребляется конъюнктив. Особенно предпочтительным употребление конъюнктива является в публицистике, при официальном общении, а также при цитировании в научных статьях, так как он позволяет особенно четко разграничить слова автора и воспроизводимое им чужое высказывание. Для оформления косвенной речи преимущественно употребляются </a:t>
            </a:r>
            <a:r>
              <a:rPr b="0" lang="ru-RU" sz="1400" spc="-1" strike="noStrike" u="sng">
                <a:solidFill>
                  <a:srgbClr val="006666"/>
                </a:solidFill>
                <a:uFillTx/>
                <a:latin typeface="Arial"/>
                <a:hlinkClick r:id="rId1" action="ppaction://hlinksldjump"/>
              </a:rPr>
              <a:t>презентные формы конъюнктив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а русский язык они переводятся глаголом в изъявительном наклонен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Präsens Konjunktiv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бозначает действие, совершающееся одновременно с действием главного предложения, и переводится настоящим временем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Er sagte, dass er an der Konferenz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teilnehme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.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н сказал, что он принимает участие в конференции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Perfekt Konjunktiv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бозначает действие, предшествующее действию главного предложения, и переводится прошедшим временем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Er sagte, dass er an der Konferenz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teilgenommen habe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.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н сказал, что он принимал участи в конферен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Futurum Konjunktiv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бозначает действие, следующее за действием главного предложения, и переводится будущим временем, например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Er sagte, dass er an der Konferenz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teilnehmen werde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.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н сказал, что он примет участие в конферен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юз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das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предложении с косвенной речью может опускаться. В этом случае порядок слов в косвенной речи - как в главном предложении (спрягаемая часть сказуемого стоит на втором месте), а употребление конъюнктива является обязательным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Er sagte, er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nehme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an der Konferenz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teil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. - Он сказал, что он принимает участие в конферен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Er sagte, er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habe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an der Konferenz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teilgenommen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.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н сказал, что он принимал участие в конферен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Er sagte, er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werde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an der Konferenz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teilnehmen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. - Он сказал, что он примет участие в конферен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4">
            <a:hlinkClick r:id="rId2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разование претеритальных форм конъюнктива (Konjunktiv 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терит конъюнкти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разуется от претерита индикатива добавление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ффикса -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 всех лицах и числах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лау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рневой гласной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, o, 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Умлаут не получ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лабые глагол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модальные глаголы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wolle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solle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ак что формы претерита конъюнктива этих глаголов совпадают с формами претерита индикатива. Личные окончания глаголов в имперфекте конъюнктива такие же, как в индикати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79280" y="3716280"/>
          <a:ext cx="8785440" cy="2952720"/>
        </p:xfrm>
        <a:graphic>
          <a:graphicData uri="http://schemas.openxmlformats.org/drawingml/2006/table">
            <a:tbl>
              <a:tblPr/>
              <a:tblGrid>
                <a:gridCol w="1254240"/>
                <a:gridCol w="1255680"/>
                <a:gridCol w="1254240"/>
                <a:gridCol w="1128600"/>
                <a:gridCol w="1079640"/>
                <a:gridCol w="1152360"/>
                <a:gridCol w="1660680"/>
              </a:tblGrid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помога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gt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ng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ätt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är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önnt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gt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ng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ätt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är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önnt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/sie/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gt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ng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ätt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är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önnt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gt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ng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ätt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är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ü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önnt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gt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ng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ätt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är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önnt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/S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gt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ng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ätt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är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önnt</a:t>
                      </a:r>
                      <a:r>
                        <a:rPr b="0" i="1" lang="en-US" sz="20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AutoShape 75">
            <a:hlinkClick r:id="rId1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разование претеритальных форм конъюнктива (Konjunktiv 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78544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юсквамперфекте конъюнкти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спомогательные глаголы имеют форму претерита конъюнктива (hätte, wär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79280" y="3573360"/>
          <a:ext cx="8785440" cy="3108600"/>
        </p:xfrm>
        <a:graphic>
          <a:graphicData uri="http://schemas.openxmlformats.org/drawingml/2006/table">
            <a:tbl>
              <a:tblPr/>
              <a:tblGrid>
                <a:gridCol w="1584360"/>
                <a:gridCol w="3600360"/>
                <a:gridCol w="360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ät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ätt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ät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ätt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ätt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ätt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ä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är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ä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är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är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är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/sie/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/S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0" name="AutoShape 80"/>
          <p:cNvSpPr/>
          <p:nvPr/>
        </p:nvSpPr>
        <p:spPr>
          <a:xfrm>
            <a:off x="3059280" y="3716280"/>
            <a:ext cx="223560" cy="2808360"/>
          </a:xfrm>
          <a:custGeom>
            <a:avLst/>
            <a:gdLst>
              <a:gd name="textAreaLeft" fmla="*/ 0 w 223560"/>
              <a:gd name="textAreaRight" fmla="*/ 80640 w 22356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1"/>
          <p:cNvSpPr/>
          <p:nvPr/>
        </p:nvSpPr>
        <p:spPr>
          <a:xfrm>
            <a:off x="3422160" y="4869000"/>
            <a:ext cx="178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ngeru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82"/>
          <p:cNvSpPr/>
          <p:nvPr/>
        </p:nvSpPr>
        <p:spPr>
          <a:xfrm>
            <a:off x="6659640" y="3716280"/>
            <a:ext cx="152280" cy="2808360"/>
          </a:xfrm>
          <a:custGeom>
            <a:avLst/>
            <a:gdLst>
              <a:gd name="textAreaLeft" fmla="*/ 0 w 152280"/>
              <a:gd name="textAreaRight" fmla="*/ 55080 w 15228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83"/>
          <p:cNvSpPr/>
          <p:nvPr/>
        </p:nvSpPr>
        <p:spPr>
          <a:xfrm>
            <a:off x="6951600" y="4869000"/>
            <a:ext cx="194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kom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84">
            <a:hlinkClick r:id="rId1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7854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разование претеритальных форм конъюнктива (Konjunktiv 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8000" y="1484280"/>
            <a:ext cx="8856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диционалис 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разуется из вспомогательного глагола werden в претерите конъюнктива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würd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инитива 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сновного глаго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50560" y="3573000"/>
            <a:ext cx="8713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диционалис 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разуется из всп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лагола werden в претерите конъюнктива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würd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инитива 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сновного глаго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79280" y="2349360"/>
          <a:ext cx="8791560" cy="1189080"/>
        </p:xfrm>
        <a:graphic>
          <a:graphicData uri="http://schemas.openxmlformats.org/drawingml/2006/table">
            <a:tbl>
              <a:tblPr/>
              <a:tblGrid>
                <a:gridCol w="1154160"/>
                <a:gridCol w="3243240"/>
                <a:gridCol w="1008000"/>
                <a:gridCol w="3386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ür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ürd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ür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ürd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ürd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ürd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/sie/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/S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179280" y="4365720"/>
          <a:ext cx="8785440" cy="2378160"/>
        </p:xfrm>
        <a:graphic>
          <a:graphicData uri="http://schemas.openxmlformats.org/drawingml/2006/table">
            <a:tbl>
              <a:tblPr/>
              <a:tblGrid>
                <a:gridCol w="1152720"/>
                <a:gridCol w="3671640"/>
                <a:gridCol w="3961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ür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ürd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ür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ürd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ürd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ürd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ür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ürd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ür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ürd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ürd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ürd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/sie/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/S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60" name="AutoShape 106"/>
          <p:cNvSpPr/>
          <p:nvPr/>
        </p:nvSpPr>
        <p:spPr>
          <a:xfrm>
            <a:off x="2484360" y="4508640"/>
            <a:ext cx="152640" cy="2016000"/>
          </a:xfrm>
          <a:custGeom>
            <a:avLst/>
            <a:gdLst>
              <a:gd name="textAreaLeft" fmla="*/ 0 w 152640"/>
              <a:gd name="textAreaRight" fmla="*/ 55080 w 15264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07"/>
          <p:cNvSpPr/>
          <p:nvPr/>
        </p:nvSpPr>
        <p:spPr>
          <a:xfrm>
            <a:off x="2841840" y="537372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gemacht h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09"/>
          <p:cNvSpPr/>
          <p:nvPr/>
        </p:nvSpPr>
        <p:spPr>
          <a:xfrm>
            <a:off x="6300720" y="4508640"/>
            <a:ext cx="225360" cy="2016000"/>
          </a:xfrm>
          <a:custGeom>
            <a:avLst/>
            <a:gdLst>
              <a:gd name="textAreaLeft" fmla="*/ 0 w 225360"/>
              <a:gd name="textAreaRight" fmla="*/ 81360 w 22536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11"/>
          <p:cNvSpPr/>
          <p:nvPr/>
        </p:nvSpPr>
        <p:spPr>
          <a:xfrm>
            <a:off x="6876000" y="530064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gefahren s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13"/>
          <p:cNvSpPr/>
          <p:nvPr/>
        </p:nvSpPr>
        <p:spPr>
          <a:xfrm>
            <a:off x="2556000" y="24922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14"/>
          <p:cNvSpPr/>
          <p:nvPr/>
        </p:nvSpPr>
        <p:spPr>
          <a:xfrm>
            <a:off x="6732720" y="24922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15">
            <a:hlinkClick r:id="rId1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8000" y="333000"/>
            <a:ext cx="89280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потребление претеритальных форм конъюнктив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8000" y="1557360"/>
            <a:ext cx="8928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теритальные формы конъюнктива соответствуют сослагательному наклонению русского языка и переводятся на русский язык глаголами в прошедшем времени с частицей «бы» – «пришел бы», «сделал бы». Они употребляются для выражения нереальности или гипотетической возможности. Претеритальные формы употребляются в следующих случаях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выражения нереального жела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Wenn jetzt Sommer wäre!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Wäre jetzt Sommer!)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Если бы сейчас было лето! 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выражения нереального услов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Wenn ich Zeit hätte, käme ich zu dir.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Wenn ich Zeit hätte, würde ich zu dir kommen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779f92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Если бы у меня было время,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я пришёл бы к тебе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неуверенном, предположительном, высказыван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Er würde gern zu Hause bleiben.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н бы охотно остался до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выражения несостоявшегося действия. В таких предложениях используются наречи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fas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beinah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чуть было не), сказуемое стоит в Plusquamperfekt Konjunkti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Ich hätte mich fast zur Vorlesung verspätet.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Я чуть было не опоздал на лекцию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вежливом обращении, просьб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Könnten Sie mir einen Rat geben?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е могли бы Вы дать мне сове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гол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dürfe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претерите конъюнктива может выражать также предположени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Das dürfte richtig sein.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жалуй, это вер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4">
            <a:hlinkClick r:id="rId1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адательный залог (Passiv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ссив обозначает действие, направленное на подлежащее, таким образом, подлежащее в пассиве является не исполнителем, а объектом действ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ссив образуется от переходных глаголов при помощи вспомогательного глагол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werde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соответствующей временной форме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ртиципа 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новного глагол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бразования временных форм пассива вспомогательный глаго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werde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потребляется в соответствующей временной форме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B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образова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фек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юсквамперфек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ассива вместо формы партиципа II глагола werden (geworden) употребляется форм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worde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79280" y="3500280"/>
          <a:ext cx="8785440" cy="3222720"/>
        </p:xfrm>
        <a:graphic>
          <a:graphicData uri="http://schemas.openxmlformats.org/drawingml/2006/table">
            <a:tbl>
              <a:tblPr/>
              <a:tblGrid>
                <a:gridCol w="2160720"/>
                <a:gridCol w="3384360"/>
                <a:gridCol w="3240360"/>
              </a:tblGrid>
              <a:tr h="40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äsens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Roman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d gelese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ман читаетс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äteritum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Roman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urde gelese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ман читался (читали)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kt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Roman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t gelesen worde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ман был прочитан (читали)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squamperfekt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Roman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 gelesen worde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ман был прочитан (читали)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 I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Roman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d gelesen werde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ман будет читаться (будут читать)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3" name="AutoShape 42">
            <a:hlinkClick r:id="rId1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138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потребление пассива и перевод на русский язы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ссив употребляется, чтобы направить основное внимание на само действие и на его объект (подлежащее), при этом исполнитель действия часто вообще не называетс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Hier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wird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ein neues Theater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gebaut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десь строится новый театр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необходимости исполнитель действия в пассиве вводится в качестве дополнения с предлог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du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vo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аще используется, если исполнитель действия - одушевленное лиц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Köln wurde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von den Römern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gegründet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ельн был основан римлян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durc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спользуется с неодушевленными существительны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Er wurde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durch ein Geschrei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im Garten erweckt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го разбудил крик в са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русский язык пассив переводится глаголами с частице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строиться, определяться, передаваться - при обозначении незавершенного процесса) или сложной формой страдательного залога (быть построенным, быть прочитанным - при обозначении завершенного действ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4">
            <a:hlinkClick r:id="rId1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зличный пасси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личный пассив представляет собой пассивную конструкцию, в которой не указывается ни объект, ни субъект действия, а все внимание сосредоточено на самом действии. В предложениях с безличным пассивом нет подлежаще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личный пассив образуется как от переходных, так и от непереходных глаголов, обозначающих человеческую деятельность. Такие предложения начинаются с местоимен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ое отсутствует при обратном порядке слов, напр.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wird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sonntags nicht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gearbeitet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Sonntags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wird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nicht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gearbeitet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 воскресеньям не работ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4">
            <a:hlinkClick r:id="rId1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8928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клонение неопределённого артик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5013360"/>
            <a:ext cx="8785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неопределенный артикль склоняются </a:t>
            </a:r>
            <a:r>
              <a:rPr b="0" lang="ru-RU" sz="2400" spc="-1" strike="noStrike" u="sng">
                <a:solidFill>
                  <a:srgbClr val="cc3300"/>
                </a:solidFill>
                <a:uFillTx/>
                <a:latin typeface="Arial"/>
                <a:hlinkClick r:id="rId1" action="ppaction://hlinksldjump"/>
              </a:rPr>
              <a:t>притяжательные местоим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400" spc="-1" strike="noStrike" u="sng">
                <a:solidFill>
                  <a:srgbClr val="cc3300"/>
                </a:solidFill>
                <a:uFillTx/>
                <a:latin typeface="Arial"/>
                <a:hlinkClick r:id="rId2" action="ppaction://hlinksldjump"/>
              </a:rPr>
              <a:t>отрицательное местоим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kei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ед.ч., употребляемы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мест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ртикля. (Во мн.ч. эти местоимения склоняются как определенный артикль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79280" y="1197000"/>
          <a:ext cx="8785440" cy="3527280"/>
        </p:xfrm>
        <a:graphic>
          <a:graphicData uri="http://schemas.openxmlformats.org/drawingml/2006/table">
            <a:tbl>
              <a:tblPr/>
              <a:tblGrid>
                <a:gridCol w="2197080"/>
                <a:gridCol w="2197080"/>
                <a:gridCol w="2195640"/>
                <a:gridCol w="2195640"/>
              </a:tblGrid>
              <a:tr h="587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де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ственное чис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.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.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i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i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in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in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in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in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k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in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AutoShape 160">
            <a:hlinkClick r:id="rId3" action="ppaction://hlinksldjump"/>
          </p:cNvPr>
          <p:cNvSpPr/>
          <p:nvPr/>
        </p:nvSpPr>
        <p:spPr>
          <a:xfrm>
            <a:off x="8604360" y="0"/>
            <a:ext cx="539640" cy="504720"/>
          </a:xfrm>
          <a:custGeom>
            <a:avLst/>
            <a:gdLst>
              <a:gd name="textAreaLeft" fmla="*/ 32400 w 539640"/>
              <a:gd name="textAreaRight" fmla="*/ 507240 w 53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093" h="21600">
                <a:moveTo>
                  <a:pt x="0" y="0"/>
                </a:moveTo>
                <a:lnTo>
                  <a:pt x="23093" y="0"/>
                </a:lnTo>
                <a:lnTo>
                  <a:pt x="23093" y="21600"/>
                </a:lnTo>
                <a:lnTo>
                  <a:pt x="0" y="21600"/>
                </a:lnTo>
                <a:close/>
              </a:path>
              <a:path fill="lightenLess" w="23093" h="21600">
                <a:moveTo>
                  <a:pt x="0" y="0"/>
                </a:moveTo>
                <a:lnTo>
                  <a:pt x="23093" y="0"/>
                </a:lnTo>
                <a:lnTo>
                  <a:pt x="21693" y="1400"/>
                </a:lnTo>
                <a:lnTo>
                  <a:pt x="1400" y="1400"/>
                </a:lnTo>
                <a:close/>
              </a:path>
              <a:path fill="darken" w="23093" h="21600">
                <a:moveTo>
                  <a:pt x="23093" y="0"/>
                </a:moveTo>
                <a:lnTo>
                  <a:pt x="23093" y="21600"/>
                </a:lnTo>
                <a:lnTo>
                  <a:pt x="21693" y="20200"/>
                </a:lnTo>
                <a:lnTo>
                  <a:pt x="21693" y="1400"/>
                </a:lnTo>
                <a:close/>
              </a:path>
              <a:path fill="darkenLess" w="23093" h="21600">
                <a:moveTo>
                  <a:pt x="23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3" y="20200"/>
                </a:lnTo>
                <a:close/>
              </a:path>
              <a:path fill="lighten" w="23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3" h="21600">
                <a:moveTo>
                  <a:pt x="11547" y="3837"/>
                </a:moveTo>
                <a:lnTo>
                  <a:pt x="14123" y="6448"/>
                </a:lnTo>
                <a:lnTo>
                  <a:pt x="14123" y="4707"/>
                </a:lnTo>
                <a:lnTo>
                  <a:pt x="15899" y="4707"/>
                </a:lnTo>
                <a:lnTo>
                  <a:pt x="15899" y="8224"/>
                </a:lnTo>
                <a:lnTo>
                  <a:pt x="18510" y="10800"/>
                </a:lnTo>
                <a:lnTo>
                  <a:pt x="16856" y="10800"/>
                </a:lnTo>
                <a:lnTo>
                  <a:pt x="16856" y="17989"/>
                </a:lnTo>
                <a:lnTo>
                  <a:pt x="6237" y="17989"/>
                </a:lnTo>
                <a:lnTo>
                  <a:pt x="6237" y="10800"/>
                </a:lnTo>
                <a:lnTo>
                  <a:pt x="4584" y="10800"/>
                </a:lnTo>
                <a:close/>
              </a:path>
              <a:path fill="darkenLess" w="23093" h="21600">
                <a:moveTo>
                  <a:pt x="14123" y="6448"/>
                </a:moveTo>
                <a:lnTo>
                  <a:pt x="14123" y="4707"/>
                </a:lnTo>
                <a:lnTo>
                  <a:pt x="15899" y="4707"/>
                </a:lnTo>
                <a:lnTo>
                  <a:pt x="15899" y="8224"/>
                </a:lnTo>
                <a:close/>
              </a:path>
              <a:path fill="darkenLess" w="23093" h="21600">
                <a:moveTo>
                  <a:pt x="10624" y="14299"/>
                </a:moveTo>
                <a:lnTo>
                  <a:pt x="12469" y="14299"/>
                </a:lnTo>
                <a:lnTo>
                  <a:pt x="12469" y="17989"/>
                </a:lnTo>
                <a:lnTo>
                  <a:pt x="16856" y="17989"/>
                </a:lnTo>
                <a:lnTo>
                  <a:pt x="16856" y="10800"/>
                </a:lnTo>
                <a:lnTo>
                  <a:pt x="6237" y="10800"/>
                </a:lnTo>
                <a:lnTo>
                  <a:pt x="6237" y="17989"/>
                </a:lnTo>
                <a:lnTo>
                  <a:pt x="10624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финитив пассив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инитив пассива (Infinitiv I Passiv) образуется из партиципа II основного глагола и инфинитива I глагола werden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gelesen werden, besucht werde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инитив пассива употребляется преимущественно в сочетании с 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Arial"/>
                <a:hlinkClick r:id="rId1" action="ppaction://hlinksldjump"/>
              </a:rPr>
              <a:t>модальными глагол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апример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Dieser Text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kan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ohne Wörterbuch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übersetzt werde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т текст может быть переведен (можно перевести) без слова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Dieser Fehler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sollte verbessert werde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у ошибку надо было исправ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4">
            <a:hlinkClick r:id="rId2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8000" y="404640"/>
            <a:ext cx="8928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ссивная конструкция sein + партицип I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(Stativ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78544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трукц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sein + партицип 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(пассив состояния, статив) образуется от переходных глаголов. В отличие от пассива с глаголом "werden", обозначающего процесс, статив указывает 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стоя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ступившее в результате завершенного процесса. Производитель действия (в результате которого наступило данное состояние) указывается редко. Наиболее употребительные временные формы - Präsens, Präteritum и Futuru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08000" y="4076640"/>
          <a:ext cx="8856720" cy="2651040"/>
        </p:xfrm>
        <a:graphic>
          <a:graphicData uri="http://schemas.openxmlformats.org/drawingml/2006/table">
            <a:tbl>
              <a:tblPr/>
              <a:tblGrid>
                <a:gridCol w="1439640"/>
                <a:gridCol w="2087640"/>
                <a:gridCol w="1584360"/>
                <a:gridCol w="1973160"/>
                <a:gridCol w="17719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äsens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Tisch wird gedeck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л накрываю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Tisch ist gedeck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л накры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äteritum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Tisch wurde gedeck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л накрывал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Tisch war gedeck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л был накры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um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Tisch wird gedeckt werd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л будут накрывать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Tisch wird gedeckt sei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л будет накры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AutoShape 56">
            <a:hlinkClick r:id="rId1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финитив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финитив - это основная форма глагола. В немецком языке существуют 4 формы инфинитив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nfinitiv I Akt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nfinitiv I Passiv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уется из партиципа II смыслового глагола + инфинитив I вспомогательного глагола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nfinitiv II Aktiv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уется из партиципа II (причастия II) смыслового глагола + инфинитив I вспомогательного глагола haben или s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nfinitiv II Passiv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уется из партиципа II (причастия II) смыслового глагола + инфинитив II вспомогательного глагола wer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79280" y="4149360"/>
            <a:ext cx="8785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nfinitiv 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презентный инфинитив) выражает одновременность с действием, выраженным спрягаемым глагол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nfinitiv I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перфектный инфинитив) выражает предшествование действию, выраженному спрягаемым глагол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Infinitiv I Aktiv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Ich bin froh dich hier zu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sehen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Я рад тебя здесь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идеть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Infinitiv I Passiv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Dieser Text kann ohne Wörterbuch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übersetzt werden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тот текст может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быть переведен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(можно перевести) без словар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nfinitiv II Aktiv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Er ist froh diese Ausstellung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besucht zu haben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н рад, чт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сетил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эту выстав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Infinitiv II Passiv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Der Brief scheint noch nicht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gelesen worden zu sein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ажется, письмо еще не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рочитано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(не читал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179280" y="3068640"/>
          <a:ext cx="8713800" cy="1008000"/>
        </p:xfrm>
        <a:graphic>
          <a:graphicData uri="http://schemas.openxmlformats.org/drawingml/2006/table">
            <a:tbl>
              <a:tblPr/>
              <a:tblGrid>
                <a:gridCol w="1152720"/>
                <a:gridCol w="3744720"/>
                <a:gridCol w="3816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m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baut werd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iv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baut hab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kommen se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baut worden se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1" name="AutoShape 68">
            <a:hlinkClick r:id="rId1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астица "zu" с инфинитив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инитив употребляется, как правило, с частице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z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сложных формах инфинитива частиц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z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ои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 инфинитивом вспомогательного глаго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У глаголов с отделяемой приставкой частиц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z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авится между отделяемой приставкой и корнем. В ряде случаев частиц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z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 употребляе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79280" y="2133720"/>
          <a:ext cx="8785440" cy="4576680"/>
        </p:xfrm>
        <a:graphic>
          <a:graphicData uri="http://schemas.openxmlformats.org/drawingml/2006/table">
            <a:tbl>
              <a:tblPr/>
              <a:tblGrid>
                <a:gridCol w="4392720"/>
                <a:gridCol w="4392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частицы "zu"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частицей "zu"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</a:t>
                      </a: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модальных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лаголо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глагола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ssen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h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s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ach Hause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hen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е надо идти дом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после большинства глаголов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ann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utsch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u lernen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 начал учить немецкий язы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после глаголов "чувственного восприятия":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hen, hören, fühlen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h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örte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ie Kinder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en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слышал, как пели де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 качестве определения к существительному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 hatte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 Wunsch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ach Deutschland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u fahren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– У него было желание поехать в Германию.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осле глаголов движения (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hen, fahren, kommen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hen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ußball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elen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 идем играть в футбо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 качестве дополнения к прилагательному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ist nicht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icht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iese Prüfung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u bestehen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- Нелегко сдать этот экзаме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осле глаголов: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rnen, lehren, helfen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hrt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n Sohn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en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– Он учит сына чита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5" name="AutoShape 80">
            <a:hlinkClick r:id="rId2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финитивные обор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инитивные обороты используются в предложении в функции обстоятельства. Они могут стоять в начале, середине или конце предложения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B!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гда инфинитивный оборот стоит на первом месте: сразу за ним ставится изменяемая часть сказуемого, а затем - подлежащее (обратный порядок слов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um ... zu + Infinit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для того) чтобы + инфинити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r hat den Text zweimal gelesen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u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ihn besser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zu verstehe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- Он дважды прочитал текст, чтобы лучше его понять.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U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gesund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zu bleibe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muss man Sport treiben. - Чтобы оставаться здоровым, нужно заниматься спор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an)statt ... zu + Infinit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место того, чтобы + инфинити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Anstatt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mit der U-Bahn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zu fahren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nahmen wir ein Taxi. - Вместо того, чтобы ехать на метро, мы взяли такс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ohne ... zu + Infinit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делая чего-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деепричастие несовер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ида)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сделав чего-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деепричастие совершенного вида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Er übersetzt den Text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ohne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das Wörterbuch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zu benutzen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- Он переводит текст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 пользуясь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словар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Er geht zur Prüfung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ohne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sich darauf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vorbereitet zu haben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- Он идет на экзамен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 подготовившись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к н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6">
            <a:hlinkClick r:id="rId1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нструкция "haben + zu + Infinitiv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79280" y="1341000"/>
            <a:ext cx="878544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трукц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aben + zu + Infiniti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ражает долженствование и имеет активное значение, то есть подлежащее в таком предложении является исполнителем действия. Она может употребляться в разных временных формах, наиболее употребительными являются Präsens, Präteritum и Futurum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79280" y="4076640"/>
          <a:ext cx="8785440" cy="2627280"/>
        </p:xfrm>
        <a:graphic>
          <a:graphicData uri="http://schemas.openxmlformats.org/drawingml/2006/table">
            <a:tbl>
              <a:tblPr/>
              <a:tblGrid>
                <a:gridCol w="1728720"/>
                <a:gridCol w="3527640"/>
                <a:gridCol w="3529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äsen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in Referat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zubereite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му нужно подготовить рефера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äteritum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te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in Referat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zubereite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му нужно было подготовить рефера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um I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d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in Referat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zubereiten habe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му нужно будет подготовить реферат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2" name="AutoShape 44">
            <a:hlinkClick r:id="rId1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струкция 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in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+ zu + Infinitiv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79280" y="1125360"/>
            <a:ext cx="87854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трукц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in + zu + Infiniti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ражает долженствование или возможность и имеет пассивное значение (т.е. подлежащее является объектом действия). Она может употребляться в разных време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3068640"/>
          <a:ext cx="8785440" cy="3616200"/>
        </p:xfrm>
        <a:graphic>
          <a:graphicData uri="http://schemas.openxmlformats.org/drawingml/2006/table">
            <a:tbl>
              <a:tblPr/>
              <a:tblGrid>
                <a:gridCol w="1728720"/>
                <a:gridCol w="3384720"/>
                <a:gridCol w="36720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äsen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ses Problem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t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och einmal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u bespreche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у проблему нужно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ожно) обсудить еще раз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äteritum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ses Problem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och einmal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u bespreche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у проблему нужно (можно) было обсудить еще раз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um I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ses Problem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d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och einmal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u besprechen sei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у проблему нужно (можно) будет обсудить еще раз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AutoShape 31">
            <a:hlinkClick r:id="rId1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частия (Partizipie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частие - это форма глагола, обладающая как признаками глагола (время, залог), так и признаками прилагательного (склонение, употребление в качестве определения и предикатива). В немецком языке есть две формы причастий: партицип I и партицип I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ртицип 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бразуется добавлением суффикс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к инфинитиву глаго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lesen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spielen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kommen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ртицип II слабых глаголов образуется добавлением к основе глагола приставк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ge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суффикс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(e)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Корневая гласная не изменяе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ge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mach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ge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spiel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ge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deck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ртицип II сильных глаголов образуется добавлением к основе глагола приставк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ge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суффикс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(e)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средством чередования корневого гласног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ge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komm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ge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les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ge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schrieb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слабых и сильных глаголов с неотделяемой приставкой (например, besuchen) и у слабых глаголов с суффиксом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iere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напр., studieren) приставк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ge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партиципе II отсутствует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esucht, studi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глаголах с отделяемой приставкой приставк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ge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ставляется между отделяемой приставкой и корне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uf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e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acht, mit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e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omme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дальные глаголы образуют партицип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 суффиксом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(e)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теряют умлау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k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nt, gem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4">
            <a:hlinkClick r:id="rId1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частия в качестве опреде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тицип I и партицип II в качестве определения 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Arial"/>
                <a:hlinkClick r:id="rId1" action="ppaction://hlinksldjump"/>
              </a:rPr>
              <a:t>склоняются как прилагатель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der lesend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Student, ein lesend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тицип 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качестве определения переводится на русский язык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ительным причастием настояще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с суффиксами -ущ, -ющ, -ащ, -ящ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прошедшего време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с суффиксами -вш, -ш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Am Fenster saß ein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lesender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Student.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 окна сидел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итающи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читавший) студен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тицип 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ход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лаголов переводится на русский язык страдательным причастием прошедшего врем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das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gelesen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Buch -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читанная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кни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тицип II непереход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лаголов - действительным причастием прошедшего врем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angekommen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Zug -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бывши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поез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4">
            <a:hlinkClick r:id="rId2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пространенное причастное опреде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частие в качестве определения к существительному может дополняться второстепенными членами и образует при этом распространенное причастное определение. Распространенное причастное определение стоит между артиклем и существительным, причем второстепенные члены предшествуют причастию. На русский язык такое определение переводится причастным оборотом, стоящим до или после определяемого существительного. Перевод распространенного причастного определения начинается с причастия, затем переводятся все слова слева направо от артикля до причаст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geschriebene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Brief -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аписанное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der von mir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geschriebene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Brief -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аписанное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мной письмо (письмо, написанное мно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der von mir gestern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geschriebene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Brief -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аписанное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мной вчера 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письмо, написанное мной вчер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оме распространенного причастного определения существительное может иметь при себе и другие определения. В этом случае сначала переводится существительное со всеми этими определениями, и в последнюю очередь переводится распространенное причастное определени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Der /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vor kurzem in der Zeitschrift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veröffentlichte /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wissenschaftliche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Beitrag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unserer Kollegen aus Kiev / hat großes Interesse erweckt. - Научная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татья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наших коллег из Киева, /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публикованная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недавно в журнале, / вызвала большой интере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4">
            <a:hlinkClick r:id="rId1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клонение существитель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79280" y="1052640"/>
            <a:ext cx="87854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лонением называется изменение существительного по падежам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В немецком языке четыре падеж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5373360"/>
            <a:ext cx="8928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склонении существительного изменяется форма </a:t>
            </a:r>
            <a:r>
              <a:rPr b="0" lang="ru-RU" sz="1600" spc="-1" strike="noStrike" u="sng">
                <a:solidFill>
                  <a:srgbClr val="cc3300"/>
                </a:solidFill>
                <a:uFillTx/>
                <a:latin typeface="Arial"/>
                <a:hlinkClick r:id="rId1" action="ppaction://hlinksldjump"/>
              </a:rPr>
              <a:t>артикл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По форме артикля, в первую очередь, и определяется падеж существительного. Однако и сами существительные в некоторых падежах получают падежные окончания, в соответствии с которыми все существительные делятся на три типа склон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единственном числе различают </a:t>
            </a:r>
            <a:r>
              <a:rPr b="0" lang="ru-RU" sz="1600" spc="-1" strike="noStrike" u="sng">
                <a:solidFill>
                  <a:srgbClr val="cc3300"/>
                </a:solidFill>
                <a:uFillTx/>
                <a:latin typeface="Arial"/>
                <a:hlinkClick r:id="rId2" action="ppaction://hlinksldjump"/>
              </a:rPr>
              <a:t>сильно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cc3300"/>
                </a:solidFill>
                <a:uFillTx/>
                <a:latin typeface="Arial"/>
                <a:hlinkClick r:id="rId3" action="ppaction://hlinksldjump"/>
              </a:rPr>
              <a:t>слабо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cc3300"/>
                </a:solidFill>
                <a:uFillTx/>
                <a:latin typeface="Arial"/>
                <a:hlinkClick r:id="rId4" action="ppaction://hlinksldjump"/>
              </a:rPr>
              <a:t>женско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600" spc="-1" strike="noStrike" u="sng">
                <a:solidFill>
                  <a:srgbClr val="cc3300"/>
                </a:solidFill>
                <a:uFillTx/>
                <a:latin typeface="Arial"/>
                <a:hlinkClick r:id="rId5" action="ppaction://hlinksldjump"/>
              </a:rPr>
              <a:t>смешанно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клонен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 </a:t>
            </a:r>
            <a:r>
              <a:rPr b="0" lang="ru-RU" sz="1600" spc="-1" strike="noStrike" u="sng">
                <a:solidFill>
                  <a:srgbClr val="cc3300"/>
                </a:solidFill>
                <a:uFillTx/>
                <a:latin typeface="Arial"/>
                <a:hlinkClick r:id="rId6" action="ppaction://hlinksldjump"/>
              </a:rPr>
              <a:t>множественном числ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существительные </a:t>
            </a:r>
            <a:r>
              <a:rPr b="0" lang="ru-RU" sz="1600" spc="-1" strike="noStrike" u="sng">
                <a:solidFill>
                  <a:srgbClr val="cc3300"/>
                </a:solidFill>
                <a:uFillTx/>
                <a:latin typeface="Arial"/>
                <a:hlinkClick r:id="rId7" action="ppaction://hlinksldjump"/>
              </a:rPr>
              <a:t>склоняютс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динако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79280" y="1844640"/>
          <a:ext cx="8785440" cy="3384720"/>
        </p:xfrm>
        <a:graphic>
          <a:graphicData uri="http://schemas.openxmlformats.org/drawingml/2006/table">
            <a:tbl>
              <a:tblPr/>
              <a:tblGrid>
                <a:gridCol w="4392720"/>
                <a:gridCol w="4392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деж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inativ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именительны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? was?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то? 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itiv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родительны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sen?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й? чья? чьё? чьи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iv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дательны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m?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ому? чему?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?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де?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nn?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kusativ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винительны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?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о?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?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что?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hin?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да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AutoShape 61">
            <a:hlinkClick r:id="rId8" action="ppaction://hlinksldjump"/>
          </p:cNvPr>
          <p:cNvSpPr/>
          <p:nvPr/>
        </p:nvSpPr>
        <p:spPr>
          <a:xfrm>
            <a:off x="8604360" y="0"/>
            <a:ext cx="539640" cy="504720"/>
          </a:xfrm>
          <a:custGeom>
            <a:avLst/>
            <a:gdLst>
              <a:gd name="textAreaLeft" fmla="*/ 32400 w 539640"/>
              <a:gd name="textAreaRight" fmla="*/ 507240 w 53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093" h="21600">
                <a:moveTo>
                  <a:pt x="0" y="0"/>
                </a:moveTo>
                <a:lnTo>
                  <a:pt x="23093" y="0"/>
                </a:lnTo>
                <a:lnTo>
                  <a:pt x="23093" y="21600"/>
                </a:lnTo>
                <a:lnTo>
                  <a:pt x="0" y="21600"/>
                </a:lnTo>
                <a:close/>
              </a:path>
              <a:path fill="lightenLess" w="23093" h="21600">
                <a:moveTo>
                  <a:pt x="0" y="0"/>
                </a:moveTo>
                <a:lnTo>
                  <a:pt x="23093" y="0"/>
                </a:lnTo>
                <a:lnTo>
                  <a:pt x="21693" y="1400"/>
                </a:lnTo>
                <a:lnTo>
                  <a:pt x="1400" y="1400"/>
                </a:lnTo>
                <a:close/>
              </a:path>
              <a:path fill="darken" w="23093" h="21600">
                <a:moveTo>
                  <a:pt x="23093" y="0"/>
                </a:moveTo>
                <a:lnTo>
                  <a:pt x="23093" y="21600"/>
                </a:lnTo>
                <a:lnTo>
                  <a:pt x="21693" y="20200"/>
                </a:lnTo>
                <a:lnTo>
                  <a:pt x="21693" y="1400"/>
                </a:lnTo>
                <a:close/>
              </a:path>
              <a:path fill="darkenLess" w="23093" h="21600">
                <a:moveTo>
                  <a:pt x="23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3" y="20200"/>
                </a:lnTo>
                <a:close/>
              </a:path>
              <a:path fill="lighten" w="23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3" h="21600">
                <a:moveTo>
                  <a:pt x="11547" y="3837"/>
                </a:moveTo>
                <a:lnTo>
                  <a:pt x="14123" y="6448"/>
                </a:lnTo>
                <a:lnTo>
                  <a:pt x="14123" y="4707"/>
                </a:lnTo>
                <a:lnTo>
                  <a:pt x="15899" y="4707"/>
                </a:lnTo>
                <a:lnTo>
                  <a:pt x="15899" y="8224"/>
                </a:lnTo>
                <a:lnTo>
                  <a:pt x="18510" y="10800"/>
                </a:lnTo>
                <a:lnTo>
                  <a:pt x="16856" y="10800"/>
                </a:lnTo>
                <a:lnTo>
                  <a:pt x="16856" y="17989"/>
                </a:lnTo>
                <a:lnTo>
                  <a:pt x="6237" y="17989"/>
                </a:lnTo>
                <a:lnTo>
                  <a:pt x="6237" y="10800"/>
                </a:lnTo>
                <a:lnTo>
                  <a:pt x="4584" y="10800"/>
                </a:lnTo>
                <a:close/>
              </a:path>
              <a:path fill="darkenLess" w="23093" h="21600">
                <a:moveTo>
                  <a:pt x="14123" y="6448"/>
                </a:moveTo>
                <a:lnTo>
                  <a:pt x="14123" y="4707"/>
                </a:lnTo>
                <a:lnTo>
                  <a:pt x="15899" y="4707"/>
                </a:lnTo>
                <a:lnTo>
                  <a:pt x="15899" y="8224"/>
                </a:lnTo>
                <a:close/>
              </a:path>
              <a:path fill="darkenLess" w="23093" h="21600">
                <a:moveTo>
                  <a:pt x="10624" y="14299"/>
                </a:moveTo>
                <a:lnTo>
                  <a:pt x="12469" y="14299"/>
                </a:lnTo>
                <a:lnTo>
                  <a:pt x="12469" y="17989"/>
                </a:lnTo>
                <a:lnTo>
                  <a:pt x="16856" y="17989"/>
                </a:lnTo>
                <a:lnTo>
                  <a:pt x="16856" y="10800"/>
                </a:lnTo>
                <a:lnTo>
                  <a:pt x="6237" y="10800"/>
                </a:lnTo>
                <a:lnTo>
                  <a:pt x="6237" y="17989"/>
                </a:lnTo>
                <a:lnTo>
                  <a:pt x="10624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854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артицип I переходных глаголов с частицей "zu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тицип I переходных глаголов с частице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z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качестве определения имеет значение пассивного долженствования (реже возможности). На русский язык такое определение переводится следующим образ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zu lösend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Aufgabe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торая должна быть решен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торую нужно решит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шаема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, выраженное партиципом I с частицей "zu", может быть также распространенны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in der Versammlung zu besprechende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Fragen sind sehr wichtig. - Вопросы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торые нужно обсудить на собрани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очень важ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4">
            <a:hlinkClick r:id="rId1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854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потребление партиципа I и партиципа II в краткой фор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тицип I и II могут употребляться в предложении в краткой форме, т. е. без родовых и падежных окончаний, в качестве обстоятельств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Er antwortete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stehen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- Он отвечал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оя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Er sah sie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begeistert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an. - Он смотрел на не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схищенно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месте с зависимыми от них словами они образуют обособленный причастный оборот, причём партицип I или II обычно стоят в конце или (реже) в начале оборота. Немецкие обособленные причастные обороты переводятся на русский язык как причастными, так и деепричастными оборотами - в зависимости от того, какую функцию оборот выполняет в предложении - определения или обстоятельств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Der Junge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über die Straße laufen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beachtete den Verkehr nicht. - Мальчик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егущий через улиц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не обращал внимания на движ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In Köln angekommen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gingen wir zuerst zum Kölner Dom. -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быв в Кельн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мы прежде всего пошли к Кельнскому собо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4">
            <a:hlinkClick r:id="rId1" action="ppaction://hlinksldjump"/>
          </p:cNvPr>
          <p:cNvSpPr/>
          <p:nvPr/>
        </p:nvSpPr>
        <p:spPr>
          <a:xfrm>
            <a:off x="8605800" y="0"/>
            <a:ext cx="538200" cy="549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49360"/>
              <a:gd name="textAreaBottom" fmla="*/ 514800 h 549360"/>
            </a:gdLst>
            <a:ahLst/>
            <a:rect l="textAreaLeft" t="textAreaTop" r="textAreaRight" b="textAreaBottom"/>
            <a:pathLst>
              <a:path w="21600" h="22048">
                <a:moveTo>
                  <a:pt x="0" y="0"/>
                </a:moveTo>
                <a:lnTo>
                  <a:pt x="21600" y="0"/>
                </a:lnTo>
                <a:lnTo>
                  <a:pt x="21600" y="22048"/>
                </a:lnTo>
                <a:lnTo>
                  <a:pt x="0" y="22048"/>
                </a:lnTo>
                <a:close/>
              </a:path>
              <a:path fill="lightenLess" w="21600" h="22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48">
                <a:moveTo>
                  <a:pt x="21600" y="0"/>
                </a:moveTo>
                <a:lnTo>
                  <a:pt x="21600" y="22048"/>
                </a:lnTo>
                <a:lnTo>
                  <a:pt x="20200" y="20648"/>
                </a:lnTo>
                <a:lnTo>
                  <a:pt x="20200" y="1400"/>
                </a:lnTo>
                <a:close/>
              </a:path>
              <a:path fill="darkenLess" w="21600" h="22048">
                <a:moveTo>
                  <a:pt x="21600" y="22048"/>
                </a:moveTo>
                <a:lnTo>
                  <a:pt x="0" y="22048"/>
                </a:lnTo>
                <a:lnTo>
                  <a:pt x="1400" y="20648"/>
                </a:lnTo>
                <a:lnTo>
                  <a:pt x="20200" y="20648"/>
                </a:lnTo>
                <a:close/>
              </a:path>
              <a:path fill="lighten" w="21600" h="22048">
                <a:moveTo>
                  <a:pt x="0" y="22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48"/>
                </a:lnTo>
                <a:close/>
              </a:path>
              <a:path fill="darken" w="21600" h="22048">
                <a:moveTo>
                  <a:pt x="10800" y="4061"/>
                </a:moveTo>
                <a:lnTo>
                  <a:pt x="13376" y="6672"/>
                </a:ln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lnTo>
                  <a:pt x="17763" y="11024"/>
                </a:lnTo>
                <a:lnTo>
                  <a:pt x="16109" y="11024"/>
                </a:lnTo>
                <a:lnTo>
                  <a:pt x="16109" y="18213"/>
                </a:lnTo>
                <a:lnTo>
                  <a:pt x="5491" y="18213"/>
                </a:lnTo>
                <a:lnTo>
                  <a:pt x="5491" y="11024"/>
                </a:lnTo>
                <a:lnTo>
                  <a:pt x="3837" y="11024"/>
                </a:lnTo>
                <a:close/>
              </a:path>
              <a:path fill="darkenLess" w="21600" h="22048">
                <a:moveTo>
                  <a:pt x="13376" y="6672"/>
                </a:moveTo>
                <a:lnTo>
                  <a:pt x="13376" y="4931"/>
                </a:lnTo>
                <a:lnTo>
                  <a:pt x="15152" y="4931"/>
                </a:lnTo>
                <a:lnTo>
                  <a:pt x="15152" y="8448"/>
                </a:lnTo>
                <a:close/>
              </a:path>
              <a:path fill="darkenLess" w="21600" h="22048">
                <a:moveTo>
                  <a:pt x="9877" y="14523"/>
                </a:moveTo>
                <a:lnTo>
                  <a:pt x="11723" y="14523"/>
                </a:lnTo>
                <a:lnTo>
                  <a:pt x="11723" y="18213"/>
                </a:lnTo>
                <a:lnTo>
                  <a:pt x="16109" y="18213"/>
                </a:lnTo>
                <a:lnTo>
                  <a:pt x="16109" y="11024"/>
                </a:lnTo>
                <a:lnTo>
                  <a:pt x="5491" y="11024"/>
                </a:lnTo>
                <a:lnTo>
                  <a:pt x="5491" y="18213"/>
                </a:lnTo>
                <a:lnTo>
                  <a:pt x="9877" y="1821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мя прилагатель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лонение прилагатель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3366"/>
                </a:solidFill>
                <a:uFillTx/>
                <a:latin typeface="Arial"/>
                <a:hlinkClick r:id="rId1" action="ppaction://hlinksldjump"/>
              </a:rPr>
              <a:t>Сильное скло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3366"/>
                </a:solidFill>
                <a:uFillTx/>
                <a:latin typeface="Arial"/>
                <a:hlinkClick r:id="rId2" action="ppaction://hlinksldjump"/>
              </a:rPr>
              <a:t>Слабое скло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3366"/>
                </a:solidFill>
                <a:uFillTx/>
                <a:latin typeface="Arial"/>
                <a:hlinkClick r:id="rId3" action="ppaction://hlinksldjump"/>
              </a:rPr>
              <a:t>Склонение прилагательных во мн.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3366"/>
                </a:solidFill>
                <a:uFillTx/>
                <a:latin typeface="Arial"/>
                <a:hlinkClick r:id="rId4" action="ppaction://hlinksldjump"/>
              </a:rPr>
              <a:t>Степени сравнения прилагательных и наре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3366"/>
                </a:solidFill>
                <a:uFillTx/>
                <a:latin typeface="Arial"/>
                <a:hlinkClick r:id="rId5" action="ppaction://hlinksldjump"/>
              </a:rPr>
              <a:t>Тесты по теме «Имя прилагательное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4">
            <a:hlinkClick r:id="rId6" action="ppaction://hlinksldjump"/>
          </p:cNvPr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79280" y="457200"/>
            <a:ext cx="878544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ильное склонение прилагатель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6"/>
          <p:cNvSpPr/>
          <p:nvPr/>
        </p:nvSpPr>
        <p:spPr>
          <a:xfrm>
            <a:off x="3132000" y="1484280"/>
            <a:ext cx="1214640" cy="121464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8"/>
          <p:cNvSpPr/>
          <p:nvPr/>
        </p:nvSpPr>
        <p:spPr>
          <a:xfrm>
            <a:off x="4859280" y="1484280"/>
            <a:ext cx="1214640" cy="121464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79280" y="3429000"/>
          <a:ext cx="8785440" cy="2743200"/>
        </p:xfrm>
        <a:graphic>
          <a:graphicData uri="http://schemas.openxmlformats.org/drawingml/2006/table">
            <a:tbl>
              <a:tblPr/>
              <a:tblGrid>
                <a:gridCol w="1152720"/>
                <a:gridCol w="2448000"/>
                <a:gridCol w="2592360"/>
                <a:gridCol w="259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ственное 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 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. 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. 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t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r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affe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sch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s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ro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m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ilc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t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affee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sch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rot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r>
                        <a:rPr b="1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m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ilc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t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affe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sch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ro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m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ilc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k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t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affe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sch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s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ro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m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ilc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AutoShape 61">
            <a:hlinkClick r:id="rId1" action="ppaction://hlinksldjump"/>
          </p:cNvPr>
          <p:cNvSpPr/>
          <p:nvPr/>
        </p:nvSpPr>
        <p:spPr>
          <a:xfrm>
            <a:off x="8604360" y="0"/>
            <a:ext cx="539640" cy="5745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74560"/>
              <a:gd name="textAreaBottom" fmla="*/ 539640 h 574560"/>
            </a:gdLst>
            <a:ahLst/>
            <a:rect l="textAreaLeft" t="textAreaTop" r="textAreaRight" b="textAreaBottom"/>
            <a:pathLst>
              <a:path w="21600" h="22997">
                <a:moveTo>
                  <a:pt x="0" y="0"/>
                </a:moveTo>
                <a:lnTo>
                  <a:pt x="21600" y="0"/>
                </a:lnTo>
                <a:lnTo>
                  <a:pt x="21600" y="22997"/>
                </a:lnTo>
                <a:lnTo>
                  <a:pt x="0" y="22997"/>
                </a:lnTo>
                <a:close/>
              </a:path>
              <a:path fill="lightenLess" w="21600" h="229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97">
                <a:moveTo>
                  <a:pt x="21600" y="0"/>
                </a:moveTo>
                <a:lnTo>
                  <a:pt x="21600" y="22997"/>
                </a:lnTo>
                <a:lnTo>
                  <a:pt x="20200" y="21597"/>
                </a:lnTo>
                <a:lnTo>
                  <a:pt x="20200" y="1400"/>
                </a:lnTo>
                <a:close/>
              </a:path>
              <a:path fill="darkenLess" w="21600" h="22997">
                <a:moveTo>
                  <a:pt x="21600" y="22997"/>
                </a:moveTo>
                <a:lnTo>
                  <a:pt x="0" y="22997"/>
                </a:lnTo>
                <a:lnTo>
                  <a:pt x="1400" y="21597"/>
                </a:lnTo>
                <a:lnTo>
                  <a:pt x="20200" y="21597"/>
                </a:lnTo>
                <a:close/>
              </a:path>
              <a:path fill="lighten" w="21600" h="22997">
                <a:moveTo>
                  <a:pt x="0" y="229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97"/>
                </a:lnTo>
                <a:close/>
              </a:path>
              <a:path fill="darken" w="21600" h="22997">
                <a:moveTo>
                  <a:pt x="10800" y="4535"/>
                </a:moveTo>
                <a:lnTo>
                  <a:pt x="13376" y="7147"/>
                </a:lnTo>
                <a:lnTo>
                  <a:pt x="13376" y="5406"/>
                </a:lnTo>
                <a:lnTo>
                  <a:pt x="15152" y="5406"/>
                </a:lnTo>
                <a:lnTo>
                  <a:pt x="15152" y="8922"/>
                </a:lnTo>
                <a:lnTo>
                  <a:pt x="17763" y="11498"/>
                </a:lnTo>
                <a:lnTo>
                  <a:pt x="16109" y="11498"/>
                </a:lnTo>
                <a:lnTo>
                  <a:pt x="16109" y="18688"/>
                </a:lnTo>
                <a:lnTo>
                  <a:pt x="5491" y="18688"/>
                </a:lnTo>
                <a:lnTo>
                  <a:pt x="5491" y="11498"/>
                </a:lnTo>
                <a:lnTo>
                  <a:pt x="3837" y="11498"/>
                </a:lnTo>
                <a:close/>
              </a:path>
              <a:path fill="darkenLess" w="21600" h="22997">
                <a:moveTo>
                  <a:pt x="13376" y="7147"/>
                </a:moveTo>
                <a:lnTo>
                  <a:pt x="13376" y="5406"/>
                </a:lnTo>
                <a:lnTo>
                  <a:pt x="15152" y="5406"/>
                </a:lnTo>
                <a:lnTo>
                  <a:pt x="15152" y="8922"/>
                </a:lnTo>
                <a:close/>
              </a:path>
              <a:path fill="darkenLess" w="21600" h="22997">
                <a:moveTo>
                  <a:pt x="9877" y="14997"/>
                </a:moveTo>
                <a:lnTo>
                  <a:pt x="11723" y="14997"/>
                </a:lnTo>
                <a:lnTo>
                  <a:pt x="11723" y="18688"/>
                </a:lnTo>
                <a:lnTo>
                  <a:pt x="16109" y="18688"/>
                </a:lnTo>
                <a:lnTo>
                  <a:pt x="16109" y="11498"/>
                </a:lnTo>
                <a:lnTo>
                  <a:pt x="5491" y="11498"/>
                </a:lnTo>
                <a:lnTo>
                  <a:pt x="5491" y="18688"/>
                </a:lnTo>
                <a:lnTo>
                  <a:pt x="9877" y="18688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1258560" y="1267920"/>
            <a:ext cx="62658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, das,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ser, -es, -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ner, -es, -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cher, -es, -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cher, -es, -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der, -es, -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179280" y="457200"/>
            <a:ext cx="878544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лабое склонение прилагатель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179280" y="4292640"/>
          <a:ext cx="8785440" cy="2378160"/>
        </p:xfrm>
        <a:graphic>
          <a:graphicData uri="http://schemas.openxmlformats.org/drawingml/2006/table">
            <a:tbl>
              <a:tblPr/>
              <a:tblGrid>
                <a:gridCol w="1152720"/>
                <a:gridCol w="2448000"/>
                <a:gridCol w="2592360"/>
                <a:gridCol w="2592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ственное чис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.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.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alt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an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klein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i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jung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rau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lt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ann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klein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ind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s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jung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rau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lt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an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lein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i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jung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rau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lt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an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klein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i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jung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rau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3" name="AutoShape 3"/>
          <p:cNvSpPr/>
          <p:nvPr/>
        </p:nvSpPr>
        <p:spPr>
          <a:xfrm>
            <a:off x="4357800" y="1989000"/>
            <a:ext cx="1214280" cy="121464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4"/>
          <p:cNvSpPr/>
          <p:nvPr/>
        </p:nvSpPr>
        <p:spPr>
          <a:xfrm>
            <a:off x="6084720" y="1989000"/>
            <a:ext cx="1214640" cy="121464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61">
            <a:hlinkClick r:id="rId1" action="ppaction://hlinksldjump"/>
          </p:cNvPr>
          <p:cNvSpPr/>
          <p:nvPr/>
        </p:nvSpPr>
        <p:spPr>
          <a:xfrm>
            <a:off x="8604360" y="0"/>
            <a:ext cx="539640" cy="5745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74560"/>
              <a:gd name="textAreaBottom" fmla="*/ 539640 h 574560"/>
            </a:gdLst>
            <a:ahLst/>
            <a:rect l="textAreaLeft" t="textAreaTop" r="textAreaRight" b="textAreaBottom"/>
            <a:pathLst>
              <a:path w="21600" h="22997">
                <a:moveTo>
                  <a:pt x="0" y="0"/>
                </a:moveTo>
                <a:lnTo>
                  <a:pt x="21600" y="0"/>
                </a:lnTo>
                <a:lnTo>
                  <a:pt x="21600" y="22997"/>
                </a:lnTo>
                <a:lnTo>
                  <a:pt x="0" y="22997"/>
                </a:lnTo>
                <a:close/>
              </a:path>
              <a:path fill="lightenLess" w="21600" h="229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97">
                <a:moveTo>
                  <a:pt x="21600" y="0"/>
                </a:moveTo>
                <a:lnTo>
                  <a:pt x="21600" y="22997"/>
                </a:lnTo>
                <a:lnTo>
                  <a:pt x="20200" y="21597"/>
                </a:lnTo>
                <a:lnTo>
                  <a:pt x="20200" y="1400"/>
                </a:lnTo>
                <a:close/>
              </a:path>
              <a:path fill="darkenLess" w="21600" h="22997">
                <a:moveTo>
                  <a:pt x="21600" y="22997"/>
                </a:moveTo>
                <a:lnTo>
                  <a:pt x="0" y="22997"/>
                </a:lnTo>
                <a:lnTo>
                  <a:pt x="1400" y="21597"/>
                </a:lnTo>
                <a:lnTo>
                  <a:pt x="20200" y="21597"/>
                </a:lnTo>
                <a:close/>
              </a:path>
              <a:path fill="lighten" w="21600" h="22997">
                <a:moveTo>
                  <a:pt x="0" y="229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97"/>
                </a:lnTo>
                <a:close/>
              </a:path>
              <a:path fill="darken" w="21600" h="22997">
                <a:moveTo>
                  <a:pt x="10800" y="4535"/>
                </a:moveTo>
                <a:lnTo>
                  <a:pt x="13376" y="7147"/>
                </a:lnTo>
                <a:lnTo>
                  <a:pt x="13376" y="5406"/>
                </a:lnTo>
                <a:lnTo>
                  <a:pt x="15152" y="5406"/>
                </a:lnTo>
                <a:lnTo>
                  <a:pt x="15152" y="8922"/>
                </a:lnTo>
                <a:lnTo>
                  <a:pt x="17763" y="11498"/>
                </a:lnTo>
                <a:lnTo>
                  <a:pt x="16109" y="11498"/>
                </a:lnTo>
                <a:lnTo>
                  <a:pt x="16109" y="18688"/>
                </a:lnTo>
                <a:lnTo>
                  <a:pt x="5491" y="18688"/>
                </a:lnTo>
                <a:lnTo>
                  <a:pt x="5491" y="11498"/>
                </a:lnTo>
                <a:lnTo>
                  <a:pt x="3837" y="11498"/>
                </a:lnTo>
                <a:close/>
              </a:path>
              <a:path fill="darkenLess" w="21600" h="22997">
                <a:moveTo>
                  <a:pt x="13376" y="7147"/>
                </a:moveTo>
                <a:lnTo>
                  <a:pt x="13376" y="5406"/>
                </a:lnTo>
                <a:lnTo>
                  <a:pt x="15152" y="5406"/>
                </a:lnTo>
                <a:lnTo>
                  <a:pt x="15152" y="8922"/>
                </a:lnTo>
                <a:close/>
              </a:path>
              <a:path fill="darkenLess" w="21600" h="22997">
                <a:moveTo>
                  <a:pt x="9877" y="14997"/>
                </a:moveTo>
                <a:lnTo>
                  <a:pt x="11723" y="14997"/>
                </a:lnTo>
                <a:lnTo>
                  <a:pt x="11723" y="18688"/>
                </a:lnTo>
                <a:lnTo>
                  <a:pt x="16109" y="18688"/>
                </a:lnTo>
                <a:lnTo>
                  <a:pt x="16109" y="11498"/>
                </a:lnTo>
                <a:lnTo>
                  <a:pt x="5491" y="11498"/>
                </a:lnTo>
                <a:lnTo>
                  <a:pt x="5491" y="18688"/>
                </a:lnTo>
                <a:lnTo>
                  <a:pt x="9877" y="18688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85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клонение прилагательных во м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179280" y="1197000"/>
          <a:ext cx="8785440" cy="2448000"/>
        </p:xfrm>
        <a:graphic>
          <a:graphicData uri="http://schemas.openxmlformats.org/drawingml/2006/table">
            <a:tbl>
              <a:tblPr/>
              <a:tblGrid>
                <a:gridCol w="3961080"/>
                <a:gridCol w="1152360"/>
                <a:gridCol w="3672000"/>
              </a:tblGrid>
              <a:tr h="48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ое скло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le 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nige 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hrere</a:t>
                      </a:r>
                      <a:br>
                        <a:rPr sz="2400"/>
                      </a:b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ig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le alt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reun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l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lt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un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l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lt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reunde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k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le alt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reun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8" name="AutoShape 40"/>
          <p:cNvSpPr/>
          <p:nvPr/>
        </p:nvSpPr>
        <p:spPr>
          <a:xfrm>
            <a:off x="2843280" y="2060640"/>
            <a:ext cx="1155600" cy="115236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39"/>
          <p:cNvSpPr/>
          <p:nvPr/>
        </p:nvSpPr>
        <p:spPr>
          <a:xfrm>
            <a:off x="1546200" y="2060640"/>
            <a:ext cx="1162080" cy="115236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179280" y="3860640"/>
          <a:ext cx="8785440" cy="2856240"/>
        </p:xfrm>
        <a:graphic>
          <a:graphicData uri="http://schemas.openxmlformats.org/drawingml/2006/table">
            <a:tbl>
              <a:tblPr/>
              <a:tblGrid>
                <a:gridCol w="3961080"/>
                <a:gridCol w="1153800"/>
                <a:gridCol w="3670560"/>
              </a:tblGrid>
              <a:tr h="459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е скло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ide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ne и т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che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che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 alt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reun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alt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reun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alt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reunde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k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 alt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reun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1" name="AutoShape 184"/>
          <p:cNvSpPr/>
          <p:nvPr/>
        </p:nvSpPr>
        <p:spPr>
          <a:xfrm>
            <a:off x="2844720" y="4869000"/>
            <a:ext cx="1155960" cy="115236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185"/>
          <p:cNvSpPr/>
          <p:nvPr/>
        </p:nvSpPr>
        <p:spPr>
          <a:xfrm>
            <a:off x="1547640" y="4869000"/>
            <a:ext cx="1162080" cy="115236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202">
            <a:hlinkClick r:id="rId1" action="ppaction://hlinksldjump"/>
          </p:cNvPr>
          <p:cNvSpPr/>
          <p:nvPr/>
        </p:nvSpPr>
        <p:spPr>
          <a:xfrm>
            <a:off x="8604360" y="0"/>
            <a:ext cx="539640" cy="5745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74560"/>
              <a:gd name="textAreaBottom" fmla="*/ 539640 h 574560"/>
            </a:gdLst>
            <a:ahLst/>
            <a:rect l="textAreaLeft" t="textAreaTop" r="textAreaRight" b="textAreaBottom"/>
            <a:pathLst>
              <a:path w="21600" h="22997">
                <a:moveTo>
                  <a:pt x="0" y="0"/>
                </a:moveTo>
                <a:lnTo>
                  <a:pt x="21600" y="0"/>
                </a:lnTo>
                <a:lnTo>
                  <a:pt x="21600" y="22997"/>
                </a:lnTo>
                <a:lnTo>
                  <a:pt x="0" y="22997"/>
                </a:lnTo>
                <a:close/>
              </a:path>
              <a:path fill="lightenLess" w="21600" h="229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97">
                <a:moveTo>
                  <a:pt x="21600" y="0"/>
                </a:moveTo>
                <a:lnTo>
                  <a:pt x="21600" y="22997"/>
                </a:lnTo>
                <a:lnTo>
                  <a:pt x="20200" y="21597"/>
                </a:lnTo>
                <a:lnTo>
                  <a:pt x="20200" y="1400"/>
                </a:lnTo>
                <a:close/>
              </a:path>
              <a:path fill="darkenLess" w="21600" h="22997">
                <a:moveTo>
                  <a:pt x="21600" y="22997"/>
                </a:moveTo>
                <a:lnTo>
                  <a:pt x="0" y="22997"/>
                </a:lnTo>
                <a:lnTo>
                  <a:pt x="1400" y="21597"/>
                </a:lnTo>
                <a:lnTo>
                  <a:pt x="20200" y="21597"/>
                </a:lnTo>
                <a:close/>
              </a:path>
              <a:path fill="lighten" w="21600" h="22997">
                <a:moveTo>
                  <a:pt x="0" y="229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97"/>
                </a:lnTo>
                <a:close/>
              </a:path>
              <a:path fill="darken" w="21600" h="22997">
                <a:moveTo>
                  <a:pt x="10800" y="4535"/>
                </a:moveTo>
                <a:lnTo>
                  <a:pt x="13376" y="7147"/>
                </a:lnTo>
                <a:lnTo>
                  <a:pt x="13376" y="5406"/>
                </a:lnTo>
                <a:lnTo>
                  <a:pt x="15152" y="5406"/>
                </a:lnTo>
                <a:lnTo>
                  <a:pt x="15152" y="8922"/>
                </a:lnTo>
                <a:lnTo>
                  <a:pt x="17763" y="11498"/>
                </a:lnTo>
                <a:lnTo>
                  <a:pt x="16109" y="11498"/>
                </a:lnTo>
                <a:lnTo>
                  <a:pt x="16109" y="18688"/>
                </a:lnTo>
                <a:lnTo>
                  <a:pt x="5491" y="18688"/>
                </a:lnTo>
                <a:lnTo>
                  <a:pt x="5491" y="11498"/>
                </a:lnTo>
                <a:lnTo>
                  <a:pt x="3837" y="11498"/>
                </a:lnTo>
                <a:close/>
              </a:path>
              <a:path fill="darkenLess" w="21600" h="22997">
                <a:moveTo>
                  <a:pt x="13376" y="7147"/>
                </a:moveTo>
                <a:lnTo>
                  <a:pt x="13376" y="5406"/>
                </a:lnTo>
                <a:lnTo>
                  <a:pt x="15152" y="5406"/>
                </a:lnTo>
                <a:lnTo>
                  <a:pt x="15152" y="8922"/>
                </a:lnTo>
                <a:close/>
              </a:path>
              <a:path fill="darkenLess" w="21600" h="22997">
                <a:moveTo>
                  <a:pt x="9877" y="14997"/>
                </a:moveTo>
                <a:lnTo>
                  <a:pt x="11723" y="14997"/>
                </a:lnTo>
                <a:lnTo>
                  <a:pt x="11723" y="18688"/>
                </a:lnTo>
                <a:lnTo>
                  <a:pt x="16109" y="18688"/>
                </a:lnTo>
                <a:lnTo>
                  <a:pt x="16109" y="11498"/>
                </a:lnTo>
                <a:lnTo>
                  <a:pt x="5491" y="11498"/>
                </a:lnTo>
                <a:lnTo>
                  <a:pt x="5491" y="18688"/>
                </a:lnTo>
                <a:lnTo>
                  <a:pt x="9877" y="18688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епени сравнения прилагательных и нареч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179280" y="1916280"/>
          <a:ext cx="8785440" cy="4721040"/>
        </p:xfrm>
        <a:graphic>
          <a:graphicData uri="http://schemas.openxmlformats.org/drawingml/2006/table">
            <a:tbl>
              <a:tblPr/>
              <a:tblGrid>
                <a:gridCol w="2664000"/>
                <a:gridCol w="2881080"/>
                <a:gridCol w="324036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ите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v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внительная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r Komparativ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восход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er Superlativ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ein 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еньки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ein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ьше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e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lein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амый маленьки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m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lein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еньше всег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односложных словах корневые гласные 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, o, u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инимают умляут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тары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ä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t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старее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e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ä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t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es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самый старый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am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ä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t</a:t>
                      </a:r>
                      <a:r>
                        <a:rPr b="0" lang="en-US" sz="2400" spc="-1" strike="noStrike">
                          <a:solidFill>
                            <a:srgbClr val="cc3300"/>
                          </a:solidFill>
                          <a:latin typeface="Arial"/>
                          <a:ea typeface="Arial"/>
                        </a:rPr>
                        <a:t>e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старее всег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6" name="AutoShape 112">
            <a:hlinkClick r:id="rId1" action="ppaction://hlinksldjump"/>
          </p:cNvPr>
          <p:cNvSpPr/>
          <p:nvPr/>
        </p:nvSpPr>
        <p:spPr>
          <a:xfrm>
            <a:off x="8604360" y="0"/>
            <a:ext cx="539640" cy="5745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74560"/>
              <a:gd name="textAreaBottom" fmla="*/ 539640 h 574560"/>
            </a:gdLst>
            <a:ahLst/>
            <a:rect l="textAreaLeft" t="textAreaTop" r="textAreaRight" b="textAreaBottom"/>
            <a:pathLst>
              <a:path w="21600" h="22997">
                <a:moveTo>
                  <a:pt x="0" y="0"/>
                </a:moveTo>
                <a:lnTo>
                  <a:pt x="21600" y="0"/>
                </a:lnTo>
                <a:lnTo>
                  <a:pt x="21600" y="22997"/>
                </a:lnTo>
                <a:lnTo>
                  <a:pt x="0" y="22997"/>
                </a:lnTo>
                <a:close/>
              </a:path>
              <a:path fill="lightenLess" w="21600" h="229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97">
                <a:moveTo>
                  <a:pt x="21600" y="0"/>
                </a:moveTo>
                <a:lnTo>
                  <a:pt x="21600" y="22997"/>
                </a:lnTo>
                <a:lnTo>
                  <a:pt x="20200" y="21597"/>
                </a:lnTo>
                <a:lnTo>
                  <a:pt x="20200" y="1400"/>
                </a:lnTo>
                <a:close/>
              </a:path>
              <a:path fill="darkenLess" w="21600" h="22997">
                <a:moveTo>
                  <a:pt x="21600" y="22997"/>
                </a:moveTo>
                <a:lnTo>
                  <a:pt x="0" y="22997"/>
                </a:lnTo>
                <a:lnTo>
                  <a:pt x="1400" y="21597"/>
                </a:lnTo>
                <a:lnTo>
                  <a:pt x="20200" y="21597"/>
                </a:lnTo>
                <a:close/>
              </a:path>
              <a:path fill="lighten" w="21600" h="22997">
                <a:moveTo>
                  <a:pt x="0" y="229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97"/>
                </a:lnTo>
                <a:close/>
              </a:path>
              <a:path fill="darken" w="21600" h="22997">
                <a:moveTo>
                  <a:pt x="10800" y="4535"/>
                </a:moveTo>
                <a:lnTo>
                  <a:pt x="13376" y="7147"/>
                </a:lnTo>
                <a:lnTo>
                  <a:pt x="13376" y="5406"/>
                </a:lnTo>
                <a:lnTo>
                  <a:pt x="15152" y="5406"/>
                </a:lnTo>
                <a:lnTo>
                  <a:pt x="15152" y="8922"/>
                </a:lnTo>
                <a:lnTo>
                  <a:pt x="17763" y="11498"/>
                </a:lnTo>
                <a:lnTo>
                  <a:pt x="16109" y="11498"/>
                </a:lnTo>
                <a:lnTo>
                  <a:pt x="16109" y="18688"/>
                </a:lnTo>
                <a:lnTo>
                  <a:pt x="5491" y="18688"/>
                </a:lnTo>
                <a:lnTo>
                  <a:pt x="5491" y="11498"/>
                </a:lnTo>
                <a:lnTo>
                  <a:pt x="3837" y="11498"/>
                </a:lnTo>
                <a:close/>
              </a:path>
              <a:path fill="darkenLess" w="21600" h="22997">
                <a:moveTo>
                  <a:pt x="13376" y="7147"/>
                </a:moveTo>
                <a:lnTo>
                  <a:pt x="13376" y="5406"/>
                </a:lnTo>
                <a:lnTo>
                  <a:pt x="15152" y="5406"/>
                </a:lnTo>
                <a:lnTo>
                  <a:pt x="15152" y="8922"/>
                </a:lnTo>
                <a:close/>
              </a:path>
              <a:path fill="darkenLess" w="21600" h="22997">
                <a:moveTo>
                  <a:pt x="9877" y="14997"/>
                </a:moveTo>
                <a:lnTo>
                  <a:pt x="11723" y="14997"/>
                </a:lnTo>
                <a:lnTo>
                  <a:pt x="11723" y="18688"/>
                </a:lnTo>
                <a:lnTo>
                  <a:pt x="16109" y="18688"/>
                </a:lnTo>
                <a:lnTo>
                  <a:pt x="16109" y="11498"/>
                </a:lnTo>
                <a:lnTo>
                  <a:pt x="5491" y="11498"/>
                </a:lnTo>
                <a:lnTo>
                  <a:pt x="5491" y="18688"/>
                </a:lnTo>
                <a:lnTo>
                  <a:pt x="9877" y="18688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8000" y="333000"/>
            <a:ext cx="89280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обые случаи образования степеней сравнения прилагательных и нареч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79280" y="1916280"/>
          <a:ext cx="8785440" cy="4752720"/>
        </p:xfrm>
        <a:graphic>
          <a:graphicData uri="http://schemas.openxmlformats.org/drawingml/2006/table">
            <a:tbl>
              <a:tblPr/>
              <a:tblGrid>
                <a:gridCol w="2305080"/>
                <a:gridCol w="2232000"/>
                <a:gridCol w="424836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mparat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lat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t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хороши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/die/das beste; am bes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l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мног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/die/das meiste; am meis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охотн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e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/die/das liebste; am liebs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d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скор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/die/das eheste; am ehes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ch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высоки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ö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/die/das 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öchste; am höchs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h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близки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ä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/die/das 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ächste; am nächs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ig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мал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ige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nd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 wenigste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m mindesten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9" name="AutoShape 77">
            <a:hlinkClick r:id="rId1" action="ppaction://hlinksldjump"/>
          </p:cNvPr>
          <p:cNvSpPr/>
          <p:nvPr/>
        </p:nvSpPr>
        <p:spPr>
          <a:xfrm>
            <a:off x="8604360" y="0"/>
            <a:ext cx="539640" cy="5745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74560"/>
              <a:gd name="textAreaBottom" fmla="*/ 539640 h 574560"/>
            </a:gdLst>
            <a:ahLst/>
            <a:rect l="textAreaLeft" t="textAreaTop" r="textAreaRight" b="textAreaBottom"/>
            <a:pathLst>
              <a:path w="21600" h="22997">
                <a:moveTo>
                  <a:pt x="0" y="0"/>
                </a:moveTo>
                <a:lnTo>
                  <a:pt x="21600" y="0"/>
                </a:lnTo>
                <a:lnTo>
                  <a:pt x="21600" y="22997"/>
                </a:lnTo>
                <a:lnTo>
                  <a:pt x="0" y="22997"/>
                </a:lnTo>
                <a:close/>
              </a:path>
              <a:path fill="lightenLess" w="21600" h="229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97">
                <a:moveTo>
                  <a:pt x="21600" y="0"/>
                </a:moveTo>
                <a:lnTo>
                  <a:pt x="21600" y="22997"/>
                </a:lnTo>
                <a:lnTo>
                  <a:pt x="20200" y="21597"/>
                </a:lnTo>
                <a:lnTo>
                  <a:pt x="20200" y="1400"/>
                </a:lnTo>
                <a:close/>
              </a:path>
              <a:path fill="darkenLess" w="21600" h="22997">
                <a:moveTo>
                  <a:pt x="21600" y="22997"/>
                </a:moveTo>
                <a:lnTo>
                  <a:pt x="0" y="22997"/>
                </a:lnTo>
                <a:lnTo>
                  <a:pt x="1400" y="21597"/>
                </a:lnTo>
                <a:lnTo>
                  <a:pt x="20200" y="21597"/>
                </a:lnTo>
                <a:close/>
              </a:path>
              <a:path fill="lighten" w="21600" h="22997">
                <a:moveTo>
                  <a:pt x="0" y="229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97"/>
                </a:lnTo>
                <a:close/>
              </a:path>
              <a:path fill="darken" w="21600" h="22997">
                <a:moveTo>
                  <a:pt x="10800" y="4535"/>
                </a:moveTo>
                <a:lnTo>
                  <a:pt x="13376" y="7147"/>
                </a:lnTo>
                <a:lnTo>
                  <a:pt x="13376" y="5406"/>
                </a:lnTo>
                <a:lnTo>
                  <a:pt x="15152" y="5406"/>
                </a:lnTo>
                <a:lnTo>
                  <a:pt x="15152" y="8922"/>
                </a:lnTo>
                <a:lnTo>
                  <a:pt x="17763" y="11498"/>
                </a:lnTo>
                <a:lnTo>
                  <a:pt x="16109" y="11498"/>
                </a:lnTo>
                <a:lnTo>
                  <a:pt x="16109" y="18688"/>
                </a:lnTo>
                <a:lnTo>
                  <a:pt x="5491" y="18688"/>
                </a:lnTo>
                <a:lnTo>
                  <a:pt x="5491" y="11498"/>
                </a:lnTo>
                <a:lnTo>
                  <a:pt x="3837" y="11498"/>
                </a:lnTo>
                <a:close/>
              </a:path>
              <a:path fill="darkenLess" w="21600" h="22997">
                <a:moveTo>
                  <a:pt x="13376" y="7147"/>
                </a:moveTo>
                <a:lnTo>
                  <a:pt x="13376" y="5406"/>
                </a:lnTo>
                <a:lnTo>
                  <a:pt x="15152" y="5406"/>
                </a:lnTo>
                <a:lnTo>
                  <a:pt x="15152" y="8922"/>
                </a:lnTo>
                <a:close/>
              </a:path>
              <a:path fill="darkenLess" w="21600" h="22997">
                <a:moveTo>
                  <a:pt x="9877" y="14997"/>
                </a:moveTo>
                <a:lnTo>
                  <a:pt x="11723" y="14997"/>
                </a:lnTo>
                <a:lnTo>
                  <a:pt x="11723" y="18688"/>
                </a:lnTo>
                <a:lnTo>
                  <a:pt x="16109" y="18688"/>
                </a:lnTo>
                <a:lnTo>
                  <a:pt x="16109" y="11498"/>
                </a:lnTo>
                <a:lnTo>
                  <a:pt x="5491" y="11498"/>
                </a:lnTo>
                <a:lnTo>
                  <a:pt x="5491" y="18688"/>
                </a:lnTo>
                <a:lnTo>
                  <a:pt x="9877" y="18688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стоим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3300"/>
                </a:solidFill>
                <a:uFillTx/>
                <a:latin typeface="Arial"/>
                <a:hlinkClick r:id="rId1" action="ppaction://hlinksldjump"/>
              </a:rPr>
              <a:t>Личные местоим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3300"/>
                </a:solidFill>
                <a:uFillTx/>
                <a:latin typeface="Arial"/>
                <a:hlinkClick r:id="rId2" action="ppaction://hlinksldjump"/>
              </a:rPr>
              <a:t>Притяжательные местоим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3300"/>
                </a:solidFill>
                <a:uFillTx/>
                <a:latin typeface="Arial"/>
                <a:hlinkClick r:id="rId3" action="ppaction://hlinksldjump"/>
              </a:rPr>
              <a:t>Указательные местоим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3300"/>
                </a:solidFill>
                <a:uFillTx/>
                <a:latin typeface="Arial"/>
                <a:hlinkClick r:id="rId4" action="ppaction://hlinksldjump"/>
              </a:rPr>
              <a:t>Вопросительные местоим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3300"/>
                </a:solidFill>
                <a:uFillTx/>
                <a:latin typeface="Arial"/>
                <a:hlinkClick r:id="rId5" action="ppaction://hlinksldjump"/>
              </a:rPr>
              <a:t>Местоимение </a:t>
            </a:r>
            <a:r>
              <a:rPr b="0" lang="ru-RU" sz="2800" spc="-1" strike="noStrike" u="sng">
                <a:solidFill>
                  <a:srgbClr val="663300"/>
                </a:solidFill>
                <a:uFillTx/>
                <a:latin typeface="Arial"/>
                <a:hlinkClick r:id="rId6" action="ppaction://hlinksldjump"/>
              </a:rPr>
              <a:t>es</a:t>
            </a:r>
            <a:r>
              <a:rPr b="0" lang="ru-RU" sz="2800" spc="-1" strike="noStrike" u="sng">
                <a:solidFill>
                  <a:srgbClr val="663300"/>
                </a:solidFill>
                <a:uFillTx/>
                <a:latin typeface="Arial"/>
                <a:hlinkClick r:id="rId7" action="ppaction://hlinksldjump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3300"/>
                </a:solidFill>
                <a:uFillTx/>
                <a:latin typeface="Arial"/>
                <a:hlinkClick r:id="rId8" action="ppaction://hlinksldjump"/>
              </a:rPr>
              <a:t>Неопределенные местоим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3300"/>
                </a:solidFill>
                <a:uFillTx/>
                <a:latin typeface="Arial"/>
                <a:hlinkClick r:id="rId9" action="ppaction://hlinksldjump"/>
              </a:rPr>
              <a:t>Отрицательные местоимения и нареч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именные нареч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ы по теме «Местоимение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4"/>
          <p:cNvSpPr/>
          <p:nvPr/>
        </p:nvSpPr>
        <p:spPr>
          <a:xfrm>
            <a:off x="795672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чные местоиме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108000" y="1981080"/>
          <a:ext cx="8856720" cy="2621160"/>
        </p:xfrm>
        <a:graphic>
          <a:graphicData uri="http://schemas.openxmlformats.org/drawingml/2006/table">
            <a:tbl>
              <a:tblPr/>
              <a:tblGrid>
                <a:gridCol w="792000"/>
                <a:gridCol w="979560"/>
                <a:gridCol w="963720"/>
                <a:gridCol w="936720"/>
                <a:gridCol w="757080"/>
                <a:gridCol w="884160"/>
                <a:gridCol w="887400"/>
                <a:gridCol w="884160"/>
                <a:gridCol w="887400"/>
                <a:gridCol w="884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. ч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. ч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i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i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r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i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r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r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n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n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5" name="Rectangle 127"/>
          <p:cNvSpPr/>
          <p:nvPr/>
        </p:nvSpPr>
        <p:spPr>
          <a:xfrm>
            <a:off x="179280" y="580392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тельный падеж личных местоимений в современном языке практически не использу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128"/>
          <p:cNvSpPr/>
          <p:nvPr/>
        </p:nvSpPr>
        <p:spPr>
          <a:xfrm>
            <a:off x="8605800" y="0"/>
            <a:ext cx="538200" cy="576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76360"/>
              <a:gd name="textAreaBottom" fmla="*/ 541800 h 576360"/>
            </a:gdLst>
            <a:ahLst/>
            <a:rect l="textAreaLeft" t="textAreaTop" r="textAreaRight" b="textAreaBottom"/>
            <a:pathLst>
              <a:path w="21600" h="23130">
                <a:moveTo>
                  <a:pt x="0" y="0"/>
                </a:moveTo>
                <a:lnTo>
                  <a:pt x="21600" y="0"/>
                </a:lnTo>
                <a:lnTo>
                  <a:pt x="21600" y="23130"/>
                </a:lnTo>
                <a:lnTo>
                  <a:pt x="0" y="23130"/>
                </a:lnTo>
                <a:close/>
              </a:path>
              <a:path fill="lightenLess" w="21600" h="231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30">
                <a:moveTo>
                  <a:pt x="21600" y="0"/>
                </a:moveTo>
                <a:lnTo>
                  <a:pt x="21600" y="23130"/>
                </a:lnTo>
                <a:lnTo>
                  <a:pt x="20200" y="21730"/>
                </a:lnTo>
                <a:lnTo>
                  <a:pt x="20200" y="1400"/>
                </a:lnTo>
                <a:close/>
              </a:path>
              <a:path fill="darkenLess" w="21600" h="23130">
                <a:moveTo>
                  <a:pt x="21600" y="23130"/>
                </a:moveTo>
                <a:lnTo>
                  <a:pt x="0" y="23130"/>
                </a:lnTo>
                <a:lnTo>
                  <a:pt x="1400" y="21730"/>
                </a:lnTo>
                <a:lnTo>
                  <a:pt x="20200" y="21730"/>
                </a:lnTo>
                <a:close/>
              </a:path>
              <a:path fill="lighten" w="21600" h="23130">
                <a:moveTo>
                  <a:pt x="0" y="231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30"/>
                </a:lnTo>
                <a:close/>
              </a:path>
              <a:path fill="darken" w="21600" h="23130">
                <a:moveTo>
                  <a:pt x="10800" y="4602"/>
                </a:moveTo>
                <a:lnTo>
                  <a:pt x="13376" y="7213"/>
                </a:lnTo>
                <a:lnTo>
                  <a:pt x="13376" y="5473"/>
                </a:lnTo>
                <a:lnTo>
                  <a:pt x="15152" y="5473"/>
                </a:lnTo>
                <a:lnTo>
                  <a:pt x="15152" y="8989"/>
                </a:lnTo>
                <a:lnTo>
                  <a:pt x="17763" y="11565"/>
                </a:lnTo>
                <a:lnTo>
                  <a:pt x="16109" y="11565"/>
                </a:lnTo>
                <a:lnTo>
                  <a:pt x="16109" y="18754"/>
                </a:lnTo>
                <a:lnTo>
                  <a:pt x="5491" y="18754"/>
                </a:lnTo>
                <a:lnTo>
                  <a:pt x="5491" y="11565"/>
                </a:lnTo>
                <a:lnTo>
                  <a:pt x="3837" y="11565"/>
                </a:lnTo>
                <a:close/>
              </a:path>
              <a:path fill="darkenLess" w="21600" h="23130">
                <a:moveTo>
                  <a:pt x="13376" y="7213"/>
                </a:moveTo>
                <a:lnTo>
                  <a:pt x="13376" y="5473"/>
                </a:lnTo>
                <a:lnTo>
                  <a:pt x="15152" y="5473"/>
                </a:lnTo>
                <a:lnTo>
                  <a:pt x="15152" y="8989"/>
                </a:lnTo>
                <a:close/>
              </a:path>
              <a:path fill="darkenLess" w="21600" h="23130">
                <a:moveTo>
                  <a:pt x="9877" y="15064"/>
                </a:moveTo>
                <a:lnTo>
                  <a:pt x="11723" y="15064"/>
                </a:lnTo>
                <a:lnTo>
                  <a:pt x="11723" y="18754"/>
                </a:lnTo>
                <a:lnTo>
                  <a:pt x="16109" y="18754"/>
                </a:lnTo>
                <a:lnTo>
                  <a:pt x="16109" y="11565"/>
                </a:lnTo>
                <a:lnTo>
                  <a:pt x="5491" y="11565"/>
                </a:lnTo>
                <a:lnTo>
                  <a:pt x="5491" y="18754"/>
                </a:lnTo>
                <a:lnTo>
                  <a:pt x="9877" y="18754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785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ьное склонение сущ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78920" y="1916280"/>
            <a:ext cx="381636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сущ.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ср.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ром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das Herz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ердц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003280" y="1989000"/>
            <a:ext cx="3961080" cy="7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инство сущ.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м.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299736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знак сильного склонения - окончание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(e)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родительном паде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3"/>
          <p:cNvSpPr/>
          <p:nvPr/>
        </p:nvSpPr>
        <p:spPr>
          <a:xfrm rot="19606800">
            <a:off x="2843280" y="1412640"/>
            <a:ext cx="976320" cy="161640"/>
          </a:xfrm>
          <a:prstGeom prst="leftArrow">
            <a:avLst>
              <a:gd name="adj1" fmla="val 50000"/>
              <a:gd name="adj2" fmla="val 151002"/>
            </a:avLst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5"/>
          <p:cNvSpPr/>
          <p:nvPr/>
        </p:nvSpPr>
        <p:spPr>
          <a:xfrm rot="2037600">
            <a:off x="5435280" y="1413000"/>
            <a:ext cx="976320" cy="161640"/>
          </a:xfrm>
          <a:prstGeom prst="rightArrow">
            <a:avLst>
              <a:gd name="adj1" fmla="val 50000"/>
              <a:gd name="adj2" fmla="val 15100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50920" y="3933720"/>
          <a:ext cx="8713800" cy="2735280"/>
        </p:xfrm>
        <a:graphic>
          <a:graphicData uri="http://schemas.openxmlformats.org/drawingml/2006/table">
            <a:tbl>
              <a:tblPr/>
              <a:tblGrid>
                <a:gridCol w="2905200"/>
                <a:gridCol w="2903400"/>
                <a:gridCol w="2905200"/>
              </a:tblGrid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деж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.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Lehr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Ha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 Lehrer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 Haus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 Lehr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 Ha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k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 Lehr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Ha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AutoShape 46">
            <a:hlinkClick r:id="rId1" action="ppaction://hlinksldjump"/>
          </p:cNvPr>
          <p:cNvSpPr/>
          <p:nvPr/>
        </p:nvSpPr>
        <p:spPr>
          <a:xfrm>
            <a:off x="8604360" y="0"/>
            <a:ext cx="539640" cy="504720"/>
          </a:xfrm>
          <a:custGeom>
            <a:avLst/>
            <a:gdLst>
              <a:gd name="textAreaLeft" fmla="*/ 32400 w 539640"/>
              <a:gd name="textAreaRight" fmla="*/ 507240 w 53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093" h="21600">
                <a:moveTo>
                  <a:pt x="0" y="0"/>
                </a:moveTo>
                <a:lnTo>
                  <a:pt x="23093" y="0"/>
                </a:lnTo>
                <a:lnTo>
                  <a:pt x="23093" y="21600"/>
                </a:lnTo>
                <a:lnTo>
                  <a:pt x="0" y="21600"/>
                </a:lnTo>
                <a:close/>
              </a:path>
              <a:path fill="lightenLess" w="23093" h="21600">
                <a:moveTo>
                  <a:pt x="0" y="0"/>
                </a:moveTo>
                <a:lnTo>
                  <a:pt x="23093" y="0"/>
                </a:lnTo>
                <a:lnTo>
                  <a:pt x="21693" y="1400"/>
                </a:lnTo>
                <a:lnTo>
                  <a:pt x="1400" y="1400"/>
                </a:lnTo>
                <a:close/>
              </a:path>
              <a:path fill="darken" w="23093" h="21600">
                <a:moveTo>
                  <a:pt x="23093" y="0"/>
                </a:moveTo>
                <a:lnTo>
                  <a:pt x="23093" y="21600"/>
                </a:lnTo>
                <a:lnTo>
                  <a:pt x="21693" y="20200"/>
                </a:lnTo>
                <a:lnTo>
                  <a:pt x="21693" y="1400"/>
                </a:lnTo>
                <a:close/>
              </a:path>
              <a:path fill="darkenLess" w="23093" h="21600">
                <a:moveTo>
                  <a:pt x="23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3" y="20200"/>
                </a:lnTo>
                <a:close/>
              </a:path>
              <a:path fill="lighten" w="23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3" h="21600">
                <a:moveTo>
                  <a:pt x="11547" y="3837"/>
                </a:moveTo>
                <a:lnTo>
                  <a:pt x="14123" y="6448"/>
                </a:lnTo>
                <a:lnTo>
                  <a:pt x="14123" y="4707"/>
                </a:lnTo>
                <a:lnTo>
                  <a:pt x="15899" y="4707"/>
                </a:lnTo>
                <a:lnTo>
                  <a:pt x="15899" y="8224"/>
                </a:lnTo>
                <a:lnTo>
                  <a:pt x="18510" y="10800"/>
                </a:lnTo>
                <a:lnTo>
                  <a:pt x="16856" y="10800"/>
                </a:lnTo>
                <a:lnTo>
                  <a:pt x="16856" y="17989"/>
                </a:lnTo>
                <a:lnTo>
                  <a:pt x="6237" y="17989"/>
                </a:lnTo>
                <a:lnTo>
                  <a:pt x="6237" y="10800"/>
                </a:lnTo>
                <a:lnTo>
                  <a:pt x="4584" y="10800"/>
                </a:lnTo>
                <a:close/>
              </a:path>
              <a:path fill="darkenLess" w="23093" h="21600">
                <a:moveTo>
                  <a:pt x="14123" y="6448"/>
                </a:moveTo>
                <a:lnTo>
                  <a:pt x="14123" y="4707"/>
                </a:lnTo>
                <a:lnTo>
                  <a:pt x="15899" y="4707"/>
                </a:lnTo>
                <a:lnTo>
                  <a:pt x="15899" y="8224"/>
                </a:lnTo>
                <a:close/>
              </a:path>
              <a:path fill="darkenLess" w="23093" h="21600">
                <a:moveTo>
                  <a:pt x="10624" y="14299"/>
                </a:moveTo>
                <a:lnTo>
                  <a:pt x="12469" y="14299"/>
                </a:lnTo>
                <a:lnTo>
                  <a:pt x="12469" y="17989"/>
                </a:lnTo>
                <a:lnTo>
                  <a:pt x="16856" y="17989"/>
                </a:lnTo>
                <a:lnTo>
                  <a:pt x="16856" y="10800"/>
                </a:lnTo>
                <a:lnTo>
                  <a:pt x="6237" y="10800"/>
                </a:lnTo>
                <a:lnTo>
                  <a:pt x="6237" y="17989"/>
                </a:lnTo>
                <a:lnTo>
                  <a:pt x="10624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тяжательные местоиме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тяжательные местоимения выражают принадлежность. Каждому личному местоимению соответствует определенное притяжательное местоим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179280" y="2421000"/>
          <a:ext cx="8785440" cy="4259160"/>
        </p:xfrm>
        <a:graphic>
          <a:graphicData uri="http://schemas.openxmlformats.org/drawingml/2006/table">
            <a:tbl>
              <a:tblPr/>
              <a:tblGrid>
                <a:gridCol w="2089080"/>
                <a:gridCol w="2016360"/>
                <a:gridCol w="2087640"/>
                <a:gridCol w="259236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чные местоим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тяжательные местоим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 и Ср. 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.р. и Мн. ч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в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e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e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e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e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un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e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e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e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h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e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uns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h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h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й (моя, моё, мо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AutoShape 64"/>
          <p:cNvSpPr/>
          <p:nvPr/>
        </p:nvSpPr>
        <p:spPr>
          <a:xfrm>
            <a:off x="8605800" y="0"/>
            <a:ext cx="538200" cy="576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76360"/>
              <a:gd name="textAreaBottom" fmla="*/ 541800 h 576360"/>
            </a:gdLst>
            <a:ahLst/>
            <a:rect l="textAreaLeft" t="textAreaTop" r="textAreaRight" b="textAreaBottom"/>
            <a:pathLst>
              <a:path w="21600" h="23130">
                <a:moveTo>
                  <a:pt x="0" y="0"/>
                </a:moveTo>
                <a:lnTo>
                  <a:pt x="21600" y="0"/>
                </a:lnTo>
                <a:lnTo>
                  <a:pt x="21600" y="23130"/>
                </a:lnTo>
                <a:lnTo>
                  <a:pt x="0" y="23130"/>
                </a:lnTo>
                <a:close/>
              </a:path>
              <a:path fill="lightenLess" w="21600" h="231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30">
                <a:moveTo>
                  <a:pt x="21600" y="0"/>
                </a:moveTo>
                <a:lnTo>
                  <a:pt x="21600" y="23130"/>
                </a:lnTo>
                <a:lnTo>
                  <a:pt x="20200" y="21730"/>
                </a:lnTo>
                <a:lnTo>
                  <a:pt x="20200" y="1400"/>
                </a:lnTo>
                <a:close/>
              </a:path>
              <a:path fill="darkenLess" w="21600" h="23130">
                <a:moveTo>
                  <a:pt x="21600" y="23130"/>
                </a:moveTo>
                <a:lnTo>
                  <a:pt x="0" y="23130"/>
                </a:lnTo>
                <a:lnTo>
                  <a:pt x="1400" y="21730"/>
                </a:lnTo>
                <a:lnTo>
                  <a:pt x="20200" y="21730"/>
                </a:lnTo>
                <a:close/>
              </a:path>
              <a:path fill="lighten" w="21600" h="23130">
                <a:moveTo>
                  <a:pt x="0" y="231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30"/>
                </a:lnTo>
                <a:close/>
              </a:path>
              <a:path fill="darken" w="21600" h="23130">
                <a:moveTo>
                  <a:pt x="10800" y="4602"/>
                </a:moveTo>
                <a:lnTo>
                  <a:pt x="13376" y="7213"/>
                </a:lnTo>
                <a:lnTo>
                  <a:pt x="13376" y="5473"/>
                </a:lnTo>
                <a:lnTo>
                  <a:pt x="15152" y="5473"/>
                </a:lnTo>
                <a:lnTo>
                  <a:pt x="15152" y="8989"/>
                </a:lnTo>
                <a:lnTo>
                  <a:pt x="17763" y="11565"/>
                </a:lnTo>
                <a:lnTo>
                  <a:pt x="16109" y="11565"/>
                </a:lnTo>
                <a:lnTo>
                  <a:pt x="16109" y="18754"/>
                </a:lnTo>
                <a:lnTo>
                  <a:pt x="5491" y="18754"/>
                </a:lnTo>
                <a:lnTo>
                  <a:pt x="5491" y="11565"/>
                </a:lnTo>
                <a:lnTo>
                  <a:pt x="3837" y="11565"/>
                </a:lnTo>
                <a:close/>
              </a:path>
              <a:path fill="darkenLess" w="21600" h="23130">
                <a:moveTo>
                  <a:pt x="13376" y="7213"/>
                </a:moveTo>
                <a:lnTo>
                  <a:pt x="13376" y="5473"/>
                </a:lnTo>
                <a:lnTo>
                  <a:pt x="15152" y="5473"/>
                </a:lnTo>
                <a:lnTo>
                  <a:pt x="15152" y="8989"/>
                </a:lnTo>
                <a:close/>
              </a:path>
              <a:path fill="darkenLess" w="21600" h="23130">
                <a:moveTo>
                  <a:pt x="9877" y="15064"/>
                </a:moveTo>
                <a:lnTo>
                  <a:pt x="11723" y="15064"/>
                </a:lnTo>
                <a:lnTo>
                  <a:pt x="11723" y="18754"/>
                </a:lnTo>
                <a:lnTo>
                  <a:pt x="16109" y="18754"/>
                </a:lnTo>
                <a:lnTo>
                  <a:pt x="16109" y="11565"/>
                </a:lnTo>
                <a:lnTo>
                  <a:pt x="5491" y="11565"/>
                </a:lnTo>
                <a:lnTo>
                  <a:pt x="5491" y="18754"/>
                </a:lnTo>
                <a:lnTo>
                  <a:pt x="9877" y="18754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лонение притяжательных местоим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тяжательные местоимения употребляются, как правило, вместе с существительным и играют для него роль артикля, при этом они склоняются в ед.ч. как неопределённый артикль (т. е. в номинативе мужского и среднего рода, а также в аккузативе среднего рода нет родового окончания) а во мн.ч. - как определённый артик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179280" y="3573360"/>
          <a:ext cx="8785440" cy="310860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. ч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. ч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 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. 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. 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n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n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n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n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n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n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n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n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n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n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k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n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n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n</a:t>
                      </a: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4" name="AutoShape 57"/>
          <p:cNvSpPr/>
          <p:nvPr/>
        </p:nvSpPr>
        <p:spPr>
          <a:xfrm>
            <a:off x="8605800" y="0"/>
            <a:ext cx="538200" cy="576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76360"/>
              <a:gd name="textAreaBottom" fmla="*/ 541800 h 576360"/>
            </a:gdLst>
            <a:ahLst/>
            <a:rect l="textAreaLeft" t="textAreaTop" r="textAreaRight" b="textAreaBottom"/>
            <a:pathLst>
              <a:path w="21600" h="23130">
                <a:moveTo>
                  <a:pt x="0" y="0"/>
                </a:moveTo>
                <a:lnTo>
                  <a:pt x="21600" y="0"/>
                </a:lnTo>
                <a:lnTo>
                  <a:pt x="21600" y="23130"/>
                </a:lnTo>
                <a:lnTo>
                  <a:pt x="0" y="23130"/>
                </a:lnTo>
                <a:close/>
              </a:path>
              <a:path fill="lightenLess" w="21600" h="231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30">
                <a:moveTo>
                  <a:pt x="21600" y="0"/>
                </a:moveTo>
                <a:lnTo>
                  <a:pt x="21600" y="23130"/>
                </a:lnTo>
                <a:lnTo>
                  <a:pt x="20200" y="21730"/>
                </a:lnTo>
                <a:lnTo>
                  <a:pt x="20200" y="1400"/>
                </a:lnTo>
                <a:close/>
              </a:path>
              <a:path fill="darkenLess" w="21600" h="23130">
                <a:moveTo>
                  <a:pt x="21600" y="23130"/>
                </a:moveTo>
                <a:lnTo>
                  <a:pt x="0" y="23130"/>
                </a:lnTo>
                <a:lnTo>
                  <a:pt x="1400" y="21730"/>
                </a:lnTo>
                <a:lnTo>
                  <a:pt x="20200" y="21730"/>
                </a:lnTo>
                <a:close/>
              </a:path>
              <a:path fill="lighten" w="21600" h="23130">
                <a:moveTo>
                  <a:pt x="0" y="231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30"/>
                </a:lnTo>
                <a:close/>
              </a:path>
              <a:path fill="darken" w="21600" h="23130">
                <a:moveTo>
                  <a:pt x="10800" y="4602"/>
                </a:moveTo>
                <a:lnTo>
                  <a:pt x="13376" y="7213"/>
                </a:lnTo>
                <a:lnTo>
                  <a:pt x="13376" y="5473"/>
                </a:lnTo>
                <a:lnTo>
                  <a:pt x="15152" y="5473"/>
                </a:lnTo>
                <a:lnTo>
                  <a:pt x="15152" y="8989"/>
                </a:lnTo>
                <a:lnTo>
                  <a:pt x="17763" y="11565"/>
                </a:lnTo>
                <a:lnTo>
                  <a:pt x="16109" y="11565"/>
                </a:lnTo>
                <a:lnTo>
                  <a:pt x="16109" y="18754"/>
                </a:lnTo>
                <a:lnTo>
                  <a:pt x="5491" y="18754"/>
                </a:lnTo>
                <a:lnTo>
                  <a:pt x="5491" y="11565"/>
                </a:lnTo>
                <a:lnTo>
                  <a:pt x="3837" y="11565"/>
                </a:lnTo>
                <a:close/>
              </a:path>
              <a:path fill="darkenLess" w="21600" h="23130">
                <a:moveTo>
                  <a:pt x="13376" y="7213"/>
                </a:moveTo>
                <a:lnTo>
                  <a:pt x="13376" y="5473"/>
                </a:lnTo>
                <a:lnTo>
                  <a:pt x="15152" y="5473"/>
                </a:lnTo>
                <a:lnTo>
                  <a:pt x="15152" y="8989"/>
                </a:lnTo>
                <a:close/>
              </a:path>
              <a:path fill="darkenLess" w="21600" h="23130">
                <a:moveTo>
                  <a:pt x="9877" y="15064"/>
                </a:moveTo>
                <a:lnTo>
                  <a:pt x="11723" y="15064"/>
                </a:lnTo>
                <a:lnTo>
                  <a:pt x="11723" y="18754"/>
                </a:lnTo>
                <a:lnTo>
                  <a:pt x="16109" y="18754"/>
                </a:lnTo>
                <a:lnTo>
                  <a:pt x="16109" y="11565"/>
                </a:lnTo>
                <a:lnTo>
                  <a:pt x="5491" y="11565"/>
                </a:lnTo>
                <a:lnTo>
                  <a:pt x="5491" y="18754"/>
                </a:lnTo>
                <a:lnTo>
                  <a:pt x="9877" y="18754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казательные местоиме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указательным местоимениям относятс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dieser (dieses, diese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этот (это, э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jener (jenes, jene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тот (то, 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solcher (solches, solche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такой (такое, так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der (das, die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тот (то, та); этот (это, э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derselbe (dasselbe, dieselb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т же, тот (же) сам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derjenige (dasjenige, diejenig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т (то, 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selbst, sel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63"/>
          <p:cNvSpPr/>
          <p:nvPr/>
        </p:nvSpPr>
        <p:spPr>
          <a:xfrm>
            <a:off x="8605800" y="0"/>
            <a:ext cx="538200" cy="576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76360"/>
              <a:gd name="textAreaBottom" fmla="*/ 541800 h 576360"/>
            </a:gdLst>
            <a:ahLst/>
            <a:rect l="textAreaLeft" t="textAreaTop" r="textAreaRight" b="textAreaBottom"/>
            <a:pathLst>
              <a:path w="21600" h="23130">
                <a:moveTo>
                  <a:pt x="0" y="0"/>
                </a:moveTo>
                <a:lnTo>
                  <a:pt x="21600" y="0"/>
                </a:lnTo>
                <a:lnTo>
                  <a:pt x="21600" y="23130"/>
                </a:lnTo>
                <a:lnTo>
                  <a:pt x="0" y="23130"/>
                </a:lnTo>
                <a:close/>
              </a:path>
              <a:path fill="lightenLess" w="21600" h="231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30">
                <a:moveTo>
                  <a:pt x="21600" y="0"/>
                </a:moveTo>
                <a:lnTo>
                  <a:pt x="21600" y="23130"/>
                </a:lnTo>
                <a:lnTo>
                  <a:pt x="20200" y="21730"/>
                </a:lnTo>
                <a:lnTo>
                  <a:pt x="20200" y="1400"/>
                </a:lnTo>
                <a:close/>
              </a:path>
              <a:path fill="darkenLess" w="21600" h="23130">
                <a:moveTo>
                  <a:pt x="21600" y="23130"/>
                </a:moveTo>
                <a:lnTo>
                  <a:pt x="0" y="23130"/>
                </a:lnTo>
                <a:lnTo>
                  <a:pt x="1400" y="21730"/>
                </a:lnTo>
                <a:lnTo>
                  <a:pt x="20200" y="21730"/>
                </a:lnTo>
                <a:close/>
              </a:path>
              <a:path fill="lighten" w="21600" h="23130">
                <a:moveTo>
                  <a:pt x="0" y="231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30"/>
                </a:lnTo>
                <a:close/>
              </a:path>
              <a:path fill="darken" w="21600" h="23130">
                <a:moveTo>
                  <a:pt x="10800" y="4602"/>
                </a:moveTo>
                <a:lnTo>
                  <a:pt x="13376" y="7213"/>
                </a:lnTo>
                <a:lnTo>
                  <a:pt x="13376" y="5473"/>
                </a:lnTo>
                <a:lnTo>
                  <a:pt x="15152" y="5473"/>
                </a:lnTo>
                <a:lnTo>
                  <a:pt x="15152" y="8989"/>
                </a:lnTo>
                <a:lnTo>
                  <a:pt x="17763" y="11565"/>
                </a:lnTo>
                <a:lnTo>
                  <a:pt x="16109" y="11565"/>
                </a:lnTo>
                <a:lnTo>
                  <a:pt x="16109" y="18754"/>
                </a:lnTo>
                <a:lnTo>
                  <a:pt x="5491" y="18754"/>
                </a:lnTo>
                <a:lnTo>
                  <a:pt x="5491" y="11565"/>
                </a:lnTo>
                <a:lnTo>
                  <a:pt x="3837" y="11565"/>
                </a:lnTo>
                <a:close/>
              </a:path>
              <a:path fill="darkenLess" w="21600" h="23130">
                <a:moveTo>
                  <a:pt x="13376" y="7213"/>
                </a:moveTo>
                <a:lnTo>
                  <a:pt x="13376" y="5473"/>
                </a:lnTo>
                <a:lnTo>
                  <a:pt x="15152" y="5473"/>
                </a:lnTo>
                <a:lnTo>
                  <a:pt x="15152" y="8989"/>
                </a:lnTo>
                <a:close/>
              </a:path>
              <a:path fill="darkenLess" w="21600" h="23130">
                <a:moveTo>
                  <a:pt x="9877" y="15064"/>
                </a:moveTo>
                <a:lnTo>
                  <a:pt x="11723" y="15064"/>
                </a:lnTo>
                <a:lnTo>
                  <a:pt x="11723" y="18754"/>
                </a:lnTo>
                <a:lnTo>
                  <a:pt x="16109" y="18754"/>
                </a:lnTo>
                <a:lnTo>
                  <a:pt x="16109" y="11565"/>
                </a:lnTo>
                <a:lnTo>
                  <a:pt x="5491" y="11565"/>
                </a:lnTo>
                <a:lnTo>
                  <a:pt x="5491" y="18754"/>
                </a:lnTo>
                <a:lnTo>
                  <a:pt x="9877" y="18754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лонение указательных местоим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79280" y="836280"/>
            <a:ext cx="878544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dieser, jener, solche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клоняются как определенный артикл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79280" y="3644640"/>
            <a:ext cx="87854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местоимений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derjenige, derselb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ервая часть склоняется как опред. артикль, а вторая - как прилагательное после опред. артикл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179280" y="1268280"/>
          <a:ext cx="8785440" cy="2316240"/>
        </p:xfrm>
        <a:graphic>
          <a:graphicData uri="http://schemas.openxmlformats.org/drawingml/2006/table">
            <a:tbl>
              <a:tblPr/>
              <a:tblGrid>
                <a:gridCol w="1757520"/>
                <a:gridCol w="1757160"/>
                <a:gridCol w="1756080"/>
                <a:gridCol w="1757160"/>
                <a:gridCol w="1757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.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.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 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. 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. 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s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r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s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s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s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s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s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s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r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s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r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s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s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s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r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s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s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s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s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s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179280" y="4437000"/>
          <a:ext cx="8791560" cy="2316240"/>
        </p:xfrm>
        <a:graphic>
          <a:graphicData uri="http://schemas.openxmlformats.org/drawingml/2006/table">
            <a:tbl>
              <a:tblPr/>
              <a:tblGrid>
                <a:gridCol w="1758960"/>
                <a:gridCol w="1758960"/>
                <a:gridCol w="1755720"/>
                <a:gridCol w="1758960"/>
                <a:gridCol w="1758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.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. 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 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. 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. 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er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ig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as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ig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i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ig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i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ig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es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ig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es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ig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er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ig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er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ig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em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ig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em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ig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er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ig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e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ig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e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ig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as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ig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i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ig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i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ig</a:t>
                      </a:r>
                      <a:r>
                        <a:rPr b="0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3" name="AutoShape 111"/>
          <p:cNvSpPr/>
          <p:nvPr/>
        </p:nvSpPr>
        <p:spPr>
          <a:xfrm>
            <a:off x="8605800" y="0"/>
            <a:ext cx="538200" cy="576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76360"/>
              <a:gd name="textAreaBottom" fmla="*/ 541800 h 576360"/>
            </a:gdLst>
            <a:ahLst/>
            <a:rect l="textAreaLeft" t="textAreaTop" r="textAreaRight" b="textAreaBottom"/>
            <a:pathLst>
              <a:path w="21600" h="23130">
                <a:moveTo>
                  <a:pt x="0" y="0"/>
                </a:moveTo>
                <a:lnTo>
                  <a:pt x="21600" y="0"/>
                </a:lnTo>
                <a:lnTo>
                  <a:pt x="21600" y="23130"/>
                </a:lnTo>
                <a:lnTo>
                  <a:pt x="0" y="23130"/>
                </a:lnTo>
                <a:close/>
              </a:path>
              <a:path fill="lightenLess" w="21600" h="231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30">
                <a:moveTo>
                  <a:pt x="21600" y="0"/>
                </a:moveTo>
                <a:lnTo>
                  <a:pt x="21600" y="23130"/>
                </a:lnTo>
                <a:lnTo>
                  <a:pt x="20200" y="21730"/>
                </a:lnTo>
                <a:lnTo>
                  <a:pt x="20200" y="1400"/>
                </a:lnTo>
                <a:close/>
              </a:path>
              <a:path fill="darkenLess" w="21600" h="23130">
                <a:moveTo>
                  <a:pt x="21600" y="23130"/>
                </a:moveTo>
                <a:lnTo>
                  <a:pt x="0" y="23130"/>
                </a:lnTo>
                <a:lnTo>
                  <a:pt x="1400" y="21730"/>
                </a:lnTo>
                <a:lnTo>
                  <a:pt x="20200" y="21730"/>
                </a:lnTo>
                <a:close/>
              </a:path>
              <a:path fill="lighten" w="21600" h="23130">
                <a:moveTo>
                  <a:pt x="0" y="231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30"/>
                </a:lnTo>
                <a:close/>
              </a:path>
              <a:path fill="darken" w="21600" h="23130">
                <a:moveTo>
                  <a:pt x="10800" y="4602"/>
                </a:moveTo>
                <a:lnTo>
                  <a:pt x="13376" y="7213"/>
                </a:lnTo>
                <a:lnTo>
                  <a:pt x="13376" y="5473"/>
                </a:lnTo>
                <a:lnTo>
                  <a:pt x="15152" y="5473"/>
                </a:lnTo>
                <a:lnTo>
                  <a:pt x="15152" y="8989"/>
                </a:lnTo>
                <a:lnTo>
                  <a:pt x="17763" y="11565"/>
                </a:lnTo>
                <a:lnTo>
                  <a:pt x="16109" y="11565"/>
                </a:lnTo>
                <a:lnTo>
                  <a:pt x="16109" y="18754"/>
                </a:lnTo>
                <a:lnTo>
                  <a:pt x="5491" y="18754"/>
                </a:lnTo>
                <a:lnTo>
                  <a:pt x="5491" y="11565"/>
                </a:lnTo>
                <a:lnTo>
                  <a:pt x="3837" y="11565"/>
                </a:lnTo>
                <a:close/>
              </a:path>
              <a:path fill="darkenLess" w="21600" h="23130">
                <a:moveTo>
                  <a:pt x="13376" y="7213"/>
                </a:moveTo>
                <a:lnTo>
                  <a:pt x="13376" y="5473"/>
                </a:lnTo>
                <a:lnTo>
                  <a:pt x="15152" y="5473"/>
                </a:lnTo>
                <a:lnTo>
                  <a:pt x="15152" y="8989"/>
                </a:lnTo>
                <a:close/>
              </a:path>
              <a:path fill="darkenLess" w="21600" h="23130">
                <a:moveTo>
                  <a:pt x="9877" y="15064"/>
                </a:moveTo>
                <a:lnTo>
                  <a:pt x="11723" y="15064"/>
                </a:lnTo>
                <a:lnTo>
                  <a:pt x="11723" y="18754"/>
                </a:lnTo>
                <a:lnTo>
                  <a:pt x="16109" y="18754"/>
                </a:lnTo>
                <a:lnTo>
                  <a:pt x="16109" y="11565"/>
                </a:lnTo>
                <a:lnTo>
                  <a:pt x="5491" y="11565"/>
                </a:lnTo>
                <a:lnTo>
                  <a:pt x="5491" y="18754"/>
                </a:lnTo>
                <a:lnTo>
                  <a:pt x="9877" y="18754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просительные местоиме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вопросительным местоимения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we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кто),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wa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что) - не изменяются по родам и числам. В вопросе о профессии используется местоиме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ist er? (Кто он по профессии?) - Er ist Lehrer. (Он учитель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elcher (-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es, -e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какой, который) - склоняется как опред.артикль и употребляется, когда речь идёт о выборе одного из ряда предмет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Welch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Schuhe gefallen dir besser, die schwarzen oder die braunen? -Какие туфли тебе больше нравятся, черные или коричневы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was für ein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(-e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какой, что за) - последняя часть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ei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склоняется как неопред.артикль. Во мн.ч. употребляется форм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was fü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Это местоимение употребляется, когда спрашивают о свойствах или других признаках лица или предмет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Was für ein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Buch ist das? (Что это за книга?) - Das ist ein Kriminalroman. (Это детекти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Was für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Menschen sind deine Nachbarn? (Что за люди твои соседи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6"/>
          <p:cNvSpPr/>
          <p:nvPr/>
        </p:nvSpPr>
        <p:spPr>
          <a:xfrm>
            <a:off x="8605800" y="0"/>
            <a:ext cx="538200" cy="576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76360"/>
              <a:gd name="textAreaBottom" fmla="*/ 541800 h 576360"/>
            </a:gdLst>
            <a:ahLst/>
            <a:rect l="textAreaLeft" t="textAreaTop" r="textAreaRight" b="textAreaBottom"/>
            <a:pathLst>
              <a:path w="21600" h="23130">
                <a:moveTo>
                  <a:pt x="0" y="0"/>
                </a:moveTo>
                <a:lnTo>
                  <a:pt x="21600" y="0"/>
                </a:lnTo>
                <a:lnTo>
                  <a:pt x="21600" y="23130"/>
                </a:lnTo>
                <a:lnTo>
                  <a:pt x="0" y="23130"/>
                </a:lnTo>
                <a:close/>
              </a:path>
              <a:path fill="lightenLess" w="21600" h="231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30">
                <a:moveTo>
                  <a:pt x="21600" y="0"/>
                </a:moveTo>
                <a:lnTo>
                  <a:pt x="21600" y="23130"/>
                </a:lnTo>
                <a:lnTo>
                  <a:pt x="20200" y="21730"/>
                </a:lnTo>
                <a:lnTo>
                  <a:pt x="20200" y="1400"/>
                </a:lnTo>
                <a:close/>
              </a:path>
              <a:path fill="darkenLess" w="21600" h="23130">
                <a:moveTo>
                  <a:pt x="21600" y="23130"/>
                </a:moveTo>
                <a:lnTo>
                  <a:pt x="0" y="23130"/>
                </a:lnTo>
                <a:lnTo>
                  <a:pt x="1400" y="21730"/>
                </a:lnTo>
                <a:lnTo>
                  <a:pt x="20200" y="21730"/>
                </a:lnTo>
                <a:close/>
              </a:path>
              <a:path fill="lighten" w="21600" h="23130">
                <a:moveTo>
                  <a:pt x="0" y="231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30"/>
                </a:lnTo>
                <a:close/>
              </a:path>
              <a:path fill="darken" w="21600" h="23130">
                <a:moveTo>
                  <a:pt x="10800" y="4602"/>
                </a:moveTo>
                <a:lnTo>
                  <a:pt x="13376" y="7213"/>
                </a:lnTo>
                <a:lnTo>
                  <a:pt x="13376" y="5473"/>
                </a:lnTo>
                <a:lnTo>
                  <a:pt x="15152" y="5473"/>
                </a:lnTo>
                <a:lnTo>
                  <a:pt x="15152" y="8989"/>
                </a:lnTo>
                <a:lnTo>
                  <a:pt x="17763" y="11565"/>
                </a:lnTo>
                <a:lnTo>
                  <a:pt x="16109" y="11565"/>
                </a:lnTo>
                <a:lnTo>
                  <a:pt x="16109" y="18754"/>
                </a:lnTo>
                <a:lnTo>
                  <a:pt x="5491" y="18754"/>
                </a:lnTo>
                <a:lnTo>
                  <a:pt x="5491" y="11565"/>
                </a:lnTo>
                <a:lnTo>
                  <a:pt x="3837" y="11565"/>
                </a:lnTo>
                <a:close/>
              </a:path>
              <a:path fill="darkenLess" w="21600" h="23130">
                <a:moveTo>
                  <a:pt x="13376" y="7213"/>
                </a:moveTo>
                <a:lnTo>
                  <a:pt x="13376" y="5473"/>
                </a:lnTo>
                <a:lnTo>
                  <a:pt x="15152" y="5473"/>
                </a:lnTo>
                <a:lnTo>
                  <a:pt x="15152" y="8989"/>
                </a:lnTo>
                <a:close/>
              </a:path>
              <a:path fill="darkenLess" w="21600" h="23130">
                <a:moveTo>
                  <a:pt x="9877" y="15064"/>
                </a:moveTo>
                <a:lnTo>
                  <a:pt x="11723" y="15064"/>
                </a:lnTo>
                <a:lnTo>
                  <a:pt x="11723" y="18754"/>
                </a:lnTo>
                <a:lnTo>
                  <a:pt x="16109" y="18754"/>
                </a:lnTo>
                <a:lnTo>
                  <a:pt x="16109" y="11565"/>
                </a:lnTo>
                <a:lnTo>
                  <a:pt x="5491" y="11565"/>
                </a:lnTo>
                <a:lnTo>
                  <a:pt x="5491" y="18754"/>
                </a:lnTo>
                <a:lnTo>
                  <a:pt x="9877" y="18754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стоимение es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имение 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ногозначно. Это может быт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личное местоим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реднего род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Sie hat ein Kind,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ist noch klein. (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das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Kind - ср. род) - У нее есть ребенок,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н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еще малень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указательное местоим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=das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Ich verstehe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nicht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= Ich verstehe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das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nic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- 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того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не поним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безличное местоим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является формальным подлежащим в безличных предложениях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ist spät. - Поздно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dunkelt. -Темне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4"/>
          <p:cNvSpPr/>
          <p:nvPr/>
        </p:nvSpPr>
        <p:spPr>
          <a:xfrm>
            <a:off x="8605800" y="0"/>
            <a:ext cx="538200" cy="576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76360"/>
              <a:gd name="textAreaBottom" fmla="*/ 541800 h 576360"/>
            </a:gdLst>
            <a:ahLst/>
            <a:rect l="textAreaLeft" t="textAreaTop" r="textAreaRight" b="textAreaBottom"/>
            <a:pathLst>
              <a:path w="21600" h="23130">
                <a:moveTo>
                  <a:pt x="0" y="0"/>
                </a:moveTo>
                <a:lnTo>
                  <a:pt x="21600" y="0"/>
                </a:lnTo>
                <a:lnTo>
                  <a:pt x="21600" y="23130"/>
                </a:lnTo>
                <a:lnTo>
                  <a:pt x="0" y="23130"/>
                </a:lnTo>
                <a:close/>
              </a:path>
              <a:path fill="lightenLess" w="21600" h="231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30">
                <a:moveTo>
                  <a:pt x="21600" y="0"/>
                </a:moveTo>
                <a:lnTo>
                  <a:pt x="21600" y="23130"/>
                </a:lnTo>
                <a:lnTo>
                  <a:pt x="20200" y="21730"/>
                </a:lnTo>
                <a:lnTo>
                  <a:pt x="20200" y="1400"/>
                </a:lnTo>
                <a:close/>
              </a:path>
              <a:path fill="darkenLess" w="21600" h="23130">
                <a:moveTo>
                  <a:pt x="21600" y="23130"/>
                </a:moveTo>
                <a:lnTo>
                  <a:pt x="0" y="23130"/>
                </a:lnTo>
                <a:lnTo>
                  <a:pt x="1400" y="21730"/>
                </a:lnTo>
                <a:lnTo>
                  <a:pt x="20200" y="21730"/>
                </a:lnTo>
                <a:close/>
              </a:path>
              <a:path fill="lighten" w="21600" h="23130">
                <a:moveTo>
                  <a:pt x="0" y="231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30"/>
                </a:lnTo>
                <a:close/>
              </a:path>
              <a:path fill="darken" w="21600" h="23130">
                <a:moveTo>
                  <a:pt x="10800" y="4602"/>
                </a:moveTo>
                <a:lnTo>
                  <a:pt x="13376" y="7213"/>
                </a:lnTo>
                <a:lnTo>
                  <a:pt x="13376" y="5473"/>
                </a:lnTo>
                <a:lnTo>
                  <a:pt x="15152" y="5473"/>
                </a:lnTo>
                <a:lnTo>
                  <a:pt x="15152" y="8989"/>
                </a:lnTo>
                <a:lnTo>
                  <a:pt x="17763" y="11565"/>
                </a:lnTo>
                <a:lnTo>
                  <a:pt x="16109" y="11565"/>
                </a:lnTo>
                <a:lnTo>
                  <a:pt x="16109" y="18754"/>
                </a:lnTo>
                <a:lnTo>
                  <a:pt x="5491" y="18754"/>
                </a:lnTo>
                <a:lnTo>
                  <a:pt x="5491" y="11565"/>
                </a:lnTo>
                <a:lnTo>
                  <a:pt x="3837" y="11565"/>
                </a:lnTo>
                <a:close/>
              </a:path>
              <a:path fill="darkenLess" w="21600" h="23130">
                <a:moveTo>
                  <a:pt x="13376" y="7213"/>
                </a:moveTo>
                <a:lnTo>
                  <a:pt x="13376" y="5473"/>
                </a:lnTo>
                <a:lnTo>
                  <a:pt x="15152" y="5473"/>
                </a:lnTo>
                <a:lnTo>
                  <a:pt x="15152" y="8989"/>
                </a:lnTo>
                <a:close/>
              </a:path>
              <a:path fill="darkenLess" w="21600" h="23130">
                <a:moveTo>
                  <a:pt x="9877" y="15064"/>
                </a:moveTo>
                <a:lnTo>
                  <a:pt x="11723" y="15064"/>
                </a:lnTo>
                <a:lnTo>
                  <a:pt x="11723" y="18754"/>
                </a:lnTo>
                <a:lnTo>
                  <a:pt x="16109" y="18754"/>
                </a:lnTo>
                <a:lnTo>
                  <a:pt x="16109" y="11565"/>
                </a:lnTo>
                <a:lnTo>
                  <a:pt x="5491" y="11565"/>
                </a:lnTo>
                <a:lnTo>
                  <a:pt x="5491" y="18754"/>
                </a:lnTo>
                <a:lnTo>
                  <a:pt x="9877" y="18754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определенные местоиме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переводи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in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-то, кто-нибудь; каждый, любо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лоняется как опре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ртикл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jeder (jedes, jed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ый (-ое, -ая), всякий, любой (склоняются как опред. артикль, имеют форму ед. и мн.ч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mancher (-es, -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ый (-ое, -ая, -ые)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ие, иные (склоняются как опред. артикль, имеют форму ед. и мн.ч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alle(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(всё) (склоняется как опред. артикль во мн.ч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ie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, многие (склоняется как опред. артикль во мн.ч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ehr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ые, несколько (склоняется как опред. артикль во мн.ч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ini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ые, несколько (склоняется как опред. артикль во мн.ч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eni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много, немногие (склоняется как опред. артикль во мн.ч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j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em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-то, кто-нибудь (склоняется как неопред. артикл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tw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-то, кое-что, нечто; немного (не склоняетс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8"/>
          <p:cNvSpPr/>
          <p:nvPr/>
        </p:nvSpPr>
        <p:spPr>
          <a:xfrm>
            <a:off x="8605800" y="0"/>
            <a:ext cx="538200" cy="576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76360"/>
              <a:gd name="textAreaBottom" fmla="*/ 541800 h 576360"/>
            </a:gdLst>
            <a:ahLst/>
            <a:rect l="textAreaLeft" t="textAreaTop" r="textAreaRight" b="textAreaBottom"/>
            <a:pathLst>
              <a:path w="21600" h="23130">
                <a:moveTo>
                  <a:pt x="0" y="0"/>
                </a:moveTo>
                <a:lnTo>
                  <a:pt x="21600" y="0"/>
                </a:lnTo>
                <a:lnTo>
                  <a:pt x="21600" y="23130"/>
                </a:lnTo>
                <a:lnTo>
                  <a:pt x="0" y="23130"/>
                </a:lnTo>
                <a:close/>
              </a:path>
              <a:path fill="lightenLess" w="21600" h="231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30">
                <a:moveTo>
                  <a:pt x="21600" y="0"/>
                </a:moveTo>
                <a:lnTo>
                  <a:pt x="21600" y="23130"/>
                </a:lnTo>
                <a:lnTo>
                  <a:pt x="20200" y="21730"/>
                </a:lnTo>
                <a:lnTo>
                  <a:pt x="20200" y="1400"/>
                </a:lnTo>
                <a:close/>
              </a:path>
              <a:path fill="darkenLess" w="21600" h="23130">
                <a:moveTo>
                  <a:pt x="21600" y="23130"/>
                </a:moveTo>
                <a:lnTo>
                  <a:pt x="0" y="23130"/>
                </a:lnTo>
                <a:lnTo>
                  <a:pt x="1400" y="21730"/>
                </a:lnTo>
                <a:lnTo>
                  <a:pt x="20200" y="21730"/>
                </a:lnTo>
                <a:close/>
              </a:path>
              <a:path fill="lighten" w="21600" h="23130">
                <a:moveTo>
                  <a:pt x="0" y="231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30"/>
                </a:lnTo>
                <a:close/>
              </a:path>
              <a:path fill="darken" w="21600" h="23130">
                <a:moveTo>
                  <a:pt x="10800" y="4602"/>
                </a:moveTo>
                <a:lnTo>
                  <a:pt x="13376" y="7213"/>
                </a:lnTo>
                <a:lnTo>
                  <a:pt x="13376" y="5473"/>
                </a:lnTo>
                <a:lnTo>
                  <a:pt x="15152" y="5473"/>
                </a:lnTo>
                <a:lnTo>
                  <a:pt x="15152" y="8989"/>
                </a:lnTo>
                <a:lnTo>
                  <a:pt x="17763" y="11565"/>
                </a:lnTo>
                <a:lnTo>
                  <a:pt x="16109" y="11565"/>
                </a:lnTo>
                <a:lnTo>
                  <a:pt x="16109" y="18754"/>
                </a:lnTo>
                <a:lnTo>
                  <a:pt x="5491" y="18754"/>
                </a:lnTo>
                <a:lnTo>
                  <a:pt x="5491" y="11565"/>
                </a:lnTo>
                <a:lnTo>
                  <a:pt x="3837" y="11565"/>
                </a:lnTo>
                <a:close/>
              </a:path>
              <a:path fill="darkenLess" w="21600" h="23130">
                <a:moveTo>
                  <a:pt x="13376" y="7213"/>
                </a:moveTo>
                <a:lnTo>
                  <a:pt x="13376" y="5473"/>
                </a:lnTo>
                <a:lnTo>
                  <a:pt x="15152" y="5473"/>
                </a:lnTo>
                <a:lnTo>
                  <a:pt x="15152" y="8989"/>
                </a:lnTo>
                <a:close/>
              </a:path>
              <a:path fill="darkenLess" w="21600" h="23130">
                <a:moveTo>
                  <a:pt x="9877" y="15064"/>
                </a:moveTo>
                <a:lnTo>
                  <a:pt x="11723" y="15064"/>
                </a:lnTo>
                <a:lnTo>
                  <a:pt x="11723" y="18754"/>
                </a:lnTo>
                <a:lnTo>
                  <a:pt x="16109" y="18754"/>
                </a:lnTo>
                <a:lnTo>
                  <a:pt x="16109" y="11565"/>
                </a:lnTo>
                <a:lnTo>
                  <a:pt x="5491" y="11565"/>
                </a:lnTo>
                <a:lnTo>
                  <a:pt x="5491" y="18754"/>
                </a:lnTo>
                <a:lnTo>
                  <a:pt x="9877" y="18754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определённо-личное местоимение ma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оиме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ma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русский язык не переводится и является подлежащим неопределенно-личного предложения, т.е. предложения, в котором исполнитель действия предполагается, но не называется. Сказуемое пр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ma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оит в 3 л. ед.ч., хотя под этим местоимением может подразумеваться как одно, так и несколько лиц. В русском языке неопределенно-личные предложения не имеют подлежащего, а сказуемое в них стоит в 3 л. мн.ч.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Sonntags arbeitet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man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nicht. - По воскресеньям н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ботают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очетании с модальными глаголами местоимен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ma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ереводится безличными конструкциям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man kan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man kann nich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нельзя, невоз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man dar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можно, разреш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man darf nich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нельзя, не разреш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man mus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нужно, необходи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man muss nich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не нужно, не обязат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man sol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следует, над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man soll nich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не след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4"/>
          <p:cNvSpPr/>
          <p:nvPr/>
        </p:nvSpPr>
        <p:spPr>
          <a:xfrm>
            <a:off x="8605800" y="0"/>
            <a:ext cx="538200" cy="576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76360"/>
              <a:gd name="textAreaBottom" fmla="*/ 541800 h 576360"/>
            </a:gdLst>
            <a:ahLst/>
            <a:rect l="textAreaLeft" t="textAreaTop" r="textAreaRight" b="textAreaBottom"/>
            <a:pathLst>
              <a:path w="21600" h="23130">
                <a:moveTo>
                  <a:pt x="0" y="0"/>
                </a:moveTo>
                <a:lnTo>
                  <a:pt x="21600" y="0"/>
                </a:lnTo>
                <a:lnTo>
                  <a:pt x="21600" y="23130"/>
                </a:lnTo>
                <a:lnTo>
                  <a:pt x="0" y="23130"/>
                </a:lnTo>
                <a:close/>
              </a:path>
              <a:path fill="lightenLess" w="21600" h="231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30">
                <a:moveTo>
                  <a:pt x="21600" y="0"/>
                </a:moveTo>
                <a:lnTo>
                  <a:pt x="21600" y="23130"/>
                </a:lnTo>
                <a:lnTo>
                  <a:pt x="20200" y="21730"/>
                </a:lnTo>
                <a:lnTo>
                  <a:pt x="20200" y="1400"/>
                </a:lnTo>
                <a:close/>
              </a:path>
              <a:path fill="darkenLess" w="21600" h="23130">
                <a:moveTo>
                  <a:pt x="21600" y="23130"/>
                </a:moveTo>
                <a:lnTo>
                  <a:pt x="0" y="23130"/>
                </a:lnTo>
                <a:lnTo>
                  <a:pt x="1400" y="21730"/>
                </a:lnTo>
                <a:lnTo>
                  <a:pt x="20200" y="21730"/>
                </a:lnTo>
                <a:close/>
              </a:path>
              <a:path fill="lighten" w="21600" h="23130">
                <a:moveTo>
                  <a:pt x="0" y="231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30"/>
                </a:lnTo>
                <a:close/>
              </a:path>
              <a:path fill="darken" w="21600" h="23130">
                <a:moveTo>
                  <a:pt x="10800" y="4602"/>
                </a:moveTo>
                <a:lnTo>
                  <a:pt x="13376" y="7213"/>
                </a:lnTo>
                <a:lnTo>
                  <a:pt x="13376" y="5473"/>
                </a:lnTo>
                <a:lnTo>
                  <a:pt x="15152" y="5473"/>
                </a:lnTo>
                <a:lnTo>
                  <a:pt x="15152" y="8989"/>
                </a:lnTo>
                <a:lnTo>
                  <a:pt x="17763" y="11565"/>
                </a:lnTo>
                <a:lnTo>
                  <a:pt x="16109" y="11565"/>
                </a:lnTo>
                <a:lnTo>
                  <a:pt x="16109" y="18754"/>
                </a:lnTo>
                <a:lnTo>
                  <a:pt x="5491" y="18754"/>
                </a:lnTo>
                <a:lnTo>
                  <a:pt x="5491" y="11565"/>
                </a:lnTo>
                <a:lnTo>
                  <a:pt x="3837" y="11565"/>
                </a:lnTo>
                <a:close/>
              </a:path>
              <a:path fill="darkenLess" w="21600" h="23130">
                <a:moveTo>
                  <a:pt x="13376" y="7213"/>
                </a:moveTo>
                <a:lnTo>
                  <a:pt x="13376" y="5473"/>
                </a:lnTo>
                <a:lnTo>
                  <a:pt x="15152" y="5473"/>
                </a:lnTo>
                <a:lnTo>
                  <a:pt x="15152" y="8989"/>
                </a:lnTo>
                <a:close/>
              </a:path>
              <a:path fill="darkenLess" w="21600" h="23130">
                <a:moveTo>
                  <a:pt x="9877" y="15064"/>
                </a:moveTo>
                <a:lnTo>
                  <a:pt x="11723" y="15064"/>
                </a:lnTo>
                <a:lnTo>
                  <a:pt x="11723" y="18754"/>
                </a:lnTo>
                <a:lnTo>
                  <a:pt x="16109" y="18754"/>
                </a:lnTo>
                <a:lnTo>
                  <a:pt x="16109" y="11565"/>
                </a:lnTo>
                <a:lnTo>
                  <a:pt x="5491" y="11565"/>
                </a:lnTo>
                <a:lnTo>
                  <a:pt x="5491" y="18754"/>
                </a:lnTo>
                <a:lnTo>
                  <a:pt x="9877" y="18754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рицательные местоимения и нареч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употребительные отрицательные местоимения и нареч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ei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(никакой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клоняется как неопред. артикль  в ед.ч. и как опред. артикль во мн.ч. Оно отрицает только существительные и употребляется в следующих случаях: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 утвердительном предложении существительное употребляется с неопред. артикл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Er hat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einen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Bruder. - Er hat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keinen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Bru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SzPct val="8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 утвердительном предложении существительное употребляется без артикля (нулевой артикль):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6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множественном чис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Hier gibt es Fehler. - Hier gibt es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kein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Feh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65000"/>
              <a:buFont typeface="Arial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именами вещественными и абстрактны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Ich habe Zeit. - Ich habe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kein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Ze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ein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кто, ни од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iem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к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ich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что, нич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nie, niem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ко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irgen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г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4"/>
          <p:cNvSpPr/>
          <p:nvPr/>
        </p:nvSpPr>
        <p:spPr>
          <a:xfrm>
            <a:off x="8605800" y="0"/>
            <a:ext cx="538200" cy="576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76360"/>
              <a:gd name="textAreaBottom" fmla="*/ 541800 h 576360"/>
            </a:gdLst>
            <a:ahLst/>
            <a:rect l="textAreaLeft" t="textAreaTop" r="textAreaRight" b="textAreaBottom"/>
            <a:pathLst>
              <a:path w="21600" h="23130">
                <a:moveTo>
                  <a:pt x="0" y="0"/>
                </a:moveTo>
                <a:lnTo>
                  <a:pt x="21600" y="0"/>
                </a:lnTo>
                <a:lnTo>
                  <a:pt x="21600" y="23130"/>
                </a:lnTo>
                <a:lnTo>
                  <a:pt x="0" y="23130"/>
                </a:lnTo>
                <a:close/>
              </a:path>
              <a:path fill="lightenLess" w="21600" h="231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30">
                <a:moveTo>
                  <a:pt x="21600" y="0"/>
                </a:moveTo>
                <a:lnTo>
                  <a:pt x="21600" y="23130"/>
                </a:lnTo>
                <a:lnTo>
                  <a:pt x="20200" y="21730"/>
                </a:lnTo>
                <a:lnTo>
                  <a:pt x="20200" y="1400"/>
                </a:lnTo>
                <a:close/>
              </a:path>
              <a:path fill="darkenLess" w="21600" h="23130">
                <a:moveTo>
                  <a:pt x="21600" y="23130"/>
                </a:moveTo>
                <a:lnTo>
                  <a:pt x="0" y="23130"/>
                </a:lnTo>
                <a:lnTo>
                  <a:pt x="1400" y="21730"/>
                </a:lnTo>
                <a:lnTo>
                  <a:pt x="20200" y="21730"/>
                </a:lnTo>
                <a:close/>
              </a:path>
              <a:path fill="lighten" w="21600" h="23130">
                <a:moveTo>
                  <a:pt x="0" y="231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30"/>
                </a:lnTo>
                <a:close/>
              </a:path>
              <a:path fill="darken" w="21600" h="23130">
                <a:moveTo>
                  <a:pt x="10800" y="4602"/>
                </a:moveTo>
                <a:lnTo>
                  <a:pt x="13376" y="7213"/>
                </a:lnTo>
                <a:lnTo>
                  <a:pt x="13376" y="5473"/>
                </a:lnTo>
                <a:lnTo>
                  <a:pt x="15152" y="5473"/>
                </a:lnTo>
                <a:lnTo>
                  <a:pt x="15152" y="8989"/>
                </a:lnTo>
                <a:lnTo>
                  <a:pt x="17763" y="11565"/>
                </a:lnTo>
                <a:lnTo>
                  <a:pt x="16109" y="11565"/>
                </a:lnTo>
                <a:lnTo>
                  <a:pt x="16109" y="18754"/>
                </a:lnTo>
                <a:lnTo>
                  <a:pt x="5491" y="18754"/>
                </a:lnTo>
                <a:lnTo>
                  <a:pt x="5491" y="11565"/>
                </a:lnTo>
                <a:lnTo>
                  <a:pt x="3837" y="11565"/>
                </a:lnTo>
                <a:close/>
              </a:path>
              <a:path fill="darkenLess" w="21600" h="23130">
                <a:moveTo>
                  <a:pt x="13376" y="7213"/>
                </a:moveTo>
                <a:lnTo>
                  <a:pt x="13376" y="5473"/>
                </a:lnTo>
                <a:lnTo>
                  <a:pt x="15152" y="5473"/>
                </a:lnTo>
                <a:lnTo>
                  <a:pt x="15152" y="8989"/>
                </a:lnTo>
                <a:close/>
              </a:path>
              <a:path fill="darkenLess" w="21600" h="23130">
                <a:moveTo>
                  <a:pt x="9877" y="15064"/>
                </a:moveTo>
                <a:lnTo>
                  <a:pt x="11723" y="15064"/>
                </a:lnTo>
                <a:lnTo>
                  <a:pt x="11723" y="18754"/>
                </a:lnTo>
                <a:lnTo>
                  <a:pt x="16109" y="18754"/>
                </a:lnTo>
                <a:lnTo>
                  <a:pt x="16109" y="11565"/>
                </a:lnTo>
                <a:lnTo>
                  <a:pt x="5491" y="11565"/>
                </a:lnTo>
                <a:lnTo>
                  <a:pt x="5491" y="18754"/>
                </a:lnTo>
                <a:lnTo>
                  <a:pt x="9877" y="18754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казательные и вопросительные местоименные наречи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8000" y="1773360"/>
            <a:ext cx="8928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азательные местоименные наречия образуются путем слияния нареч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предлогом, а вопросительные - нареч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w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предлогом. Если предлог начинается с гласного, то перед ним ставится еще согласны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da + von =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avon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   wo + von =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wov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da(r) + auf =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arauf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wo(r) + auf =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worau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азательные местоименные наречия употребляются вместо существительных, обозначающих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душевлен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едметы или абстрактные понятия, и переводятся личными или указательными местоимениями с предлог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Da steht ein Tisch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Darauf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liegen Bücher.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десь стоит стол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 нем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лежат кни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ительные местоименные наречия используют в качестве вопросительного слова к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душевленно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уществительному с предлого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Ich interessiere mich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für Musik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Wofür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interessierst du dich?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Я интересуюсь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узыкой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Чем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ты интересуешься?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стоименные наречия могут переводиться по-разному, в зависимости от реализуемого в данном контексте значения предлог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 управления глагол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denken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(Akk.) - (думать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 чём-л.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Woran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denkt er? -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 чем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он думает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arbeiten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(Dat.) - (работать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д чем-л.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Woran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arbeitet er? -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д чем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он работает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4"/>
          <p:cNvSpPr/>
          <p:nvPr/>
        </p:nvSpPr>
        <p:spPr>
          <a:xfrm>
            <a:off x="8605800" y="0"/>
            <a:ext cx="538200" cy="576360"/>
          </a:xfrm>
          <a:custGeom>
            <a:avLst/>
            <a:gdLst>
              <a:gd name="textAreaLeft" fmla="*/ 34560 w 538200"/>
              <a:gd name="textAreaRight" fmla="*/ 503640 w 538200"/>
              <a:gd name="textAreaTop" fmla="*/ 34560 h 576360"/>
              <a:gd name="textAreaBottom" fmla="*/ 541800 h 576360"/>
            </a:gdLst>
            <a:ahLst/>
            <a:rect l="textAreaLeft" t="textAreaTop" r="textAreaRight" b="textAreaBottom"/>
            <a:pathLst>
              <a:path w="21600" h="23130">
                <a:moveTo>
                  <a:pt x="0" y="0"/>
                </a:moveTo>
                <a:lnTo>
                  <a:pt x="21600" y="0"/>
                </a:lnTo>
                <a:lnTo>
                  <a:pt x="21600" y="23130"/>
                </a:lnTo>
                <a:lnTo>
                  <a:pt x="0" y="23130"/>
                </a:lnTo>
                <a:close/>
              </a:path>
              <a:path fill="lightenLess" w="21600" h="231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30">
                <a:moveTo>
                  <a:pt x="21600" y="0"/>
                </a:moveTo>
                <a:lnTo>
                  <a:pt x="21600" y="23130"/>
                </a:lnTo>
                <a:lnTo>
                  <a:pt x="20200" y="21730"/>
                </a:lnTo>
                <a:lnTo>
                  <a:pt x="20200" y="1400"/>
                </a:lnTo>
                <a:close/>
              </a:path>
              <a:path fill="darkenLess" w="21600" h="23130">
                <a:moveTo>
                  <a:pt x="21600" y="23130"/>
                </a:moveTo>
                <a:lnTo>
                  <a:pt x="0" y="23130"/>
                </a:lnTo>
                <a:lnTo>
                  <a:pt x="1400" y="21730"/>
                </a:lnTo>
                <a:lnTo>
                  <a:pt x="20200" y="21730"/>
                </a:lnTo>
                <a:close/>
              </a:path>
              <a:path fill="lighten" w="21600" h="23130">
                <a:moveTo>
                  <a:pt x="0" y="231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30"/>
                </a:lnTo>
                <a:close/>
              </a:path>
              <a:path fill="darken" w="21600" h="23130">
                <a:moveTo>
                  <a:pt x="10800" y="4602"/>
                </a:moveTo>
                <a:lnTo>
                  <a:pt x="13376" y="7213"/>
                </a:lnTo>
                <a:lnTo>
                  <a:pt x="13376" y="5473"/>
                </a:lnTo>
                <a:lnTo>
                  <a:pt x="15152" y="5473"/>
                </a:lnTo>
                <a:lnTo>
                  <a:pt x="15152" y="8989"/>
                </a:lnTo>
                <a:lnTo>
                  <a:pt x="17763" y="11565"/>
                </a:lnTo>
                <a:lnTo>
                  <a:pt x="16109" y="11565"/>
                </a:lnTo>
                <a:lnTo>
                  <a:pt x="16109" y="18754"/>
                </a:lnTo>
                <a:lnTo>
                  <a:pt x="5491" y="18754"/>
                </a:lnTo>
                <a:lnTo>
                  <a:pt x="5491" y="11565"/>
                </a:lnTo>
                <a:lnTo>
                  <a:pt x="3837" y="11565"/>
                </a:lnTo>
                <a:close/>
              </a:path>
              <a:path fill="darkenLess" w="21600" h="23130">
                <a:moveTo>
                  <a:pt x="13376" y="7213"/>
                </a:moveTo>
                <a:lnTo>
                  <a:pt x="13376" y="5473"/>
                </a:lnTo>
                <a:lnTo>
                  <a:pt x="15152" y="5473"/>
                </a:lnTo>
                <a:lnTo>
                  <a:pt x="15152" y="8989"/>
                </a:lnTo>
                <a:close/>
              </a:path>
              <a:path fill="darkenLess" w="21600" h="23130">
                <a:moveTo>
                  <a:pt x="9877" y="15064"/>
                </a:moveTo>
                <a:lnTo>
                  <a:pt x="11723" y="15064"/>
                </a:lnTo>
                <a:lnTo>
                  <a:pt x="11723" y="18754"/>
                </a:lnTo>
                <a:lnTo>
                  <a:pt x="16109" y="18754"/>
                </a:lnTo>
                <a:lnTo>
                  <a:pt x="16109" y="11565"/>
                </a:lnTo>
                <a:lnTo>
                  <a:pt x="5491" y="11565"/>
                </a:lnTo>
                <a:lnTo>
                  <a:pt x="5491" y="18754"/>
                </a:lnTo>
                <a:lnTo>
                  <a:pt x="9877" y="18754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лабое склонение сущ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7640" y="2421000"/>
            <a:ext cx="259236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анчивающиеся 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der Ju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700000" y="2373480"/>
            <a:ext cx="3886200" cy="156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а ин. происхождения с ударными суффиксами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ent, -ant, -et, -at, -ot, -ist, -nom, -soph, -graph, -log(e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der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80" y="400536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знак слабого склонения - окончание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-(e)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 всех падежах, кроме именитель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79280" y="4724280"/>
          <a:ext cx="8785440" cy="1981440"/>
        </p:xfrm>
        <a:graphic>
          <a:graphicData uri="http://schemas.openxmlformats.org/drawingml/2006/table">
            <a:tbl>
              <a:tblPr/>
              <a:tblGrid>
                <a:gridCol w="4394160"/>
                <a:gridCol w="4391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деж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.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Mens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 Mensch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 Mensch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 Mensch</a:t>
                      </a:r>
                      <a:r>
                        <a:rPr b="0" lang="en-US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Rectangle 34"/>
          <p:cNvSpPr/>
          <p:nvPr/>
        </p:nvSpPr>
        <p:spPr>
          <a:xfrm>
            <a:off x="6732720" y="2421000"/>
            <a:ext cx="2232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сложные сущ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er H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5"/>
          <p:cNvSpPr/>
          <p:nvPr/>
        </p:nvSpPr>
        <p:spPr>
          <a:xfrm>
            <a:off x="1619280" y="1484280"/>
            <a:ext cx="590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щ.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м.р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основном одушевленные, а имен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7"/>
          <p:cNvSpPr/>
          <p:nvPr/>
        </p:nvSpPr>
        <p:spPr>
          <a:xfrm>
            <a:off x="4427640" y="981000"/>
            <a:ext cx="162000" cy="505080"/>
          </a:xfrm>
          <a:prstGeom prst="downArrow">
            <a:avLst>
              <a:gd name="adj1" fmla="val 50000"/>
              <a:gd name="adj2" fmla="val 7794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8"/>
          <p:cNvSpPr/>
          <p:nvPr/>
        </p:nvSpPr>
        <p:spPr>
          <a:xfrm>
            <a:off x="4427640" y="1916280"/>
            <a:ext cx="162000" cy="504720"/>
          </a:xfrm>
          <a:prstGeom prst="downArrow">
            <a:avLst>
              <a:gd name="adj1" fmla="val 50000"/>
              <a:gd name="adj2" fmla="val 77889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1"/>
          <p:cNvSpPr/>
          <p:nvPr/>
        </p:nvSpPr>
        <p:spPr>
          <a:xfrm rot="20181600">
            <a:off x="1908000" y="2060640"/>
            <a:ext cx="976320" cy="162000"/>
          </a:xfrm>
          <a:prstGeom prst="leftArrow">
            <a:avLst>
              <a:gd name="adj1" fmla="val 50000"/>
              <a:gd name="adj2" fmla="val 150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2"/>
          <p:cNvSpPr/>
          <p:nvPr/>
        </p:nvSpPr>
        <p:spPr>
          <a:xfrm rot="1836600">
            <a:off x="6227640" y="2060640"/>
            <a:ext cx="976320" cy="162000"/>
          </a:xfrm>
          <a:prstGeom prst="rightArrow">
            <a:avLst>
              <a:gd name="adj1" fmla="val 50000"/>
              <a:gd name="adj2" fmla="val 150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5">
            <a:hlinkClick r:id="rId1" action="ppaction://hlinksldjump"/>
          </p:cNvPr>
          <p:cNvSpPr/>
          <p:nvPr/>
        </p:nvSpPr>
        <p:spPr>
          <a:xfrm>
            <a:off x="8604360" y="0"/>
            <a:ext cx="539640" cy="504720"/>
          </a:xfrm>
          <a:custGeom>
            <a:avLst/>
            <a:gdLst>
              <a:gd name="textAreaLeft" fmla="*/ 32400 w 539640"/>
              <a:gd name="textAreaRight" fmla="*/ 507240 w 53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093" h="21600">
                <a:moveTo>
                  <a:pt x="0" y="0"/>
                </a:moveTo>
                <a:lnTo>
                  <a:pt x="23093" y="0"/>
                </a:lnTo>
                <a:lnTo>
                  <a:pt x="23093" y="21600"/>
                </a:lnTo>
                <a:lnTo>
                  <a:pt x="0" y="21600"/>
                </a:lnTo>
                <a:close/>
              </a:path>
              <a:path fill="lightenLess" w="23093" h="21600">
                <a:moveTo>
                  <a:pt x="0" y="0"/>
                </a:moveTo>
                <a:lnTo>
                  <a:pt x="23093" y="0"/>
                </a:lnTo>
                <a:lnTo>
                  <a:pt x="21693" y="1400"/>
                </a:lnTo>
                <a:lnTo>
                  <a:pt x="1400" y="1400"/>
                </a:lnTo>
                <a:close/>
              </a:path>
              <a:path fill="darken" w="23093" h="21600">
                <a:moveTo>
                  <a:pt x="23093" y="0"/>
                </a:moveTo>
                <a:lnTo>
                  <a:pt x="23093" y="21600"/>
                </a:lnTo>
                <a:lnTo>
                  <a:pt x="21693" y="20200"/>
                </a:lnTo>
                <a:lnTo>
                  <a:pt x="21693" y="1400"/>
                </a:lnTo>
                <a:close/>
              </a:path>
              <a:path fill="darkenLess" w="23093" h="21600">
                <a:moveTo>
                  <a:pt x="23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3" y="20200"/>
                </a:lnTo>
                <a:close/>
              </a:path>
              <a:path fill="lighten" w="23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3" h="21600">
                <a:moveTo>
                  <a:pt x="11547" y="3837"/>
                </a:moveTo>
                <a:lnTo>
                  <a:pt x="14123" y="6448"/>
                </a:lnTo>
                <a:lnTo>
                  <a:pt x="14123" y="4707"/>
                </a:lnTo>
                <a:lnTo>
                  <a:pt x="15899" y="4707"/>
                </a:lnTo>
                <a:lnTo>
                  <a:pt x="15899" y="8224"/>
                </a:lnTo>
                <a:lnTo>
                  <a:pt x="18510" y="10800"/>
                </a:lnTo>
                <a:lnTo>
                  <a:pt x="16856" y="10800"/>
                </a:lnTo>
                <a:lnTo>
                  <a:pt x="16856" y="17989"/>
                </a:lnTo>
                <a:lnTo>
                  <a:pt x="6237" y="17989"/>
                </a:lnTo>
                <a:lnTo>
                  <a:pt x="6237" y="10800"/>
                </a:lnTo>
                <a:lnTo>
                  <a:pt x="4584" y="10800"/>
                </a:lnTo>
                <a:close/>
              </a:path>
              <a:path fill="darkenLess" w="23093" h="21600">
                <a:moveTo>
                  <a:pt x="14123" y="6448"/>
                </a:moveTo>
                <a:lnTo>
                  <a:pt x="14123" y="4707"/>
                </a:lnTo>
                <a:lnTo>
                  <a:pt x="15899" y="4707"/>
                </a:lnTo>
                <a:lnTo>
                  <a:pt x="15899" y="8224"/>
                </a:lnTo>
                <a:close/>
              </a:path>
              <a:path fill="darkenLess" w="23093" h="21600">
                <a:moveTo>
                  <a:pt x="10624" y="14299"/>
                </a:moveTo>
                <a:lnTo>
                  <a:pt x="12469" y="14299"/>
                </a:lnTo>
                <a:lnTo>
                  <a:pt x="12469" y="17989"/>
                </a:lnTo>
                <a:lnTo>
                  <a:pt x="16856" y="17989"/>
                </a:lnTo>
                <a:lnTo>
                  <a:pt x="16856" y="10800"/>
                </a:lnTo>
                <a:lnTo>
                  <a:pt x="6237" y="10800"/>
                </a:lnTo>
                <a:lnTo>
                  <a:pt x="6237" y="17989"/>
                </a:lnTo>
                <a:lnTo>
                  <a:pt x="10624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ислитель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енные числитель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ядковые числит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ы по теме «Числительно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4"/>
          <p:cNvSpPr/>
          <p:nvPr/>
        </p:nvSpPr>
        <p:spPr>
          <a:xfrm>
            <a:off x="795672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личественные числительны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79280" y="1052640"/>
            <a:ext cx="878544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 1 до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eins        3 – drei      5 – 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ünf         7 – sieben      9 – neun       11 - 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– zwei       4 – vier      6 – sechs      8 – acht        10 – zehn      12 - z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ö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179280" y="2276280"/>
            <a:ext cx="878544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 13 до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ei + zehn = 13 – dreize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– vierzehn                   16 – s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hn              18 - achtze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– 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nfzehn                   17 – si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hn               19 - neunze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79280" y="4149360"/>
            <a:ext cx="8785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руглые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r + zig = 40 – vierz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– z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zig       70 – si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                 1 000 – (ein) taus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– dre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g         80 – achtzig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000 0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ine Mill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 – fünfzig         90 – neunzig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000 000 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0 – s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h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g       100 – (ein) hundert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ine Milliar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4"/>
          <p:cNvSpPr/>
          <p:nvPr/>
        </p:nvSpPr>
        <p:spPr>
          <a:xfrm>
            <a:off x="8604360" y="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личественные числи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21 и выше единицы читаются перед десятками, и между ними вставляется союз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ри написании словами числительные до 999 999 пишутся слит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вузначные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 + und + zwanzig = einundzwanz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рёхзначные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3 – zwei + hundert + drei = zweihundertdr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етырёхзначные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45 – (ein) tausend + 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nfhundert + fünfundvierzig = (ein) tausendfünfhundertfünfundvierz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о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99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neunzehnhundert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ünfundneunzig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unzehnhundertfünfundneunz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 – zweitausend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weitausendne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4"/>
          <p:cNvSpPr/>
          <p:nvPr/>
        </p:nvSpPr>
        <p:spPr>
          <a:xfrm>
            <a:off x="8604360" y="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рядковые числительны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ковые числительные образуются от количественных при помощи суффикса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-t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-19) и суффикса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-st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т 20 и выше). Существительное с порядковым числительным употребляется с опред. артиклем. После порядковых числительных, написанных цифрами, ставится точ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der 2. Tag - der zwei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t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der 21. Oktober - der einundzwanzig</a:t>
            </a:r>
            <a:r>
              <a:rPr b="0" i="1" lang="ru-RU" sz="2400" spc="-1" strike="noStrike">
                <a:solidFill>
                  <a:srgbClr val="cc3300"/>
                </a:solidFill>
                <a:latin typeface="Arial"/>
              </a:rPr>
              <a:t>st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Ok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о!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s –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der (die, das)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er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ei –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der (die, das)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dri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t –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der (die, das)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ach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ядковые числительные склоняются к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агатель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4"/>
          <p:cNvSpPr/>
          <p:nvPr/>
        </p:nvSpPr>
        <p:spPr>
          <a:xfrm>
            <a:off x="8604360" y="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логи, требующие датива и аккузати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логи, требующие дати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логи, требующие аккузати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логи, требующие генит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яние предлогов с артик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ba31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ы по теме «Предлоги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795672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логи, требующие датива и аккузатив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i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,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a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- на, у, к (вертикальной поверхности), при обозначении времени и да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au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 на (горизонтальной поверх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hinte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- за, поз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vo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- перед, тому назад, 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unte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- под, ниже, сред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über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д, свыше, 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nebe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ядом, наря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wische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меж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 предлоги указывают на местонахождение или направление. При ответе на вопрос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wo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где?) существительное стоит в дативе, на вопрос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wohin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куда?) - в аккузатив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Die Vase steht (wo? 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tiv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 auf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dem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Tisch. - Ваза стоит (где?) на ст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Ich stelle die Vase (wohin?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– Akk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 auf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den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Tisch. -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Я ставлю вазу (куда?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 стол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торые предлоги указывают также на время - 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wann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когда?). В этом случае существительное стоит в датив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in diesem Jah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этом го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am Monta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понедель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in der Stund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 уро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4"/>
          <p:cNvSpPr/>
          <p:nvPr/>
        </p:nvSpPr>
        <p:spPr>
          <a:xfrm>
            <a:off x="8604360" y="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едлоги, требующие датив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mi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-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nac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- после, в, на , согласно,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au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- 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z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- к, для, на (цель, предназнач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v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- от, о,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be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- у, при (во время, 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eit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c (c какого-л. момента времени), уже (отрезок време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auß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- кроме, в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entgege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- навстреч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употр. после существит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g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egenüb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напроти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употр. после существит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4"/>
          <p:cNvSpPr/>
          <p:nvPr/>
        </p:nvSpPr>
        <p:spPr>
          <a:xfrm>
            <a:off x="8604360" y="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едлоги, требующие аккузатив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durc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ез, сквозь,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fü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ohn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u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кру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(разница величин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(при указании време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gege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ти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оло (о времени, количеств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(по направлению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сравн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wide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тив, вопре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ntl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доль (употр. после существит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4"/>
          <p:cNvSpPr/>
          <p:nvPr/>
        </p:nvSpPr>
        <p:spPr>
          <a:xfrm>
            <a:off x="8604360" y="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едлоги, требующие генитив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währen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рем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wege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-за, рад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trotz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смотря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nfol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ледств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(an)stat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место, взам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anlässlic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случаю, по пов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längs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до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unwei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далеко о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außerhal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, за предел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diesseit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эту сторон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jenseit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ту сторон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beiderseit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обе сторо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4"/>
          <p:cNvSpPr/>
          <p:nvPr/>
        </p:nvSpPr>
        <p:spPr>
          <a:xfrm>
            <a:off x="8604360" y="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лияние предлогов с артикл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которые предлоги сливаются с опред. артикле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bei + dem = 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be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zu + dem = 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z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von + dem = 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v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zu + der = 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z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 + dem = 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n + dem = 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uf + das = 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au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 + das = 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n + das = 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4"/>
          <p:cNvSpPr/>
          <p:nvPr/>
        </p:nvSpPr>
        <p:spPr>
          <a:xfrm>
            <a:off x="8604360" y="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15:33:13Z</dcterms:created>
  <dc:creator>Admin</dc:creator>
  <dc:description/>
  <dc:language>en-US</dc:language>
  <cp:lastModifiedBy>1</cp:lastModifiedBy>
  <dcterms:modified xsi:type="dcterms:W3CDTF">2019-02-20T19:00:48Z</dcterms:modified>
  <cp:revision>49</cp:revision>
  <dc:subject/>
  <dc:title>Слайд 1</dc:title>
</cp:coreProperties>
</file>